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7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81.png" ContentType="image/png"/>
  <Override PartName="/ppt/media/image13.png" ContentType="image/png"/>
  <Override PartName="/ppt/media/image1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32.wmf" ContentType="image/x-wmf"/>
  <Override PartName="/ppt/media/image75.png" ContentType="image/png"/>
  <Override PartName="/ppt/media/image42.jpeg" ContentType="image/jpe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8.png" ContentType="image/png"/>
  <Override PartName="/ppt/media/image11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7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3.png" ContentType="image/png"/>
  <Override PartName="/ppt/media/image36.wmf" ContentType="image/x-wmf"/>
  <Override PartName="/ppt/media/image130.png" ContentType="image/png"/>
  <Override PartName="/ppt/media/image79.png" ContentType="image/png"/>
  <Override PartName="/ppt/media/image56.png" ContentType="image/png"/>
  <Override PartName="/ppt/media/image39.wmf" ContentType="image/x-wmf"/>
  <Override PartName="/ppt/media/image133.png" ContentType="image/png"/>
  <Override PartName="/ppt/media/image54.png" ContentType="image/png"/>
  <Override PartName="/ppt/media/image37.wmf" ContentType="image/x-wmf"/>
  <Override PartName="/ppt/media/image13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29.png" ContentType="image/png"/>
  <Override PartName="/ppt/media/image57.png" ContentType="image/png"/>
  <Override PartName="/ppt/media/image47.png" ContentType="image/png"/>
  <Override PartName="/ppt/media/image48.png" ContentType="image/png"/>
  <Override PartName="/ppt/media/image134.png" ContentType="image/png"/>
  <Override PartName="/ppt/media/image38.wmf" ContentType="image/x-wmf"/>
  <Override PartName="/ppt/media/image132.png" ContentType="image/png"/>
  <Override PartName="/ppt/media/image77.png" ContentType="image/png"/>
  <Override PartName="/ppt/media/image34.wmf" ContentType="image/x-wmf"/>
  <Override PartName="/ppt/media/image135.png" ContentType="image/png"/>
  <Override PartName="/ppt/media/image43.png" ContentType="image/png"/>
  <Override PartName="/ppt/media/image52.png" ContentType="image/png"/>
  <Override PartName="/ppt/media/image106.wmf" ContentType="image/x-wmf"/>
  <Override PartName="/ppt/media/image50.png" ContentType="image/png"/>
  <Override PartName="/ppt/media/image49.wmf" ContentType="image/x-wmf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wmf" ContentType="image/x-wmf"/>
  <Override PartName="/ppt/media/image21.png" ContentType="image/png"/>
  <Override PartName="/ppt/media/image118.png" ContentType="image/png"/>
  <Override PartName="/ppt/media/image20.wmf" ContentType="image/x-wmf"/>
  <Override PartName="/ppt/media/image63.png" ContentType="image/png"/>
  <Override PartName="/ppt/media/image59.wmf" ContentType="image/x-wmf"/>
  <Override PartName="/ppt/media/image22.wmf" ContentType="image/x-wmf"/>
  <Override PartName="/ppt/media/image119.wmf" ContentType="image/x-wmf"/>
  <Override PartName="/ppt/media/image91.png" ContentType="image/png"/>
  <Override PartName="/ppt/media/image23.png" ContentType="image/png"/>
  <Override PartName="/ppt/media/image27.wmf" ContentType="image/x-wmf"/>
  <Override PartName="/ppt/media/image121.png" ContentType="image/png"/>
  <Override PartName="/ppt/media/image60.png" ContentType="image/png"/>
  <Override PartName="/ppt/media/image61.png" ContentType="image/png"/>
  <Override PartName="/ppt/media/image62.wmf" ContentType="image/x-wmf"/>
  <Override PartName="/ppt/media/image64.png" ContentType="image/png"/>
  <Override PartName="/ppt/media/image65.jpeg" ContentType="image/jpeg"/>
  <Override PartName="/ppt/media/image100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40.jpeg" ContentType="image/jpeg"/>
  <Override PartName="/ppt/media/image74.wmf" ContentType="image/x-wmf"/>
  <Override PartName="/ppt/media/image103.png" ContentType="image/png"/>
  <Override PartName="/ppt/media/image76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4.png" ContentType="image/png"/>
  <Override PartName="/ppt/media/image92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4.png" ContentType="image/png"/>
  <Override PartName="/ppt/media/image105.png" ContentType="image/png"/>
  <Override PartName="/ppt/media/image110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7CD-BCEF-4850-B012-0014DA0E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CB8-F5FD-4E36-BCBD-EC9C84DC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97F-9DD1-4FDA-988E-F93E10DE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5C8-CA35-4B6D-A53E-B1649A6B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DB8-7ACD-47D8-BDA8-E438F3C1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C0A5-644C-413B-8FF9-D9D06C4A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270-4A40-4B58-B58F-36291237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C74-E96B-4E2D-9137-481A70A5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12F-466F-4906-9819-6D747046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8E8-2DC4-4BAA-B318-6C941EA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E73-3736-46E1-B62B-65066101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0FC-9358-45C7-95F7-D0A206CE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73F0-FAEE-4037-8068-4FA66AA4C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4.wmf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F11.007B_W1086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F11.007A_W1086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F11.008_W1087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F11.009_W1088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F11.009_W1088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11.007B_W1086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F11.007A_W1086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11.007A_W1086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F11.007B_W1086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stop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F11.010A_W1089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F11.010B_W1089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F11.010C_W1089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F11.001A_W1080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11.001B_W1080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F11.001C_W1080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F11.011A_W1090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F11.012A_W1091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F11.012B_W1091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F11.013B_W1092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F11.014B_W1093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F11.002A_W1081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F11.002B_W1081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F11.002C_W1081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39040" y="58680"/>
            <a:ext cx="5061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Example11p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4518000"/>
          </a:xfrm>
          <a:prstGeom prst="rect">
            <a:avLst/>
          </a:prstGeom>
          <a:ln w="0">
            <a:noFill/>
          </a:ln>
        </p:spPr>
      </p:pic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685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8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Example11p6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F11.017_W1100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23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24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28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32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33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7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38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43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E11.007_W1101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56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57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62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66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773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784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790" name="F11.018A_W1102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2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793" name="F11.018B_W1102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4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F11.019A_W110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02" name="F11.019B_W1103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5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8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17" name="F11.020A_W1104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20" name="F11.020B_W1104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2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27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9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30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2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33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5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36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7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38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1.021_W1105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6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847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9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11.003B_W1082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F11.003C_W1082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F11.003A_W1082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E11.008_W1107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F11.018A_W1102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99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00" name="F11.023_W1108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17" name="F11.024_W1109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0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21" name="F11.018A_W1102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26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28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3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F11.018A_W110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0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4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955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58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8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9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3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F11.025_W1110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0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981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4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985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989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992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8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999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1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02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4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05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0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F11.026_W11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3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8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F11.026_W1111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36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7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41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042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44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F11.027B_W1112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050" name="F11.027A_W1112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11.004B_W1083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F11.004A_W1083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F11.004C_W1083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F11.028_W1113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F11.029_W111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1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077" name="F11.030_W1115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086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8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1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092" name="F11.031_W1116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6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097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098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9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00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02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3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4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6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07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9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10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F11.031_W111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F11.032_W1117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13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14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5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15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F11.033_W1118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71" name="F11.034_W1119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17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18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18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8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19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0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0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0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0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1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F11.035_W112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22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F11.036_W1121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24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4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4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249" name="F11.037A_W1122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F11.037B_W1122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1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F11.005A_W1084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25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270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F11.035_W1120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16" name="stop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323" name="F11.038A_W1123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326" name="F11.039A_W1124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329" name="F11.040A_W1125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332" name="F11.040B_W1125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geaux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F11.038B_W112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9" name="F11.038C_W1123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4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F11.039B_W112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35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3" name="F11.039C_W1124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36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367" name="F11.040C_W1125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3" name="F11.040E_W1125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F11.040B_W1125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384" name="F11.040D_W1125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8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F11.041_W1125a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39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0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09" name="F11.042_W1126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1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F11.043_W112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42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424" name="F11.044_W1128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42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2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2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3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3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45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46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46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6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6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48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48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0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0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2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52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52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53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3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54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54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5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55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55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206280" y="135000"/>
            <a:ext cx="394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F11.047A_W113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904760" cy="1323720"/>
          </a:xfrm>
          <a:prstGeom prst="rect">
            <a:avLst/>
          </a:prstGeom>
          <a:ln w="0">
            <a:noFill/>
          </a:ln>
        </p:spPr>
      </p:pic>
      <p:pic>
        <p:nvPicPr>
          <p:cNvPr id="1564" name="F11.047B_W113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3162240" cy="14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378240" y="236232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6" name=""/>
          <p:cNvGrpSpPr/>
          <p:nvPr/>
        </p:nvGrpSpPr>
        <p:grpSpPr>
          <a:xfrm>
            <a:off x="380880" y="3048120"/>
            <a:ext cx="8596440" cy="1312920"/>
            <a:chOff x="380880" y="3048120"/>
            <a:chExt cx="8596440" cy="1312920"/>
          </a:xfrm>
        </p:grpSpPr>
        <p:sp>
          <p:nvSpPr>
            <p:cNvPr id="1567" name=""/>
            <p:cNvSpPr/>
            <p:nvPr/>
          </p:nvSpPr>
          <p:spPr>
            <a:xfrm>
              <a:off x="907560" y="3048120"/>
              <a:ext cx="343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8" name=""/>
            <p:cNvGraphicFramePr/>
            <p:nvPr/>
          </p:nvGraphicFramePr>
          <p:xfrm>
            <a:off x="380880" y="3489480"/>
            <a:ext cx="8596440" cy="871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48948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5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574" name="F11.048A_W1135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F11.048B_W1135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F11.049_W1136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266688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9" name="F11.050_W1137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21333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59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9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11.005B_W108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F11.005A_W1084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F11.051A_W1138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038480" cy="2755800"/>
          </a:xfrm>
          <a:prstGeom prst="rect">
            <a:avLst/>
          </a:prstGeom>
          <a:ln w="0">
            <a:noFill/>
          </a:ln>
        </p:spPr>
      </p:pic>
      <p:sp>
        <p:nvSpPr>
          <p:cNvPr id="1599" name=""/>
          <p:cNvSpPr/>
          <p:nvPr/>
        </p:nvSpPr>
        <p:spPr>
          <a:xfrm>
            <a:off x="1496880" y="285120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295280" y="9907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1295280" y="2133720"/>
                <a:ext cx="58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2590920" y="812880"/>
                <a:ext cx="1257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3" name=""/>
          <p:cNvGrpSpPr/>
          <p:nvPr/>
        </p:nvGrpSpPr>
        <p:grpSpPr>
          <a:xfrm>
            <a:off x="1906560" y="1309680"/>
            <a:ext cx="2881440" cy="2282760"/>
            <a:chOff x="1906560" y="1309680"/>
            <a:chExt cx="2881440" cy="2282760"/>
          </a:xfrm>
        </p:grpSpPr>
        <p:sp>
          <p:nvSpPr>
            <p:cNvPr id="1604" name=""/>
            <p:cNvSpPr/>
            <p:nvPr/>
          </p:nvSpPr>
          <p:spPr>
            <a:xfrm>
              <a:off x="1906560" y="130968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5" name=""/>
                <p:cNvSpPr txBox="1"/>
                <p:nvPr/>
              </p:nvSpPr>
              <p:spPr>
                <a:xfrm>
                  <a:off x="2895480" y="335268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380880" y="3276720"/>
                <a:ext cx="226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7" name=""/>
          <p:cNvGrpSpPr/>
          <p:nvPr/>
        </p:nvGrpSpPr>
        <p:grpSpPr>
          <a:xfrm>
            <a:off x="1066680" y="4114800"/>
            <a:ext cx="3012840" cy="2547000"/>
            <a:chOff x="1066680" y="4114800"/>
            <a:chExt cx="3012840" cy="2547000"/>
          </a:xfrm>
        </p:grpSpPr>
        <p:pic>
          <p:nvPicPr>
            <p:cNvPr id="1608" name="F11.051B_W1138" descr=""/>
            <p:cNvPicPr/>
            <p:nvPr/>
          </p:nvPicPr>
          <p:blipFill>
            <a:blip r:embed="rId2"/>
            <a:stretch/>
          </p:blipFill>
          <p:spPr>
            <a:xfrm>
              <a:off x="1066680" y="4114800"/>
              <a:ext cx="27525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1244160" y="632448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5791320" y="609480"/>
            <a:ext cx="2273040" cy="1981080"/>
            <a:chOff x="5791320" y="609480"/>
            <a:chExt cx="2273040" cy="1981080"/>
          </a:xfrm>
        </p:grpSpPr>
        <p:pic>
          <p:nvPicPr>
            <p:cNvPr id="1611" name="F11.052_W1139" descr=""/>
            <p:cNvPicPr/>
            <p:nvPr/>
          </p:nvPicPr>
          <p:blipFill>
            <a:blip r:embed="rId3"/>
            <a:stretch/>
          </p:blipFill>
          <p:spPr>
            <a:xfrm>
              <a:off x="6324480" y="990360"/>
              <a:ext cx="1454400" cy="160020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612" name=""/>
                <p:cNvSpPr txBox="1"/>
                <p:nvPr/>
              </p:nvSpPr>
              <p:spPr>
                <a:xfrm>
                  <a:off x="5791320" y="609480"/>
                  <a:ext cx="2273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grammability of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5791320" y="3809880"/>
                <a:ext cx="241272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6172200" y="289548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1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F11.050_W1137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2286000" cy="18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6668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F11.053_W1140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36" name=""/>
          <p:cNvGrpSpPr/>
          <p:nvPr/>
        </p:nvGrpSpPr>
        <p:grpSpPr>
          <a:xfrm>
            <a:off x="6427440" y="76320"/>
            <a:ext cx="2567160" cy="2591280"/>
            <a:chOff x="6427440" y="76320"/>
            <a:chExt cx="2567160" cy="2591280"/>
          </a:xfrm>
        </p:grpSpPr>
        <p:grpSp>
          <p:nvGrpSpPr>
            <p:cNvPr id="1637" name=""/>
            <p:cNvGrpSpPr/>
            <p:nvPr/>
          </p:nvGrpSpPr>
          <p:grpSpPr>
            <a:xfrm>
              <a:off x="6705720" y="76320"/>
              <a:ext cx="2286000" cy="2119320"/>
              <a:chOff x="6705720" y="76320"/>
              <a:chExt cx="2286000" cy="2119320"/>
            </a:xfrm>
          </p:grpSpPr>
          <p:pic>
            <p:nvPicPr>
              <p:cNvPr id="1638" name="F11.050_W1137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76320"/>
                <a:ext cx="2286000" cy="1814400"/>
              </a:xfrm>
              <a:prstGeom prst="rect">
                <a:avLst/>
              </a:prstGeom>
              <a:ln w="38160">
                <a:solidFill>
                  <a:srgbClr val="ccffcc"/>
                </a:solidFill>
                <a:miter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639" name=""/>
                  <p:cNvSpPr txBox="1"/>
                  <p:nvPr/>
                </p:nvSpPr>
                <p:spPr>
                  <a:xfrm>
                    <a:off x="7315200" y="1905120"/>
                    <a:ext cx="1066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40" name=""/>
            <p:cNvSpPr/>
            <p:nvPr/>
          </p:nvSpPr>
          <p:spPr>
            <a:xfrm>
              <a:off x="6427440" y="233028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642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5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48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649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0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5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F11.051A_W113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29160" cy="24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62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663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4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5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F11.054_W1141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3581640" cy="1962000"/>
          </a:xfrm>
          <a:prstGeom prst="rect">
            <a:avLst/>
          </a:prstGeom>
          <a:ln w="0">
            <a:noFill/>
          </a:ln>
        </p:spPr>
      </p:pic>
      <p:pic>
        <p:nvPicPr>
          <p:cNvPr id="167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F11.055_W114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16232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304920" y="1066680"/>
            <a:ext cx="2133360" cy="2133720"/>
            <a:chOff x="304920" y="1066680"/>
            <a:chExt cx="2133360" cy="2133720"/>
          </a:xfrm>
        </p:grpSpPr>
        <p:sp>
          <p:nvSpPr>
            <p:cNvPr id="1680" name=""/>
            <p:cNvSpPr/>
            <p:nvPr/>
          </p:nvSpPr>
          <p:spPr>
            <a:xfrm>
              <a:off x="30492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968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2590920" y="1049400"/>
            <a:ext cx="1600200" cy="2151000"/>
            <a:chOff x="2590920" y="1049400"/>
            <a:chExt cx="1600200" cy="2151000"/>
          </a:xfrm>
        </p:grpSpPr>
        <p:sp>
          <p:nvSpPr>
            <p:cNvPr id="1683" name=""/>
            <p:cNvSpPr/>
            <p:nvPr/>
          </p:nvSpPr>
          <p:spPr>
            <a:xfrm>
              <a:off x="259092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2080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7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657600" y="1905120"/>
            <a:ext cx="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0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95" name=""/>
          <p:cNvGrpSpPr/>
          <p:nvPr/>
        </p:nvGrpSpPr>
        <p:grpSpPr>
          <a:xfrm>
            <a:off x="5029200" y="1735200"/>
            <a:ext cx="3381480" cy="2343240"/>
            <a:chOff x="5029200" y="1735200"/>
            <a:chExt cx="3381480" cy="2343240"/>
          </a:xfrm>
        </p:grpSpPr>
        <p:pic>
          <p:nvPicPr>
            <p:cNvPr id="1696" name="F11.056_W1143" descr=""/>
            <p:cNvPicPr/>
            <p:nvPr/>
          </p:nvPicPr>
          <p:blipFill>
            <a:blip r:embed="rId2"/>
            <a:stretch/>
          </p:blipFill>
          <p:spPr>
            <a:xfrm>
              <a:off x="5029200" y="213372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5263200" y="17352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8" name=""/>
                <p:cNvSpPr txBox="1"/>
                <p:nvPr/>
              </p:nvSpPr>
              <p:spPr>
                <a:xfrm>
                  <a:off x="6934320" y="213372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0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5" name="F11.055_W1142" descr=""/>
          <p:cNvPicPr/>
          <p:nvPr/>
        </p:nvPicPr>
        <p:blipFill>
          <a:blip r:embed="rId1"/>
          <a:stretch/>
        </p:blipFill>
        <p:spPr>
          <a:xfrm>
            <a:off x="0" y="685800"/>
            <a:ext cx="4162320" cy="16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8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0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4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7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719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365760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5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F11.057_W114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58960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32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733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7150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9" name=""/>
          <p:cNvGrpSpPr/>
          <p:nvPr/>
        </p:nvGrpSpPr>
        <p:grpSpPr>
          <a:xfrm>
            <a:off x="3885840" y="1143000"/>
            <a:ext cx="685800" cy="304920"/>
            <a:chOff x="3885840" y="1143000"/>
            <a:chExt cx="685800" cy="304920"/>
          </a:xfrm>
        </p:grpSpPr>
        <p:sp>
          <p:nvSpPr>
            <p:cNvPr id="1740" name=""/>
            <p:cNvSpPr/>
            <p:nvPr/>
          </p:nvSpPr>
          <p:spPr>
            <a:xfrm flipH="1">
              <a:off x="3885840" y="1447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1" name=""/>
                <p:cNvSpPr txBox="1"/>
                <p:nvPr/>
              </p:nvSpPr>
              <p:spPr>
                <a:xfrm>
                  <a:off x="4114800" y="11430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6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9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1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F11.057_W1144" descr=""/>
          <p:cNvPicPr/>
          <p:nvPr/>
        </p:nvPicPr>
        <p:blipFill>
          <a:blip r:embed="rId1"/>
          <a:stretch/>
        </p:blipFill>
        <p:spPr>
          <a:xfrm>
            <a:off x="76320" y="1157400"/>
            <a:ext cx="589572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359320" y="256716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1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762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620120" y="2133720"/>
            <a:ext cx="1523880" cy="1066680"/>
            <a:chOff x="7620120" y="2133720"/>
            <a:chExt cx="1523880" cy="1066680"/>
          </a:xfrm>
        </p:grpSpPr>
        <p:sp>
          <p:nvSpPr>
            <p:cNvPr id="1766" name=""/>
            <p:cNvSpPr/>
            <p:nvPr/>
          </p:nvSpPr>
          <p:spPr>
            <a:xfrm>
              <a:off x="7620120" y="243828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7" name=""/>
                <p:cNvSpPr txBox="1"/>
                <p:nvPr/>
              </p:nvSpPr>
              <p:spPr>
                <a:xfrm>
                  <a:off x="8496360" y="213372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8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0" name=""/>
          <p:cNvSpPr/>
          <p:nvPr/>
        </p:nvSpPr>
        <p:spPr>
          <a:xfrm>
            <a:off x="6421320" y="244944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55627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4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775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6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77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9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780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1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5943600" y="5105520"/>
                <a:ext cx="15746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83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F11.058_W1145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F11.059A_W114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795" name="F11.059B_W1146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798" name="F11.059C_W1146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11.006_W1085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11.007A_W1086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F11.059D_W1146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7" name="F11.060A_W1147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820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1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832" name="F11.060B_W1147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33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844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5" name="F11.061_W1148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9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850" name="F11.062_W1149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1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853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F11.065_W1152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1" name="F11.063_W1150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6" name="F11.064_W1151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867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868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871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874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881" name="F11.066E_W1153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82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83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4" name="F11.066D_W1153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8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1" name="F11.066C_W1153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892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1893" name="F11.066B_W1153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4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8278920" y="6004080"/>
            <a:ext cx="817920" cy="849240"/>
            <a:chOff x="8278920" y="6004080"/>
            <a:chExt cx="817920" cy="849240"/>
          </a:xfrm>
        </p:grpSpPr>
        <p:pic>
          <p:nvPicPr>
            <p:cNvPr id="1897" name="stop" descr=""/>
            <p:cNvPicPr/>
            <p:nvPr/>
          </p:nvPicPr>
          <p:blipFill>
            <a:blip r:embed="rId5"/>
            <a:stretch/>
          </p:blipFill>
          <p:spPr>
            <a:xfrm>
              <a:off x="845820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8" name=""/>
            <p:cNvSpPr/>
            <p:nvPr/>
          </p:nvSpPr>
          <p:spPr>
            <a:xfrm>
              <a:off x="8278920" y="6004080"/>
              <a:ext cx="817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student</cp:lastModifiedBy>
  <cp:lastPrinted>2001-11-01T14:28:50Z</cp:lastPrinted>
  <dcterms:modified xsi:type="dcterms:W3CDTF">2001-11-01T14:31:28Z</dcterms:modified>
  <cp:revision>6</cp:revision>
  <dc:subject/>
  <dc:title>No Slide Title</dc:title>
</cp:coreProperties>
</file>