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6C6-6A89-47AD-9437-5DB0712F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810-0265-4078-8800-F60C3AB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106-40A5-423A-9776-CAEE522B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498-294D-4376-A1C9-2D604B08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EED-0C50-40D3-AE2C-5524CAD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447-B926-4D84-A70A-54C4D45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DE2-30EE-4774-9020-B8F75D49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2E3-A110-4876-A390-DCC44C3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6C6-D506-470D-8321-69C5E61F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2A1-8BB5-4111-B942-89066BA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CE8-BE34-4BFE-BA6A-601FAA3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FB0-CC5B-4C96-9E28-2021C8D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8A4-7ACC-4F46-A8E5-F202EAB05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stop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1-03-22T13:26:09Z</dcterms:modified>
  <cp:revision>8</cp:revision>
  <dc:subject/>
  <dc:title>No Slide Title</dc:title>
</cp:coreProperties>
</file>