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34C-E10C-407E-A8AA-FBEEFCA7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743-FB97-4962-9377-D6C94843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93F-7127-4946-8188-47AE1CD9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E66-0E1C-4731-818A-FBC83875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932-FBD6-48F1-84E7-3F6707B7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1CD-BDBF-4CE0-85FC-77A68B4A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2BD-D815-4FD9-9347-034ADF5B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E71-F09C-4560-8D73-5427D50D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23B-7694-43EC-B6E7-75280C51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403-F246-4C18-8D38-B8023AE6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535-552E-4C12-9854-D89BDFEF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C60-CB2F-413C-A693-ADE74990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0685-3133-4C9F-969A-21563AC03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6200" y="533520"/>
            <a:ext cx="486108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CURREN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240" y="1600200"/>
            <a:ext cx="8593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6400" y="4027320"/>
            <a:ext cx="50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GE CANNOT BE CREATED NOR DESTROYE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219240"/>
          <a:ext cx="62485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240"/>
                    <a:ext cx="62485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733920" y="274320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422520" y="3276720"/>
                <a:ext cx="22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3160" y="5029200"/>
                <a:ext cx="2919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V="1">
            <a:off x="990720" y="2666880"/>
            <a:ext cx="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838080" y="5486400"/>
                <a:ext cx="1708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907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195720" y="36576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95360" y="36450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143000" y="2590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72200" y="304812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72200" y="190512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219320" y="1143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952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7000" y="3962520"/>
            <a:ext cx="10342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4359240"/>
            <a:ext cx="30610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ARK ALL THE KNOWN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2360" y="4740120"/>
            <a:ext cx="40212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NODES WHERE ALL BUT O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88620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9080" y="304920"/>
            <a:ext cx="45698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TERMINE THE CURRENTS IN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-76320"/>
          <a:ext cx="563868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76320"/>
                    <a:ext cx="5638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00400" y="2590920"/>
            <a:ext cx="3808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2590920"/>
            <a:ext cx="38124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2590920"/>
            <a:ext cx="9144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28800" y="220968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7400" y="3124080"/>
                <a:ext cx="18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 flipV="1">
            <a:off x="3581280" y="29714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5909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47920" y="1752480"/>
                <a:ext cx="163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286000" y="312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006640" y="105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4120" y="2516040"/>
            <a:ext cx="3124080" cy="1508400"/>
            <a:chOff x="5334120" y="2516040"/>
            <a:chExt cx="3124080" cy="1508400"/>
          </a:xfrm>
        </p:grpSpPr>
        <p:sp>
          <p:nvSpPr>
            <p:cNvPr id="260" name=""/>
            <p:cNvSpPr/>
            <p:nvPr/>
          </p:nvSpPr>
          <p:spPr>
            <a:xfrm>
              <a:off x="5334120" y="2590920"/>
              <a:ext cx="3808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791320" y="2516040"/>
              <a:ext cx="2666880" cy="1508400"/>
              <a:chOff x="5791320" y="2516040"/>
              <a:chExt cx="2666880" cy="150840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6172200" y="2516040"/>
                    <a:ext cx="2286000" cy="110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RIFICATION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5791320" y="2971800"/>
                <a:ext cx="315720" cy="1052640"/>
                <a:chOff x="5791320" y="2971800"/>
                <a:chExt cx="315720" cy="1052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791320" y="2971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5" name=""/>
                    <p:cNvSpPr txBox="1"/>
                    <p:nvPr/>
                  </p:nvSpPr>
                  <p:spPr>
                    <a:xfrm>
                      <a:off x="5867280" y="373392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00040" y="1330200"/>
          <a:ext cx="37702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30200"/>
                    <a:ext cx="37702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170080" y="149400"/>
            <a:ext cx="40579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question tests KCL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to denote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2960" y="888840"/>
            <a:ext cx="48578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se sum of currents leaving nod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90720" y="1523880"/>
                <a:ext cx="2774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452960" y="3962520"/>
            <a:ext cx="578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53240" y="426708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4251240"/>
            <a:ext cx="36828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76720" y="182844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3200400"/>
            <a:ext cx="60984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26668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429000" y="2590920"/>
                <a:ext cx="1989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1605960" y="4648320"/>
            <a:ext cx="493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2200" y="501336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9996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stop" descr=""/>
          <p:cNvPicPr/>
          <p:nvPr/>
        </p:nvPicPr>
        <p:blipFill>
          <a:blip r:embed="rId3"/>
          <a:stretch/>
        </p:blipFill>
        <p:spPr>
          <a:xfrm>
            <a:off x="8629560" y="634356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398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98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887040" y="193680"/>
            <a:ext cx="31982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DES, BRANCHES,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40" y="357012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: point where two, or more,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re joined (e.g., big nod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838080"/>
            <a:ext cx="2286000" cy="3812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240" y="416412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OP: A closed path that never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wice over a node (e.g., the blue l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4840" y="1150920"/>
            <a:ext cx="1928880" cy="1984320"/>
          </a:xfrm>
          <a:custGeom>
            <a:avLst/>
            <a:gdLst/>
            <a:ahLst/>
            <a:rect l="l" t="t" r="r" b="b"/>
            <a:pathLst>
              <a:path w="1215" h="1247">
                <a:moveTo>
                  <a:pt x="568" y="1247"/>
                </a:moveTo>
                <a:cubicBezTo>
                  <a:pt x="572" y="1190"/>
                  <a:pt x="584" y="1133"/>
                  <a:pt x="584" y="1075"/>
                </a:cubicBezTo>
                <a:cubicBezTo>
                  <a:pt x="584" y="945"/>
                  <a:pt x="576" y="686"/>
                  <a:pt x="576" y="686"/>
                </a:cubicBezTo>
                <a:cubicBezTo>
                  <a:pt x="51" y="678"/>
                  <a:pt x="243" y="678"/>
                  <a:pt x="0" y="678"/>
                </a:cubicBezTo>
                <a:cubicBezTo>
                  <a:pt x="9" y="674"/>
                  <a:pt x="24" y="676"/>
                  <a:pt x="26" y="667"/>
                </a:cubicBezTo>
                <a:cubicBezTo>
                  <a:pt x="30" y="645"/>
                  <a:pt x="15" y="623"/>
                  <a:pt x="15" y="600"/>
                </a:cubicBezTo>
                <a:cubicBezTo>
                  <a:pt x="14" y="571"/>
                  <a:pt x="21" y="543"/>
                  <a:pt x="23" y="514"/>
                </a:cubicBezTo>
                <a:cubicBezTo>
                  <a:pt x="34" y="347"/>
                  <a:pt x="46" y="162"/>
                  <a:pt x="46" y="0"/>
                </a:cubicBezTo>
                <a:cubicBezTo>
                  <a:pt x="436" y="7"/>
                  <a:pt x="825" y="23"/>
                  <a:pt x="1215" y="23"/>
                </a:cubicBezTo>
                <a:cubicBezTo>
                  <a:pt x="1212" y="324"/>
                  <a:pt x="1212" y="626"/>
                  <a:pt x="1207" y="927"/>
                </a:cubicBezTo>
                <a:cubicBezTo>
                  <a:pt x="1206" y="1013"/>
                  <a:pt x="1184" y="1098"/>
                  <a:pt x="1184" y="1184"/>
                </a:cubicBezTo>
                <a:cubicBezTo>
                  <a:pt x="1059" y="1187"/>
                  <a:pt x="935" y="1188"/>
                  <a:pt x="810" y="1192"/>
                </a:cubicBezTo>
                <a:cubicBezTo>
                  <a:pt x="771" y="1193"/>
                  <a:pt x="732" y="1200"/>
                  <a:pt x="693" y="1200"/>
                </a:cubicBezTo>
                <a:cubicBezTo>
                  <a:pt x="672" y="1200"/>
                  <a:pt x="631" y="1192"/>
                  <a:pt x="631" y="119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295280"/>
            <a:ext cx="167652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576" y="432"/>
                </a:moveTo>
                <a:lnTo>
                  <a:pt x="576" y="0"/>
                </a:lnTo>
                <a:lnTo>
                  <a:pt x="1008" y="0"/>
                </a:lnTo>
                <a:lnTo>
                  <a:pt x="1056" y="384"/>
                </a:lnTo>
                <a:lnTo>
                  <a:pt x="0" y="384"/>
                </a:lnTo>
                <a:lnTo>
                  <a:pt x="0" y="48"/>
                </a:lnTo>
                <a:lnTo>
                  <a:pt x="576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240" y="523080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RANCH: Component connected between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s (e.g., component R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704880" cy="663840"/>
          </a:xfrm>
          <a:custGeom>
            <a:avLst/>
            <a:gdLst/>
            <a:ahLst/>
            <a:rect l="l" t="t" r="r" b="b"/>
            <a:pathLst>
              <a:path w="444" h="418">
                <a:moveTo>
                  <a:pt x="413" y="67"/>
                </a:moveTo>
                <a:cubicBezTo>
                  <a:pt x="355" y="62"/>
                  <a:pt x="247" y="52"/>
                  <a:pt x="194" y="52"/>
                </a:cubicBezTo>
                <a:cubicBezTo>
                  <a:pt x="12" y="52"/>
                  <a:pt x="15" y="0"/>
                  <a:pt x="15" y="67"/>
                </a:cubicBezTo>
                <a:cubicBezTo>
                  <a:pt x="5" y="176"/>
                  <a:pt x="0" y="285"/>
                  <a:pt x="0" y="395"/>
                </a:cubicBezTo>
                <a:cubicBezTo>
                  <a:pt x="1" y="395"/>
                  <a:pt x="136" y="418"/>
                  <a:pt x="155" y="418"/>
                </a:cubicBezTo>
                <a:cubicBezTo>
                  <a:pt x="251" y="418"/>
                  <a:pt x="444" y="410"/>
                  <a:pt x="444" y="410"/>
                </a:cubicBezTo>
                <a:cubicBezTo>
                  <a:pt x="436" y="132"/>
                  <a:pt x="436" y="228"/>
                  <a:pt x="436" y="122"/>
                </a:cubicBez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080" y="4713120"/>
            <a:ext cx="335052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d path is NOT a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0" y="2286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NODE CONNECTS SEVERAL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IT DOES NOT HOLD ANY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95760" y="914400"/>
            <a:ext cx="39146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TAL CURRENT FLOWING INTO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EQUAL TO TOTAL CURRENT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96480" y="1828800"/>
            <a:ext cx="4021200" cy="3962520"/>
            <a:chOff x="4596480" y="1828800"/>
            <a:chExt cx="4021200" cy="3962520"/>
          </a:xfrm>
        </p:grpSpPr>
        <p:sp>
          <p:nvSpPr>
            <p:cNvPr id="63" name=""/>
            <p:cNvSpPr/>
            <p:nvPr/>
          </p:nvSpPr>
          <p:spPr>
            <a:xfrm>
              <a:off x="4596480" y="1828800"/>
              <a:ext cx="4021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(A CONSERVATION OF CHARGE PRINCIP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5257800"/>
              <a:ext cx="83844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257800" y="2133720"/>
            <a:ext cx="2978280" cy="304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2133720"/>
                      <a:ext cx="2978280" cy="30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19920" y="4267080"/>
              <a:ext cx="1447560" cy="106704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105520" y="13716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3716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46480" y="41400"/>
            <a:ext cx="38840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 CURRENT LAW (K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520" y="41292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FLOWING INTO A NOD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L TO SUM OF CURRENTS FLOWING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1219320"/>
          <a:ext cx="28954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219320"/>
                    <a:ext cx="28954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96840" y="3200400"/>
            <a:ext cx="4447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S FLOWING IN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20" y="2590920"/>
            <a:ext cx="45547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 (FLOWING)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3886200"/>
          <a:ext cx="2209680" cy="20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86200"/>
                    <a:ext cx="2209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09480" y="5943600"/>
          <a:ext cx="34959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943600"/>
                    <a:ext cx="3495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824720" y="92160"/>
            <a:ext cx="42346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GENERALIZED NODE IS ANY PART OF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WHERE THERE IS NO ACCU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3760" y="93024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 OR WE CAN MAKE SUPERNODE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GGREGATING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07200" y="2660760"/>
            <a:ext cx="1842840" cy="604800"/>
          </a:xfrm>
          <a:custGeom>
            <a:avLst/>
            <a:gdLst/>
            <a:ahLst/>
            <a:rect l="l" t="t" r="r" b="b"/>
            <a:pathLst>
              <a:path w="1161" h="381">
                <a:moveTo>
                  <a:pt x="46" y="23"/>
                </a:moveTo>
                <a:cubicBezTo>
                  <a:pt x="52" y="190"/>
                  <a:pt x="0" y="287"/>
                  <a:pt x="155" y="327"/>
                </a:cubicBezTo>
                <a:cubicBezTo>
                  <a:pt x="204" y="358"/>
                  <a:pt x="162" y="336"/>
                  <a:pt x="257" y="350"/>
                </a:cubicBezTo>
                <a:cubicBezTo>
                  <a:pt x="311" y="358"/>
                  <a:pt x="365" y="373"/>
                  <a:pt x="420" y="381"/>
                </a:cubicBezTo>
                <a:cubicBezTo>
                  <a:pt x="602" y="379"/>
                  <a:pt x="784" y="379"/>
                  <a:pt x="966" y="374"/>
                </a:cubicBezTo>
                <a:cubicBezTo>
                  <a:pt x="999" y="373"/>
                  <a:pt x="1031" y="352"/>
                  <a:pt x="1059" y="335"/>
                </a:cubicBezTo>
                <a:cubicBezTo>
                  <a:pt x="1083" y="320"/>
                  <a:pt x="1129" y="288"/>
                  <a:pt x="1129" y="288"/>
                </a:cubicBezTo>
                <a:cubicBezTo>
                  <a:pt x="1139" y="259"/>
                  <a:pt x="1153" y="240"/>
                  <a:pt x="1160" y="210"/>
                </a:cubicBezTo>
                <a:cubicBezTo>
                  <a:pt x="1158" y="179"/>
                  <a:pt x="1161" y="146"/>
                  <a:pt x="1153" y="116"/>
                </a:cubicBezTo>
                <a:cubicBezTo>
                  <a:pt x="1135" y="53"/>
                  <a:pt x="1050" y="39"/>
                  <a:pt x="997" y="31"/>
                </a:cubicBezTo>
                <a:cubicBezTo>
                  <a:pt x="958" y="18"/>
                  <a:pt x="928" y="7"/>
                  <a:pt x="888" y="0"/>
                </a:cubicBezTo>
                <a:cubicBezTo>
                  <a:pt x="633" y="2"/>
                  <a:pt x="379" y="0"/>
                  <a:pt x="124" y="7"/>
                </a:cubicBezTo>
                <a:cubicBezTo>
                  <a:pt x="93" y="8"/>
                  <a:pt x="85" y="37"/>
                  <a:pt x="46" y="23"/>
                </a:cubicBez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40240" y="4191120"/>
                <a:ext cx="28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aving 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aving 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143680" y="487692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 2 &amp; 3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00600" y="4876920"/>
            <a:ext cx="3733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4720" y="518148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ERPRETATION: SUM OF CURRENTS 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 2&amp;3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50560" y="563868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ISUALIZATION: WE CAN ENCLOSE NODES 2&amp;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SIDE A SURFACE THAT IS VIEWED A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NERALIZED NODE (OR SUPERN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105520" y="434880"/>
          <a:ext cx="335268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880"/>
                    <a:ext cx="33526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7920" y="65160"/>
            <a:ext cx="4691880" cy="580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BLEM SOLVING HINT: KCL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FIND A MISSING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200" y="685800"/>
          <a:ext cx="230688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" y="685800"/>
                    <a:ext cx="2306880" cy="2548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300400" y="625320"/>
            <a:ext cx="2314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1143000"/>
                <a:ext cx="2133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895480" y="14619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104920" y="2073240"/>
            <a:ext cx="25275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ich way are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 on branch a-b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6280" y="3521160"/>
            <a:ext cx="4234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AND PRACTICE NOTATION CONVEN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SAME TIM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920" y="4114800"/>
                <a:ext cx="914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449720" y="4054320"/>
            <a:ext cx="2847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,b,c,d,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RANCH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-b,c-b,d-b,e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4648320"/>
          <a:ext cx="2144880" cy="14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648320"/>
                    <a:ext cx="2144880" cy="1434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327320" y="624852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43960" y="92160"/>
            <a:ext cx="26344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ALL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685800"/>
            <a:ext cx="2362320" cy="1522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495760" y="3429000"/>
          <a:ext cx="31147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5760" y="3429000"/>
                    <a:ext cx="3114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486400" y="1828800"/>
            <a:ext cx="30492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 rot="10800000">
          <a:off x="5445000" y="3962160"/>
          <a:ext cx="30895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5445000" y="3962160"/>
                    <a:ext cx="3089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781680" y="1828800"/>
            <a:ext cx="22860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19720" y="4314960"/>
          <a:ext cx="4114800" cy="40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314960"/>
                    <a:ext cx="411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924680" y="1752480"/>
            <a:ext cx="304920" cy="38124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4120" y="4648320"/>
          <a:ext cx="3198600" cy="42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648320"/>
                    <a:ext cx="31986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715000" y="2971800"/>
            <a:ext cx="2590920" cy="30492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48360" y="5029200"/>
          <a:ext cx="34606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5029200"/>
                    <a:ext cx="3460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733640" y="5578560"/>
            <a:ext cx="41277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FIFTH EQUATION IS THE SUM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FOUR... IT IS REDUNDA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eaux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320" y="-76320"/>
          <a:ext cx="51721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6320" y="-76320"/>
                    <a:ext cx="5172120" cy="4689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191200" y="0"/>
          <a:ext cx="3952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0" y="0"/>
                    <a:ext cx="395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10080" y="685800"/>
          <a:ext cx="3456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68580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09680" y="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057400"/>
            <a:ext cx="38088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95840" y="1562040"/>
          <a:ext cx="44481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5840" y="1562040"/>
                    <a:ext cx="444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8280" y="182880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410080" y="2057400"/>
          <a:ext cx="3417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2057400"/>
                    <a:ext cx="3417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410080" y="6094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59092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1295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6320" y="-27000"/>
            <a:ext cx="27410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MISSING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478944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INTER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YPE OF COMPONENT IS IR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400" y="5398920"/>
            <a:ext cx="591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TOPOLOGY OF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228600"/>
          <a:ext cx="479268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228600"/>
                    <a:ext cx="47926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8040" y="-11160"/>
            <a:ext cx="45698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CL EQUATION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5360" y="4343400"/>
          <a:ext cx="4346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4343400"/>
                    <a:ext cx="4346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80880" y="19810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18288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876920"/>
            <a:ext cx="40384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343400"/>
            <a:ext cx="35812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0574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334120"/>
            <a:ext cx="403848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8098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867280"/>
            <a:ext cx="35812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00680" y="762120"/>
            <a:ext cx="3914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RESENCE OF A DEPEND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OES NOT AFFECT APPLICATION OF 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CL DEPENDS ONLY ON THE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0680" y="228600"/>
            <a:ext cx="40208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AST EQUATION IS AGAIN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OF THE PREVIOUS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517212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0"/>
                    <a:ext cx="5172120" cy="46893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479920" y="249120"/>
            <a:ext cx="3527280" cy="1739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Here we illustrate th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f a more general ide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ode. The shaded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ncloses a section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ircuit and can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s a BIG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1752480"/>
            <a:ext cx="259056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8600" y="4800600"/>
                <a:ext cx="43434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 OF CURRENTS LEAVING BIG NOD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85800" y="51055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28800" y="5486400"/>
                <a:ext cx="99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78560" y="580716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I5 BECOMES INTERNAL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AND IT IS NOT NEEDED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0"/>
            <a:ext cx="44956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143000" y="4419720"/>
          <a:ext cx="74962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74962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66680" y="457200"/>
          <a:ext cx="7048800" cy="20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7200"/>
                    <a:ext cx="7048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52480" y="251460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0" y="259092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920" y="60199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362320" y="4267080"/>
            <a:ext cx="304560" cy="38124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419720"/>
            <a:ext cx="228600" cy="30456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10280" y="41148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91120" y="411480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638680" y="4343400"/>
            <a:ext cx="30492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15228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22860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 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33720" y="388620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83320" y="365760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nd 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838080"/>
          <a:ext cx="83822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822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828800" y="685800"/>
            <a:ext cx="228600" cy="30492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46080" y="2666880"/>
                <a:ext cx="1930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86200" y="685800"/>
            <a:ext cx="419112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041800" y="2819520"/>
                <a:ext cx="3035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152280" y="4038480"/>
          <a:ext cx="5715000" cy="21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57150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59092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3080" y="38862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29200" y="50292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52388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440" y="380988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952880" y="4343400"/>
                <a:ext cx="58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29000" y="2286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1:32:47Z</dcterms:created>
  <dc:creator>Jorge Aravena</dc:creator>
  <dc:description/>
  <dc:language>en-US</dc:language>
  <cp:lastModifiedBy>Jorge Aravena</cp:lastModifiedBy>
  <cp:lastPrinted>2000-06-07T18:25:37Z</cp:lastPrinted>
  <dcterms:modified xsi:type="dcterms:W3CDTF">2001-03-19T12:57:51Z</dcterms:modified>
  <cp:revision>18</cp:revision>
  <dc:subject/>
  <dc:title>No Slide Title</dc:title>
</cp:coreProperties>
</file>