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33.png" ContentType="image/png"/>
  <Override PartName="/ppt/media/image27.wmf" ContentType="image/x-wmf"/>
  <Override PartName="/ppt/media/image4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7.wmf" ContentType="image/x-wmf"/>
  <Override PartName="/ppt/media/image10.png" ContentType="image/png"/>
  <Override PartName="/ppt/media/image47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13.png" ContentType="image/png"/>
  <Override PartName="/ppt/media/image53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176-4CA0-451C-A925-375552EE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2F5-5FED-447F-A754-2C61699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58C-4873-4C62-9A4D-F39649B0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F6E-2B02-4DD3-A1D1-AE23B049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BD5-6BB1-4E8D-B295-538C7DF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E1E-47A0-4595-AB49-59BB1A1C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153-A3BA-4EEB-AE02-E357642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D1C-967F-4D66-9685-6C1856F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8F0-47B3-4C42-AF84-37005A6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507-4A2D-4B93-B31C-EF30756B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5D0-9B47-498E-A218-42DBBB2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441-0C90-4BC5-8170-649872A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E9C-FC81-4929-8375-2F9DD6913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580960" y="6084720"/>
            <a:ext cx="563040" cy="773280"/>
            <a:chOff x="8580960" y="6084720"/>
            <a:chExt cx="563040" cy="773280"/>
          </a:xfrm>
        </p:grpSpPr>
        <p:pic>
          <p:nvPicPr>
            <p:cNvPr id="283" name="stop" descr=""/>
            <p:cNvPicPr/>
            <p:nvPr/>
          </p:nvPicPr>
          <p:blipFill>
            <a:blip r:embed="rId3"/>
            <a:stretch/>
          </p:blipFill>
          <p:spPr>
            <a:xfrm>
              <a:off x="862956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580960" y="6084720"/>
              <a:ext cx="546480" cy="3373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7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8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7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09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8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480" y="51055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03240" y="548640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20T02:52:45Z</dcterms:modified>
  <cp:revision>20</cp:revision>
  <dc:subject/>
  <dc:title>No Slide Title</dc:title>
</cp:coreProperties>
</file>