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33A-FDAC-45F9-9F46-D0E0DC92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88C-0BC5-4379-B18F-6F37566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818-C857-4F9A-9B06-FAA3E876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F4E-A2CF-447E-8256-5E17E4A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8D8-E251-418F-9A7B-D6C4E6B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4A9-2D3B-474E-BC37-1726AA2B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A1B-4967-46A2-BAE4-A826DC8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E21-ACA6-4E29-9843-E67B7DDB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FEE-2777-43B5-A8F5-269C5FF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BBF-F888-41CC-829D-0835380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60E-E928-4F58-9779-8DA291D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94B-3BD6-4FA1-ADCD-EA0F85E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9D8-34E8-4B58-BDCD-AF598D55C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8:43:10Z</dcterms:created>
  <dc:creator>student</dc:creator>
  <dc:description/>
  <dc:language>en-US</dc:language>
  <cp:lastModifiedBy>Jorge Aravena</cp:lastModifiedBy>
  <cp:lastPrinted>2001-01-02T18:27:37Z</cp:lastPrinted>
  <dcterms:modified xsi:type="dcterms:W3CDTF">2001-03-10T22:24:36Z</dcterms:modified>
  <cp:revision>16</cp:revision>
  <dc:subject/>
  <dc:title>No Slide Title</dc:title>
</cp:coreProperties>
</file>