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29C-7426-4509-8C85-CBF9B7F7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76D-BC28-4163-9AA1-8D364CE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6E0-E6A5-4F50-87CF-A8BADF3E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CE9-9737-4373-829B-07199B7B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088-4100-4308-9047-5A6BA824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BB6-6559-4118-90D1-EF8A0FBA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5D0-1349-498B-97A9-1362CB6F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B62-DBEA-4276-B0DC-857B2513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723-6E22-4267-93F7-D38FCF60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4D8-6F00-4E10-B1B5-DB9C84DC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386-3442-4F25-984F-17CC7244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3CF-5D9D-41CD-9540-35274D5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D52-5781-40F6-9701-9EAC71FAB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8360" y="73080"/>
            <a:ext cx="31510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IVE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200" y="609480"/>
            <a:ext cx="87408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Here we introduce the basic concepts and laws that are fundamental to circui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447920"/>
            <a:ext cx="2314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81080"/>
            <a:ext cx="81532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HM’S LAW - DEFINES THE SIMPLEST PASSIVE ELEMENT: THE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693880"/>
            <a:ext cx="815328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’S LAWS - THE FUNDAMENTAL CIRCUIT CONSERVATION LAWS- KIRCHHOFF CURRENT (KCL) AND KIRCHHOFF VOLTAGE (K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37500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 TO ANALYZE THE SIMPLEST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- THE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NODE-PAIR - THE CURRENT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272120"/>
            <a:ext cx="77724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RIES/PARALLEL RESISTOR COMBINATIONS - A TECHNIQUE TO REDUCE THE COMPLEXITY OF SOME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943600"/>
            <a:ext cx="80010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 - (NOTHING VERY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24440"/>
            <a:ext cx="7788240" cy="947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YE - DELTA TRANSFORMATION - A TECHNIQUE TO REDUCE COMMON RESISTOR CONNECTIONS THAT ARE NEITHER SERIES NOR PARALL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76320" y="228600"/>
          <a:ext cx="723888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723888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484080" y="5335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harge. Required: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162920" y="838080"/>
          <a:ext cx="198108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838080"/>
                    <a:ext cx="1981080" cy="81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330000" y="146196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. Required: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566040" y="1828800"/>
          <a:ext cx="257796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828800"/>
                    <a:ext cx="2577960" cy="32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250080" y="243828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, resistor, voltage. Required: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4120" y="2779560"/>
          <a:ext cx="380988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5334120" y="2779560"/>
                    <a:ext cx="3809880" cy="801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2" name=""/>
          <p:cNvGrpSpPr/>
          <p:nvPr/>
        </p:nvGrpSpPr>
        <p:grpSpPr>
          <a:xfrm>
            <a:off x="6840360" y="3581280"/>
            <a:ext cx="2312640" cy="1721160"/>
            <a:chOff x="6840360" y="3581280"/>
            <a:chExt cx="2312640" cy="1721160"/>
          </a:xfrm>
        </p:grpSpPr>
        <p:sp>
          <p:nvSpPr>
            <p:cNvPr id="283" name=""/>
            <p:cNvSpPr/>
            <p:nvPr/>
          </p:nvSpPr>
          <p:spPr>
            <a:xfrm>
              <a:off x="7373880" y="3581280"/>
              <a:ext cx="990360" cy="1155600"/>
            </a:xfrm>
            <a:custGeom>
              <a:avLst/>
              <a:gdLst/>
              <a:ahLst/>
              <a:rect l="l" t="t" r="r" b="b"/>
              <a:pathLst>
                <a:path w="624" h="728">
                  <a:moveTo>
                    <a:pt x="0" y="344"/>
                  </a:moveTo>
                  <a:cubicBezTo>
                    <a:pt x="24" y="536"/>
                    <a:pt x="48" y="728"/>
                    <a:pt x="96" y="728"/>
                  </a:cubicBezTo>
                  <a:cubicBezTo>
                    <a:pt x="144" y="728"/>
                    <a:pt x="232" y="464"/>
                    <a:pt x="288" y="344"/>
                  </a:cubicBezTo>
                  <a:cubicBezTo>
                    <a:pt x="344" y="224"/>
                    <a:pt x="376" y="0"/>
                    <a:pt x="432" y="8"/>
                  </a:cubicBezTo>
                  <a:cubicBezTo>
                    <a:pt x="488" y="16"/>
                    <a:pt x="556" y="204"/>
                    <a:pt x="624" y="392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7831080" y="4140000"/>
            <a:ext cx="139680" cy="13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31080" y="4140000"/>
                      <a:ext cx="139680" cy="1396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6840360" y="4127400"/>
              <a:ext cx="2133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800" y="4903560"/>
              <a:ext cx="202320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tch for -sin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526160" y="3593520"/>
              <a:ext cx="0" cy="1219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831080" y="366984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95440" y="5181480"/>
            <a:ext cx="59385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time interval, current from a to b is nega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5400" y="5653080"/>
            <a:ext cx="394488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flows from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oint b has the higher vol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720" y="5958000"/>
            <a:ext cx="26496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stop" descr=""/>
          <p:cNvPicPr/>
          <p:nvPr/>
        </p:nvPicPr>
        <p:blipFill>
          <a:blip r:embed="rId11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87000" y="182520"/>
            <a:ext cx="15523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757080"/>
          <a:ext cx="175284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7080"/>
                    <a:ext cx="1752840" cy="1148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9480" y="189396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resistor is a passive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acterized by an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lation between the voltage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s terminals and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ug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760" y="3352680"/>
                <a:ext cx="4216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General  Model for a Resis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95920" y="37339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linear resistor obeys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76520" y="4114800"/>
                <a:ext cx="1054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1880" y="4495680"/>
            <a:ext cx="4082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, R, is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ance of the component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s measured in units of O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86200" y="5029200"/>
                <a:ext cx="380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59480" y="54100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rom a dimens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s is a derived unit of Volt/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257800" y="685800"/>
                <a:ext cx="2679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andard Multiples of Oh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Mega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 Kilo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59360" y="1828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common occurrence   is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ulting in resistance in 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727880" y="3092400"/>
            <a:ext cx="15217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5640" y="3417840"/>
            <a:ext cx="44478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instead of expressing voltag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function of current one exp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in terms of voltage, OH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aw can be 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07280" y="4495680"/>
                <a:ext cx="633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9480" y="60958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Since the equation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the time dependence can be o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52880" y="5029200"/>
            <a:ext cx="3543480" cy="1828440"/>
            <a:chOff x="4952880" y="5029200"/>
            <a:chExt cx="3543480" cy="1828440"/>
          </a:xfrm>
        </p:grpSpPr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4952880" y="5029200"/>
                  <a:ext cx="3543480" cy="12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We define   </m:t>
                          </m:r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as Conductan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f the component and write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5034960" y="6276960"/>
              <a:ext cx="3350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unit of conduc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iem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95360" y="257040"/>
          <a:ext cx="8153280" cy="634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57040"/>
                    <a:ext cx="815328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0"/>
          <a:ext cx="222408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0"/>
                    <a:ext cx="22240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687760" y="76320"/>
            <a:ext cx="38383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ome practical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240" y="2228760"/>
            <a:ext cx="10951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297180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28320" y="117360"/>
            <a:ext cx="27867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tice passive 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6360" y="11736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wo special resist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24480" y="685800"/>
          <a:ext cx="27828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685800"/>
                    <a:ext cx="27828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38680" y="2514600"/>
                <a:ext cx="596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391520" y="2514600"/>
                <a:ext cx="58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9400" y="2209320"/>
            <a:ext cx="7434000" cy="3809880"/>
            <a:chOff x="-149400" y="2209320"/>
            <a:chExt cx="7434000" cy="3809880"/>
          </a:xfrm>
        </p:grpSpPr>
        <p:sp>
          <p:nvSpPr>
            <p:cNvPr id="95" name=""/>
            <p:cNvSpPr/>
            <p:nvPr/>
          </p:nvSpPr>
          <p:spPr>
            <a:xfrm>
              <a:off x="-149400" y="464796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908000" y="220932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-73080" y="3352680"/>
              <a:ext cx="4800600" cy="22096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8360" y="320004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460"/>
                    <a:pt x="424" y="296"/>
                    <a:pt x="528" y="192"/>
                  </a:cubicBezTo>
                  <a:cubicBezTo>
                    <a:pt x="632" y="88"/>
                    <a:pt x="628" y="44"/>
                    <a:pt x="62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73080" y="518148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528" y="0"/>
                  </a:moveTo>
                  <a:cubicBezTo>
                    <a:pt x="452" y="32"/>
                    <a:pt x="376" y="64"/>
                    <a:pt x="288" y="144"/>
                  </a:cubicBezTo>
                  <a:cubicBezTo>
                    <a:pt x="200" y="224"/>
                    <a:pt x="48" y="424"/>
                    <a:pt x="0" y="4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55760" y="3600360"/>
              <a:ext cx="3228840" cy="398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approxi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720" y="5597280"/>
              <a:ext cx="3686040" cy="398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ctual v-I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8440" y="5047920"/>
              <a:ext cx="2009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4680" y="373356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40960" y="373320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422600" y="4776480"/>
                  <a:ext cx="1508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3080" y="2361960"/>
                  <a:ext cx="125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2064600" y="2610000"/>
            <a:ext cx="7061040" cy="3336120"/>
            <a:chOff x="2064600" y="2610000"/>
            <a:chExt cx="7061040" cy="3336120"/>
          </a:xfrm>
        </p:grpSpPr>
        <p:sp>
          <p:nvSpPr>
            <p:cNvPr id="108" name=""/>
            <p:cNvSpPr/>
            <p:nvPr/>
          </p:nvSpPr>
          <p:spPr>
            <a:xfrm>
              <a:off x="4144320" y="5029200"/>
              <a:ext cx="49813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Ohm’s Law is an approximation 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while voltages and currents re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 the Linear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4600" y="2610000"/>
              <a:ext cx="1856880" cy="703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 tou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realit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2520" y="152280"/>
            <a:ext cx="37162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 PROBLEM SOLVING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609480"/>
                <a:ext cx="3733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HM's  La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2240" y="990720"/>
            <a:ext cx="45698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equation and thre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the third can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320" y="1600200"/>
          <a:ext cx="327636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32763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828800" y="2692440"/>
                <a:ext cx="9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823120" y="2122560"/>
            <a:ext cx="1765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tice u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 rot="10800000">
                <a:off x="1828800" y="2285640"/>
                <a:ext cx="673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304920" y="4035600"/>
          <a:ext cx="29718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5600"/>
                    <a:ext cx="29718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6095880"/>
                <a:ext cx="571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05120" y="5257800"/>
                <a:ext cx="990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4800600" y="152280"/>
          <a:ext cx="3200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52280"/>
                    <a:ext cx="3200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81680" y="609480"/>
                <a:ext cx="5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095880" y="985680"/>
            <a:ext cx="0" cy="758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38680" y="1741320"/>
                <a:ext cx="722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579200" y="20574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termine direction of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4120" y="3668760"/>
          <a:ext cx="3276360" cy="282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68760"/>
                    <a:ext cx="32763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7560" y="460044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480" y="494496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 IN SIEMENS,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VOLTS. HENCE CURRENT IN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5602320"/>
                <a:ext cx="990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4648320" y="228600"/>
            <a:ext cx="4114440" cy="2971440"/>
            <a:chOff x="4648320" y="228600"/>
            <a:chExt cx="4114440" cy="2971440"/>
          </a:xfrm>
        </p:grpSpPr>
        <p:grpSp>
          <p:nvGrpSpPr>
            <p:cNvPr id="137" name=""/>
            <p:cNvGrpSpPr/>
            <p:nvPr/>
          </p:nvGrpSpPr>
          <p:grpSpPr>
            <a:xfrm>
              <a:off x="4648320" y="685800"/>
              <a:ext cx="4114440" cy="2514240"/>
              <a:chOff x="4648320" y="685800"/>
              <a:chExt cx="4114440" cy="2514240"/>
            </a:xfrm>
          </p:grpSpPr>
          <p:graphicFrame>
            <p:nvGraphicFramePr>
              <p:cNvPr id="138" name=""/>
              <p:cNvGraphicFramePr/>
              <p:nvPr/>
            </p:nvGraphicFramePr>
            <p:xfrm>
              <a:off x="4648320" y="685800"/>
              <a:ext cx="4114440" cy="2514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48320" y="685800"/>
                        <a:ext cx="411444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7952400" y="1866240"/>
                    <a:ext cx="309600" cy="25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aphicFrame>
          <p:nvGraphicFramePr>
            <p:cNvPr id="141" name=""/>
            <p:cNvGraphicFramePr/>
            <p:nvPr/>
          </p:nvGraphicFramePr>
          <p:xfrm>
            <a:off x="5791320" y="228600"/>
            <a:ext cx="222408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22860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477360" y="3297240"/>
            <a:ext cx="415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IVEN VOLTAGE AND CONDUC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440" y="3646440"/>
            <a:ext cx="359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DIRECTIONS SATIS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4267080"/>
            <a:ext cx="2438280" cy="337320"/>
            <a:chOff x="1523880" y="4267080"/>
            <a:chExt cx="2438280" cy="337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523880" y="4307040"/>
                  <a:ext cx="1105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2684160" y="4267080"/>
              <a:ext cx="1278000" cy="33732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5600" y="685800"/>
            <a:ext cx="3578400" cy="2518920"/>
            <a:chOff x="5565600" y="685800"/>
            <a:chExt cx="3578400" cy="2518920"/>
          </a:xfrm>
        </p:grpSpPr>
        <p:sp>
          <p:nvSpPr>
            <p:cNvPr id="149" name=""/>
            <p:cNvSpPr/>
            <p:nvPr/>
          </p:nvSpPr>
          <p:spPr>
            <a:xfrm>
              <a:off x="5565600" y="685800"/>
              <a:ext cx="98748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690480"/>
              <a:ext cx="137160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934320" y="1676520"/>
            <a:ext cx="380880" cy="838080"/>
            <a:chOff x="6934320" y="1676520"/>
            <a:chExt cx="380880" cy="8380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934320" y="16765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7315200" y="16765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40280" y="3341520"/>
            <a:ext cx="12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24480" y="3352680"/>
                <a:ext cx="11052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4440" y="3733920"/>
                <a:ext cx="303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835400" y="334152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952880" y="4038480"/>
          <a:ext cx="3581640" cy="22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038480"/>
                    <a:ext cx="3581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5491440" y="4572000"/>
            <a:ext cx="2619000" cy="2133360"/>
            <a:chOff x="5491440" y="4572000"/>
            <a:chExt cx="2619000" cy="2133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91320" y="4572000"/>
                  <a:ext cx="295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4</m:t>
                          </m:r>
                          <m:r>
                            <m:t xml:space="preserve">V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91440" y="6124680"/>
              <a:ext cx="26190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XAMPLE C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IVEN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781680" y="4876920"/>
            <a:ext cx="381240" cy="838080"/>
            <a:chOff x="6781680" y="4876920"/>
            <a:chExt cx="381240" cy="8380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781680" y="4876920"/>
                  <a:ext cx="1764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7162920" y="4876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07160" y="5562720"/>
            <a:ext cx="1278000" cy="610200"/>
            <a:chOff x="7607160" y="5562720"/>
            <a:chExt cx="1278000" cy="6102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0120" y="5562720"/>
                  <a:ext cx="1244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07160" y="5835600"/>
              <a:ext cx="1278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0880" y="152280"/>
            <a:ext cx="3657600" cy="3133800"/>
            <a:chOff x="380880" y="152280"/>
            <a:chExt cx="3657600" cy="3133800"/>
          </a:xfrm>
        </p:grpSpPr>
        <p:graphicFrame>
          <p:nvGraphicFramePr>
            <p:cNvPr id="173" name=""/>
            <p:cNvGraphicFramePr/>
            <p:nvPr/>
          </p:nvGraphicFramePr>
          <p:xfrm>
            <a:off x="990720" y="152280"/>
            <a:ext cx="2224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15228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380880" y="609480"/>
            <a:ext cx="3657600" cy="267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880" y="609480"/>
                      <a:ext cx="3657600" cy="26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7360" y="152280"/>
            <a:ext cx="359460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ND ELECTRIC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520" y="53352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re passiv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an only absorb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Ohm’s law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pressions for power we can de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veral useful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1905120"/>
                <a:ext cx="3124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1960" y="2590920"/>
            <a:ext cx="481356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Problem solving tip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There are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s (P,v,i,R) and two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variables one can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other t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6000" y="3745080"/>
                <a:ext cx="1079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55840" y="3745080"/>
                <a:ext cx="1004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973680"/>
                <a:ext cx="1600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920" y="4811760"/>
                <a:ext cx="990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5040360"/>
                <a:ext cx="1752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735440"/>
                <a:ext cx="965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057400" y="4964040"/>
                <a:ext cx="198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600" y="5646600"/>
            <a:ext cx="456984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ot given, the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irection for voltage or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chosen and the oth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by the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5200" y="65160"/>
            <a:ext cx="22532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MATTER OF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5520" y="457200"/>
            <a:ext cx="4569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orking with SI units Volt, 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att, Ohm, there is never a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must be careful whe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ultiples or sub multi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3120" y="1600200"/>
                <a:ext cx="28382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: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867920" y="189396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basic strategy is to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given variables in SI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70440" y="2514600"/>
                <a:ext cx="267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613640" y="2590920"/>
                <a:ext cx="546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81520" y="2819520"/>
                <a:ext cx="35244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848720" y="3112920"/>
                <a:ext cx="1295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7200" y="65160"/>
            <a:ext cx="4569840" cy="2565360"/>
            <a:chOff x="7200" y="65160"/>
            <a:chExt cx="4569840" cy="2565360"/>
          </a:xfrm>
        </p:grpSpPr>
        <p:graphicFrame>
          <p:nvGraphicFramePr>
            <p:cNvPr id="201" name=""/>
            <p:cNvGraphicFramePr/>
            <p:nvPr/>
          </p:nvGraphicFramePr>
          <p:xfrm>
            <a:off x="304920" y="380880"/>
            <a:ext cx="3733560" cy="224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80880"/>
                      <a:ext cx="373356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7200" y="65160"/>
              <a:ext cx="4569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TERMINE CURRENT AND 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Y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362320" y="1219320"/>
            <a:ext cx="306360" cy="811080"/>
            <a:chOff x="2362320" y="1219320"/>
            <a:chExt cx="306360" cy="8110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362320" y="12193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2668680" y="12970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228600" y="2641680"/>
          <a:ext cx="200808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41680"/>
                    <a:ext cx="2008080" cy="482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86000" y="2738520"/>
                <a:ext cx="6858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200400"/>
                <a:ext cx="1803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9080" y="3200400"/>
                <a:ext cx="1854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346860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28600" y="4038480"/>
          <a:ext cx="399096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38480"/>
                    <a:ext cx="39909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1066680" y="4343400"/>
            <a:ext cx="762120" cy="1066680"/>
            <a:chOff x="1066680" y="4343400"/>
            <a:chExt cx="762120" cy="1066680"/>
          </a:xfrm>
        </p:grpSpPr>
        <p:sp>
          <p:nvSpPr>
            <p:cNvPr id="216" name=""/>
            <p:cNvSpPr/>
            <p:nvPr/>
          </p:nvSpPr>
          <p:spPr>
            <a:xfrm>
              <a:off x="1066680" y="480060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4343400"/>
              <a:ext cx="380880" cy="304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66880" y="4724280"/>
            <a:ext cx="152424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410080"/>
            <a:ext cx="838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00200" y="5410080"/>
                <a:ext cx="722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2280" y="613584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971800" y="617220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4114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95280" y="39625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4876920" y="228600"/>
            <a:ext cx="4079880" cy="1903320"/>
            <a:chOff x="4876920" y="228600"/>
            <a:chExt cx="4079880" cy="1903320"/>
          </a:xfrm>
        </p:grpSpPr>
        <p:graphicFrame>
          <p:nvGraphicFramePr>
            <p:cNvPr id="226" name=""/>
            <p:cNvGraphicFramePr/>
            <p:nvPr/>
          </p:nvGraphicFramePr>
          <p:xfrm>
            <a:off x="4876920" y="228600"/>
            <a:ext cx="4079880" cy="190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228600"/>
                      <a:ext cx="40798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848720" y="152388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5943600" y="685800"/>
            <a:ext cx="2971800" cy="762120"/>
            <a:chOff x="5943600" y="685800"/>
            <a:chExt cx="2971800" cy="762120"/>
          </a:xfrm>
        </p:grpSpPr>
        <p:sp>
          <p:nvSpPr>
            <p:cNvPr id="230" name=""/>
            <p:cNvSpPr/>
            <p:nvPr/>
          </p:nvSpPr>
          <p:spPr>
            <a:xfrm>
              <a:off x="5943600" y="685800"/>
              <a:ext cx="129528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1371600"/>
              <a:ext cx="121932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2133720"/>
                <a:ext cx="17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800600" y="838080"/>
            <a:ext cx="5335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29400" y="2133720"/>
                <a:ext cx="1701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381880" y="2362320"/>
                <a:ext cx="72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572000" y="2819520"/>
                <a:ext cx="129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696080" y="1447920"/>
            <a:ext cx="762120" cy="304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867280" y="2793960"/>
                <a:ext cx="2006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[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873920" y="297180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924680" y="3352680"/>
                <a:ext cx="71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4724280" y="3733920"/>
          <a:ext cx="356256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733920"/>
                    <a:ext cx="35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5867280" y="3886200"/>
            <a:ext cx="2438640" cy="685800"/>
            <a:chOff x="5867280" y="3886200"/>
            <a:chExt cx="2438640" cy="685800"/>
          </a:xfrm>
        </p:grpSpPr>
        <p:sp>
          <p:nvSpPr>
            <p:cNvPr id="244" name=""/>
            <p:cNvSpPr/>
            <p:nvPr/>
          </p:nvSpPr>
          <p:spPr>
            <a:xfrm>
              <a:off x="5867280" y="3886200"/>
              <a:ext cx="60984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0280" y="4191120"/>
              <a:ext cx="129564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086600" y="4952880"/>
                <a:ext cx="811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86600" y="5257800"/>
                <a:ext cx="1612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467480" y="60199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724280" y="548640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724280" y="579132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95880" y="5943600"/>
                <a:ext cx="621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4572000"/>
            <a:ext cx="457200" cy="3049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0"/>
            <a:ext cx="190512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685800"/>
          <a:ext cx="72392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239240" cy="21034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378160" y="3286080"/>
            <a:ext cx="25398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4114800"/>
            <a:ext cx="487296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cognizing the type of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is an application of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given Power and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asked for Resistance,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4800" y="4038480"/>
            <a:ext cx="380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sibly useful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080" y="1295280"/>
            <a:ext cx="154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P/V = 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5280" y="609480"/>
            <a:ext cx="22989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= V/I = 2.4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53080" y="1828800"/>
                <a:ext cx="1654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398640" y="2362320"/>
            <a:ext cx="13906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=5*60[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77120" y="4648320"/>
                <a:ext cx="1803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8:29:01Z</dcterms:created>
  <dc:creator>Jorge Aravena</dc:creator>
  <dc:description/>
  <dc:language>en-US</dc:language>
  <cp:lastModifiedBy>Jorge Aravena</cp:lastModifiedBy>
  <dcterms:modified xsi:type="dcterms:W3CDTF">2001-03-22T13:25:54Z</dcterms:modified>
  <cp:revision>19</cp:revision>
  <dc:subject/>
  <dc:title>No Slide Title</dc:title>
</cp:coreProperties>
</file>