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12.png" ContentType="image/png"/>
  <Override PartName="/ppt/media/image35.wmf" ContentType="image/x-wmf"/>
  <Override PartName="/ppt/media/image37.png" ContentType="image/png"/>
  <Override PartName="/ppt/media/image7.png" ContentType="image/png"/>
  <Override PartName="/ppt/media/image40.wmf" ContentType="image/x-wmf"/>
  <Override PartName="/ppt/media/image39.wmf" ContentType="image/x-wmf"/>
  <Override PartName="/ppt/media/image41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ECB-75B6-4F46-ACFC-B6C79BC5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3B0-4B87-4395-8B06-375B9FA4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F81-B39A-48CF-A16E-47C81BA9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973-9EF0-4575-913A-7BCBC2C1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0AE-EC77-4121-9A85-2EBE6319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026-C104-4C5B-A05D-A7E51E83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7BB-9A30-4DE7-BC78-7EAA39AE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4E5-840A-4B30-89AF-5EF0BB34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7B2-1F2E-44AB-87A0-DB859EB8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CD2E-D1E2-453B-9F64-789630FD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B32-BB3F-4F80-B1B3-9255474C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15D-375D-4C91-880A-C2793F46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02F0-13F6-44B0-973F-2277316AC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png"/><Relationship Id="rId19" Type="http://schemas.openxmlformats.org/officeDocument/2006/relationships/image" Target="../media/image9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pn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24280" y="380880"/>
          <a:ext cx="2990880" cy="25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80880"/>
                    <a:ext cx="299088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85800" y="101520"/>
            <a:ext cx="2923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INGLE LOOP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7280" y="473040"/>
            <a:ext cx="4341240" cy="115956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CKGROUND: USING KVL AND KCL WE C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ENOUGH EQUATIONS TO ANALYZ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INEAR CIRCUIT. WE NOW START THE STUD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SYSTEMATIC, AND EFFICIENT, WAY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ING THE FUNDAMENTAL CIRCUIT LA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6320" y="1660680"/>
          <a:ext cx="2477880" cy="21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660680"/>
                    <a:ext cx="2477880" cy="21492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607480" y="1676520"/>
            <a:ext cx="1887480" cy="9464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5 KCL E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R DETERMIN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LY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L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65480" y="92160"/>
            <a:ext cx="391464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 DIVISION: THE SIMPLEST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0" y="3902040"/>
            <a:ext cx="4660560" cy="94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EGIN WITH THE SIMPLEST ONE LOOP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TEND RESULTS TO MULTIPL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D MULTIPLE RESISTORS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48320" y="2986200"/>
          <a:ext cx="353052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86200"/>
                    <a:ext cx="3530520" cy="519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" name=""/>
          <p:cNvGrpSpPr/>
          <p:nvPr/>
        </p:nvGrpSpPr>
        <p:grpSpPr>
          <a:xfrm>
            <a:off x="5486400" y="914400"/>
            <a:ext cx="1298520" cy="1755720"/>
            <a:chOff x="5486400" y="914400"/>
            <a:chExt cx="1298520" cy="1755720"/>
          </a:xfrm>
        </p:grpSpPr>
        <p:sp>
          <p:nvSpPr>
            <p:cNvPr id="53" name=""/>
            <p:cNvSpPr/>
            <p:nvPr/>
          </p:nvSpPr>
          <p:spPr>
            <a:xfrm>
              <a:off x="5486400" y="914400"/>
              <a:ext cx="1298520" cy="1755720"/>
            </a:xfrm>
            <a:custGeom>
              <a:avLst/>
              <a:gdLst/>
              <a:ahLst/>
              <a:rect l="l" t="t" r="r" b="b"/>
              <a:pathLst>
                <a:path w="816" h="1104">
                  <a:moveTo>
                    <a:pt x="0" y="1008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1104"/>
                  </a:lnTo>
                  <a:lnTo>
                    <a:pt x="96" y="1104"/>
                  </a:ln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59560" y="1371600"/>
              <a:ext cx="927360" cy="73332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" name=""/>
          <p:cNvGraphicFramePr/>
          <p:nvPr/>
        </p:nvGraphicFramePr>
        <p:xfrm>
          <a:off x="4876920" y="3429000"/>
          <a:ext cx="326520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429000"/>
                    <a:ext cx="32652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962520" y="4800600"/>
          <a:ext cx="501804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4800600"/>
                    <a:ext cx="5018040" cy="3430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352680" y="5181480"/>
          <a:ext cx="1640160" cy="725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5181480"/>
                    <a:ext cx="1640160" cy="7257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029200" y="5105520"/>
          <a:ext cx="1905120" cy="161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29200" y="5105520"/>
                    <a:ext cx="19051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934320" y="5181480"/>
          <a:ext cx="2097000" cy="81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5181480"/>
                    <a:ext cx="2097000" cy="8175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855520" y="6035760"/>
            <a:ext cx="19944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MPORTAN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VIDER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geaux" descr=""/>
          <p:cNvPicPr/>
          <p:nvPr/>
        </p:nvPicPr>
        <p:blipFill>
          <a:blip r:embed="rId17"/>
          <a:stretch/>
        </p:blipFill>
        <p:spPr>
          <a:xfrm>
            <a:off x="84056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46576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819520" y="1600200"/>
          <a:ext cx="167616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600200"/>
                    <a:ext cx="1676160" cy="654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711520" y="736560"/>
                <a:ext cx="1730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25080" y="0"/>
            <a:ext cx="359460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MARY OF BASIC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1920" y="2519280"/>
            <a:ext cx="4129200" cy="3052800"/>
            <a:chOff x="61920" y="2519280"/>
            <a:chExt cx="4129200" cy="3052800"/>
          </a:xfrm>
        </p:grpSpPr>
        <p:graphicFrame>
          <p:nvGraphicFramePr>
            <p:cNvPr id="73" name=""/>
            <p:cNvGraphicFramePr/>
            <p:nvPr/>
          </p:nvGraphicFramePr>
          <p:xfrm>
            <a:off x="76320" y="2971800"/>
            <a:ext cx="2917800" cy="260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971800"/>
                      <a:ext cx="2917800" cy="26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61920" y="2519280"/>
                  <a:ext cx="412920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XAMPLE: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5867280"/>
                <a:ext cx="15238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7" name=""/>
          <p:cNvGraphicFramePr/>
          <p:nvPr/>
        </p:nvGraphicFramePr>
        <p:xfrm>
          <a:off x="1523880" y="5562720"/>
          <a:ext cx="1784520" cy="10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562720"/>
                    <a:ext cx="1784520" cy="10047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06040" y="76320"/>
            <a:ext cx="34876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“PRACTICAL” POWER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21280" y="4648320"/>
            <a:ext cx="10342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TRO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81480" y="457200"/>
          <a:ext cx="3340080" cy="178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457200"/>
                    <a:ext cx="334008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334120" y="2438280"/>
          <a:ext cx="2896920" cy="166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2438280"/>
                    <a:ext cx="289692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691160" y="4089240"/>
          <a:ext cx="2319120" cy="78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91160" y="4089240"/>
                    <a:ext cx="2319120" cy="7876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7086600" y="4038480"/>
          <a:ext cx="1957320" cy="85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86600" y="4038480"/>
                    <a:ext cx="1957320" cy="8589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105520" y="5029200"/>
          <a:ext cx="2681280" cy="789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05520" y="5029200"/>
                    <a:ext cx="2681280" cy="78912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4819680" y="5959440"/>
            <a:ext cx="338112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OW CAN ONE REDUCE THE LOSS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851200" y="2819520"/>
          <a:ext cx="1797120" cy="1377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51200" y="2819520"/>
                    <a:ext cx="1797120" cy="13777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4" name="geaux" descr=""/>
          <p:cNvPicPr/>
          <p:nvPr/>
        </p:nvPicPr>
        <p:blipFill>
          <a:blip r:embed="rId1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320" y="376200"/>
          <a:ext cx="2533680" cy="21384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6320" y="376200"/>
                    <a:ext cx="25336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3520" y="-27000"/>
            <a:ext cx="420408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CEPT OF EQUIVALE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7880" y="320760"/>
            <a:ext cx="4661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CONCEPT WILL OFTEN BE USED TO SIMPL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ANALYSIS OF CIRCUITS. WE INTRODUCE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ERE WITH A VERY SIMPLE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066680"/>
          <a:ext cx="4648320" cy="23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464832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78560" y="342900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S FAR AS THE CURRENT IS CONCERNED B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S ARE EQUIVALENT. THE ONE ON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IGHT HAS ONLY ONE RES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69720" y="4233960"/>
          <a:ext cx="377676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720" y="4233960"/>
                    <a:ext cx="37767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896720" y="15840"/>
            <a:ext cx="34876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DIFFERENCE BETWEEN 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ION AND PHYSICAL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99720" y="565200"/>
            <a:ext cx="45547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METIMES, FOR PRACTICAL CONSTR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ASONS, COMPONENTS THAT ARE ELECTR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ED MAY BE PHYSICALLY QUITE A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000760" y="1523880"/>
          <a:ext cx="3487680" cy="8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760" y="1523880"/>
                    <a:ext cx="3487680" cy="839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297400" y="2736720"/>
          <a:ext cx="3160800" cy="123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7400" y="2736720"/>
                    <a:ext cx="3160800" cy="1233720"/>
                  </a:xfrm>
                  <a:prstGeom prst="rect">
                    <a:avLst/>
                  </a:prstGeom>
                  <a:ln w="9360">
                    <a:solidFill>
                      <a:srgbClr val="cc99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375160" y="4376880"/>
          <a:ext cx="3006720" cy="139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75160" y="4376880"/>
                    <a:ext cx="3006720" cy="13921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034600" y="5959440"/>
            <a:ext cx="3487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ALL CASES THE RESISTORS 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ED IN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76320" y="76320"/>
          <a:ext cx="378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320"/>
                    <a:ext cx="378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954960" y="6213600"/>
            <a:ext cx="2100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PONEN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4960" y="117360"/>
            <a:ext cx="2100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NECTOR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0160" y="2513160"/>
            <a:ext cx="1719000" cy="4506840"/>
          </a:xfrm>
          <a:custGeom>
            <a:avLst/>
            <a:gdLst/>
            <a:ahLst/>
            <a:rect l="l" t="t" r="r" b="b"/>
            <a:pathLst>
              <a:path w="1080" h="2840">
                <a:moveTo>
                  <a:pt x="928" y="2496"/>
                </a:moveTo>
                <a:cubicBezTo>
                  <a:pt x="1004" y="2668"/>
                  <a:pt x="1080" y="2840"/>
                  <a:pt x="928" y="2592"/>
                </a:cubicBezTo>
                <a:cubicBezTo>
                  <a:pt x="776" y="2344"/>
                  <a:pt x="32" y="1440"/>
                  <a:pt x="16" y="1008"/>
                </a:cubicBezTo>
                <a:cubicBezTo>
                  <a:pt x="0" y="576"/>
                  <a:pt x="416" y="288"/>
                  <a:pt x="832" y="0"/>
                </a:cubicBezTo>
              </a:path>
            </a:pathLst>
          </a:cu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743200"/>
            <a:ext cx="165240" cy="4711680"/>
          </a:xfrm>
          <a:custGeom>
            <a:avLst/>
            <a:gdLst/>
            <a:ahLst/>
            <a:rect l="l" t="t" r="r" b="b"/>
            <a:pathLst>
              <a:path w="104" h="2968">
                <a:moveTo>
                  <a:pt x="0" y="2544"/>
                </a:moveTo>
                <a:cubicBezTo>
                  <a:pt x="44" y="2756"/>
                  <a:pt x="88" y="2968"/>
                  <a:pt x="96" y="2544"/>
                </a:cubicBezTo>
                <a:cubicBezTo>
                  <a:pt x="104" y="2120"/>
                  <a:pt x="76" y="1060"/>
                  <a:pt x="48" y="0"/>
                </a:cubicBezTo>
              </a:path>
            </a:pathLst>
          </a:cu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59200" y="2743200"/>
            <a:ext cx="164880" cy="4635360"/>
          </a:xfrm>
          <a:custGeom>
            <a:avLst/>
            <a:gdLst/>
            <a:ahLst/>
            <a:rect l="l" t="t" r="r" b="b"/>
            <a:pathLst>
              <a:path w="104" h="2920">
                <a:moveTo>
                  <a:pt x="8" y="2544"/>
                </a:moveTo>
                <a:cubicBezTo>
                  <a:pt x="56" y="2548"/>
                  <a:pt x="104" y="2552"/>
                  <a:pt x="104" y="2544"/>
                </a:cubicBezTo>
                <a:cubicBezTo>
                  <a:pt x="104" y="2536"/>
                  <a:pt x="16" y="2920"/>
                  <a:pt x="8" y="2496"/>
                </a:cubicBezTo>
                <a:cubicBezTo>
                  <a:pt x="0" y="2072"/>
                  <a:pt x="28" y="1036"/>
                  <a:pt x="56" y="0"/>
                </a:cubicBezTo>
              </a:path>
            </a:pathLst>
          </a:cu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3200" y="-63360"/>
            <a:ext cx="1104840" cy="3949560"/>
          </a:xfrm>
          <a:custGeom>
            <a:avLst/>
            <a:gdLst/>
            <a:ahLst/>
            <a:rect l="l" t="t" r="r" b="b"/>
            <a:pathLst>
              <a:path w="696" h="2488">
                <a:moveTo>
                  <a:pt x="680" y="136"/>
                </a:moveTo>
                <a:cubicBezTo>
                  <a:pt x="688" y="68"/>
                  <a:pt x="696" y="0"/>
                  <a:pt x="584" y="136"/>
                </a:cubicBezTo>
                <a:cubicBezTo>
                  <a:pt x="472" y="272"/>
                  <a:pt x="0" y="560"/>
                  <a:pt x="8" y="952"/>
                </a:cubicBezTo>
                <a:cubicBezTo>
                  <a:pt x="16" y="1344"/>
                  <a:pt x="324" y="1916"/>
                  <a:pt x="632" y="2488"/>
                </a:cubicBezTo>
              </a:path>
            </a:pathLst>
          </a:cu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0560" y="955800"/>
            <a:ext cx="3884040" cy="9169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LUSTRATING THE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ETWEEN PHYSICAL LAYOUT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LECTR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990720"/>
            <a:ext cx="1981080" cy="1600200"/>
          </a:xfrm>
          <a:custGeom>
            <a:avLst/>
            <a:gdLst/>
            <a:ahLst/>
            <a:rect l="l" t="t" r="r" b="b"/>
            <a:pathLst>
              <a:path w="1248" h="1008">
                <a:moveTo>
                  <a:pt x="0" y="0"/>
                </a:moveTo>
                <a:lnTo>
                  <a:pt x="0" y="768"/>
                </a:lnTo>
                <a:lnTo>
                  <a:pt x="96" y="864"/>
                </a:lnTo>
                <a:lnTo>
                  <a:pt x="144" y="768"/>
                </a:lnTo>
                <a:lnTo>
                  <a:pt x="1056" y="816"/>
                </a:lnTo>
                <a:lnTo>
                  <a:pt x="1248" y="1008"/>
                </a:lnTo>
              </a:path>
            </a:pathLst>
          </a:custGeom>
          <a:noFill/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52280"/>
            <a:ext cx="1676520" cy="2514600"/>
          </a:xfrm>
          <a:custGeom>
            <a:avLst/>
            <a:gdLst/>
            <a:ahLst/>
            <a:rect l="l" t="t" r="r" b="b"/>
            <a:pathLst>
              <a:path w="1056" h="1584">
                <a:moveTo>
                  <a:pt x="240" y="0"/>
                </a:moveTo>
                <a:lnTo>
                  <a:pt x="48" y="192"/>
                </a:lnTo>
                <a:lnTo>
                  <a:pt x="0" y="1440"/>
                </a:lnTo>
                <a:lnTo>
                  <a:pt x="96" y="1536"/>
                </a:lnTo>
                <a:lnTo>
                  <a:pt x="432" y="1536"/>
                </a:lnTo>
                <a:lnTo>
                  <a:pt x="576" y="1392"/>
                </a:lnTo>
                <a:lnTo>
                  <a:pt x="912" y="1392"/>
                </a:lnTo>
                <a:lnTo>
                  <a:pt x="1056" y="1584"/>
                </a:lnTo>
              </a:path>
            </a:pathLst>
          </a:custGeom>
          <a:noFill/>
          <a:ln w="255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0" y="2022480"/>
            <a:ext cx="3022560" cy="368280"/>
            <a:chOff x="4572000" y="2022480"/>
            <a:chExt cx="3022560" cy="368280"/>
          </a:xfrm>
        </p:grpSpPr>
        <p:sp>
          <p:nvSpPr>
            <p:cNvPr id="130" name=""/>
            <p:cNvSpPr/>
            <p:nvPr/>
          </p:nvSpPr>
          <p:spPr>
            <a:xfrm>
              <a:off x="4572000" y="2209680"/>
              <a:ext cx="990720" cy="0"/>
            </a:xfrm>
            <a:prstGeom prst="line">
              <a:avLst/>
            </a:prstGeom>
            <a:ln w="255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30760" y="2022480"/>
              <a:ext cx="1963800" cy="36828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HYSICAL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572000" y="2479680"/>
            <a:ext cx="3022560" cy="368280"/>
            <a:chOff x="4572000" y="2479680"/>
            <a:chExt cx="3022560" cy="368280"/>
          </a:xfrm>
        </p:grpSpPr>
        <p:sp>
          <p:nvSpPr>
            <p:cNvPr id="133" name=""/>
            <p:cNvSpPr/>
            <p:nvPr/>
          </p:nvSpPr>
          <p:spPr>
            <a:xfrm>
              <a:off x="4572000" y="2666880"/>
              <a:ext cx="9907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30760" y="2479680"/>
              <a:ext cx="1963800" cy="36828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HYSICAL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668840" y="3597120"/>
            <a:ext cx="391464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TION OF 14.4 KB VOICE/DATA MOD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029200"/>
            <a:ext cx="114300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89520" y="4892760"/>
            <a:ext cx="2314440" cy="30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RRESPONDING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5715000" y="4427640"/>
          <a:ext cx="2057400" cy="16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427640"/>
                    <a:ext cx="205740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80880" y="533520"/>
          <a:ext cx="3353040" cy="33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520"/>
                    <a:ext cx="3353040" cy="33433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390320" y="-4680"/>
            <a:ext cx="58042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RST GENERALIZATION: MULTIPLE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62160" y="1569960"/>
            <a:ext cx="1068120" cy="1467000"/>
          </a:xfrm>
          <a:custGeom>
            <a:avLst/>
            <a:gdLst/>
            <a:ahLst/>
            <a:rect l="l" t="t" r="r" b="b"/>
            <a:pathLst>
              <a:path w="673" h="924">
                <a:moveTo>
                  <a:pt x="8" y="0"/>
                </a:moveTo>
                <a:cubicBezTo>
                  <a:pt x="178" y="3"/>
                  <a:pt x="349" y="4"/>
                  <a:pt x="519" y="8"/>
                </a:cubicBezTo>
                <a:cubicBezTo>
                  <a:pt x="559" y="9"/>
                  <a:pt x="640" y="16"/>
                  <a:pt x="640" y="16"/>
                </a:cubicBezTo>
                <a:cubicBezTo>
                  <a:pt x="644" y="196"/>
                  <a:pt x="646" y="434"/>
                  <a:pt x="656" y="624"/>
                </a:cubicBezTo>
                <a:cubicBezTo>
                  <a:pt x="658" y="662"/>
                  <a:pt x="662" y="700"/>
                  <a:pt x="665" y="738"/>
                </a:cubicBezTo>
                <a:cubicBezTo>
                  <a:pt x="668" y="781"/>
                  <a:pt x="673" y="868"/>
                  <a:pt x="673" y="868"/>
                </a:cubicBezTo>
                <a:cubicBezTo>
                  <a:pt x="450" y="889"/>
                  <a:pt x="224" y="924"/>
                  <a:pt x="0" y="924"/>
                </a:cubicBezTo>
                <a:cubicBezTo>
                  <a:pt x="0" y="724"/>
                  <a:pt x="0" y="524"/>
                  <a:pt x="0" y="3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32080" y="22240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720" y="3652920"/>
            <a:ext cx="6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KV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52280" y="4038480"/>
                <a:ext cx="4419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230040" y="4505400"/>
            <a:ext cx="39754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llect all sources on one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876920"/>
                <a:ext cx="41907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55840" y="5475240"/>
                <a:ext cx="20397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457200" y="5334120"/>
            <a:ext cx="2514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6019920"/>
            <a:ext cx="60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334120" y="5060880"/>
                <a:ext cx="4856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567480" y="3962520"/>
                <a:ext cx="363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772400" y="5105520"/>
                <a:ext cx="3668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072680" y="380880"/>
            <a:ext cx="428472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sources in series can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lgebraically added to form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quivalent sou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28960" y="1955880"/>
            <a:ext cx="523584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select the reference direction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ove along the p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drops are subtracted from 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143000" y="1066680"/>
                <a:ext cx="3636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43200" y="2590920"/>
                <a:ext cx="3668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990720" y="457200"/>
                <a:ext cx="582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505320" y="2438280"/>
                <a:ext cx="3031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6160" y="1136520"/>
                <a:ext cx="190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46200" y="304920"/>
                <a:ext cx="4813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664080" y="1085760"/>
                <a:ext cx="257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347920" y="3809880"/>
                <a:ext cx="55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17440" y="2590920"/>
                <a:ext cx="214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28600" y="233280"/>
          <a:ext cx="390060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390060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8240" y="23760"/>
            <a:ext cx="6429240" cy="3988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ECOND GENERALIZATION: MULTIPLE RE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371600" y="1224000"/>
            <a:ext cx="1752480" cy="1143000"/>
            <a:chOff x="1371600" y="1224000"/>
            <a:chExt cx="1752480" cy="1143000"/>
          </a:xfrm>
        </p:grpSpPr>
        <p:sp>
          <p:nvSpPr>
            <p:cNvPr id="176" name=""/>
            <p:cNvSpPr/>
            <p:nvPr/>
          </p:nvSpPr>
          <p:spPr>
            <a:xfrm>
              <a:off x="1371600" y="1224000"/>
              <a:ext cx="1752480" cy="114300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576"/>
                  </a:moveTo>
                  <a:lnTo>
                    <a:pt x="0" y="0"/>
                  </a:lnTo>
                  <a:lnTo>
                    <a:pt x="1104" y="0"/>
                  </a:lnTo>
                  <a:lnTo>
                    <a:pt x="1104" y="720"/>
                  </a:lnTo>
                  <a:lnTo>
                    <a:pt x="96" y="72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32880" y="1528920"/>
              <a:ext cx="146088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PPLY 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O THIS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304920" y="3205080"/>
          <a:ext cx="3257280" cy="3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205080"/>
                    <a:ext cx="3257280" cy="3970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04920" y="3662280"/>
          <a:ext cx="4182840" cy="72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662280"/>
                    <a:ext cx="4182840" cy="7272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33520" y="4424400"/>
          <a:ext cx="345096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424400"/>
                    <a:ext cx="3450960" cy="3636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28600" y="4805280"/>
          <a:ext cx="1700280" cy="87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805280"/>
                    <a:ext cx="1700280" cy="8715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286000" y="5491080"/>
          <a:ext cx="1957320" cy="933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5491080"/>
                    <a:ext cx="1957320" cy="9334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17000" y="6329520"/>
            <a:ext cx="434124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 DIVISION FOR MULTIPLE RESI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09480" y="5796000"/>
                <a:ext cx="1600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4724280" y="584280"/>
            <a:ext cx="3996000" cy="2481120"/>
            <a:chOff x="4724280" y="584280"/>
            <a:chExt cx="3996000" cy="2481120"/>
          </a:xfrm>
        </p:grpSpPr>
        <p:graphicFrame>
          <p:nvGraphicFramePr>
            <p:cNvPr id="191" name=""/>
            <p:cNvGraphicFramePr/>
            <p:nvPr/>
          </p:nvGraphicFramePr>
          <p:xfrm>
            <a:off x="4724280" y="888840"/>
            <a:ext cx="3996000" cy="2176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24280" y="888840"/>
                      <a:ext cx="3996000" cy="217656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5562720" y="584280"/>
                  <a:ext cx="190476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d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" name=""/>
          <p:cNvGrpSpPr/>
          <p:nvPr/>
        </p:nvGrpSpPr>
        <p:grpSpPr>
          <a:xfrm>
            <a:off x="6095880" y="1617840"/>
            <a:ext cx="1447560" cy="761760"/>
            <a:chOff x="6095880" y="1617840"/>
            <a:chExt cx="1447560" cy="761760"/>
          </a:xfrm>
        </p:grpSpPr>
        <p:sp>
          <p:nvSpPr>
            <p:cNvPr id="195" name=""/>
            <p:cNvSpPr/>
            <p:nvPr/>
          </p:nvSpPr>
          <p:spPr>
            <a:xfrm>
              <a:off x="6095880" y="1617840"/>
              <a:ext cx="1447560" cy="76176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576"/>
                  </a:moveTo>
                  <a:lnTo>
                    <a:pt x="0" y="0"/>
                  </a:lnTo>
                  <a:lnTo>
                    <a:pt x="1104" y="0"/>
                  </a:lnTo>
                  <a:lnTo>
                    <a:pt x="1104" y="720"/>
                  </a:lnTo>
                  <a:lnTo>
                    <a:pt x="96" y="72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7240" y="1770120"/>
              <a:ext cx="1278000" cy="45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APPLY KV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TO THIS 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5029200" y="3141720"/>
          <a:ext cx="3444840" cy="428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9200" y="3141720"/>
                    <a:ext cx="3444840" cy="4284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095880" y="3598920"/>
          <a:ext cx="1068480" cy="30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95880" y="3598920"/>
                    <a:ext cx="1068480" cy="3049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6553080" y="1389240"/>
            <a:ext cx="2438280" cy="1269360"/>
            <a:chOff x="6553080" y="1389240"/>
            <a:chExt cx="2438280" cy="1269360"/>
          </a:xfrm>
        </p:grpSpPr>
        <p:sp>
          <p:nvSpPr>
            <p:cNvPr id="202" name=""/>
            <p:cNvSpPr/>
            <p:nvPr/>
          </p:nvSpPr>
          <p:spPr>
            <a:xfrm>
              <a:off x="6553080" y="1389240"/>
              <a:ext cx="1066680" cy="1218960"/>
            </a:xfrm>
            <a:custGeom>
              <a:avLst/>
              <a:gdLst/>
              <a:ahLst/>
              <a:rect l="l" t="t" r="r" b="b"/>
              <a:pathLst>
                <a:path w="672" h="768">
                  <a:moveTo>
                    <a:pt x="0" y="48"/>
                  </a:moveTo>
                  <a:lnTo>
                    <a:pt x="672" y="768"/>
                  </a:lnTo>
                  <a:lnTo>
                    <a:pt x="672" y="0"/>
                  </a:ln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7619760" y="2366640"/>
                  <a:ext cx="137160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OP  FOR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718160" y="4000680"/>
                <a:ext cx="400032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L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876920" y="4437000"/>
                <a:ext cx="39621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WER ON 30k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ISTO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6" name="geaux" descr=""/>
          <p:cNvPicPr/>
          <p:nvPr/>
        </p:nvPicPr>
        <p:blipFill>
          <a:blip r:embed="rId1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92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66320" y="61920"/>
            <a:ext cx="415836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HE “INVERSE”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947880" y="5667480"/>
                <a:ext cx="2784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NVERSE</m:t>
                        </m:r>
                        <m:r>
                          <m:rPr>
                            <m:lit/>
                            <m:nor/>
                          </m:rPr>
                          <m:t xml:space="preserve">  DIVIDE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4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1" name=""/>
          <p:cNvGraphicFramePr/>
          <p:nvPr/>
        </p:nvGraphicFramePr>
        <p:xfrm>
          <a:off x="0" y="407880"/>
          <a:ext cx="487692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7880"/>
                    <a:ext cx="4876920" cy="2498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304920" y="3429000"/>
            <a:ext cx="4038480" cy="2055960"/>
            <a:chOff x="304920" y="3429000"/>
            <a:chExt cx="4038480" cy="2055960"/>
          </a:xfrm>
        </p:grpSpPr>
        <p:graphicFrame>
          <p:nvGraphicFramePr>
            <p:cNvPr id="214" name=""/>
            <p:cNvGraphicFramePr/>
            <p:nvPr/>
          </p:nvGraphicFramePr>
          <p:xfrm>
            <a:off x="304920" y="3733920"/>
            <a:ext cx="4038480" cy="175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3733920"/>
                      <a:ext cx="4038480" cy="175104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371600" y="3429000"/>
                  <a:ext cx="138420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MPUTE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7" name=""/>
          <p:cNvGraphicFramePr/>
          <p:nvPr/>
        </p:nvGraphicFramePr>
        <p:xfrm>
          <a:off x="4952880" y="19080"/>
          <a:ext cx="3894120" cy="234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9080"/>
                    <a:ext cx="389412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6553080" y="1219320"/>
            <a:ext cx="1447560" cy="761760"/>
            <a:chOff x="6553080" y="1219320"/>
            <a:chExt cx="1447560" cy="761760"/>
          </a:xfrm>
        </p:grpSpPr>
        <p:sp>
          <p:nvSpPr>
            <p:cNvPr id="220" name=""/>
            <p:cNvSpPr/>
            <p:nvPr/>
          </p:nvSpPr>
          <p:spPr>
            <a:xfrm>
              <a:off x="6553080" y="1219320"/>
              <a:ext cx="1447560" cy="76176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576"/>
                  </a:moveTo>
                  <a:lnTo>
                    <a:pt x="0" y="0"/>
                  </a:lnTo>
                  <a:lnTo>
                    <a:pt x="1104" y="0"/>
                  </a:lnTo>
                  <a:lnTo>
                    <a:pt x="1104" y="720"/>
                  </a:lnTo>
                  <a:lnTo>
                    <a:pt x="96" y="720"/>
                  </a:ln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34440" y="1371600"/>
              <a:ext cx="1278000" cy="459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APPLY KV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TO THIS 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724280" y="2411280"/>
                <a:ext cx="434340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7086600" y="1066680"/>
            <a:ext cx="990720" cy="1219320"/>
          </a:xfrm>
          <a:custGeom>
            <a:avLst/>
            <a:gdLst/>
            <a:ahLst/>
            <a:rect l="l" t="t" r="r" b="b"/>
            <a:pathLst>
              <a:path w="624" h="768">
                <a:moveTo>
                  <a:pt x="0" y="0"/>
                </a:moveTo>
                <a:lnTo>
                  <a:pt x="624" y="768"/>
                </a:lnTo>
                <a:lnTo>
                  <a:pt x="624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334120" y="2698920"/>
                <a:ext cx="33526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5" name=""/>
          <p:cNvGraphicFramePr/>
          <p:nvPr/>
        </p:nvGraphicFramePr>
        <p:xfrm>
          <a:off x="4876920" y="3483000"/>
          <a:ext cx="4190760" cy="182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483000"/>
                    <a:ext cx="419076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407200" y="4292640"/>
                <a:ext cx="307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867280" y="5835600"/>
                <a:ext cx="2222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19920" y="5349960"/>
            <a:ext cx="263448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VERSE DIVIDER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685800"/>
          <a:ext cx="461952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461952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0520" y="533520"/>
            <a:ext cx="92736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143000" y="1676520"/>
            <a:ext cx="1447560" cy="761760"/>
            <a:chOff x="1143000" y="1676520"/>
            <a:chExt cx="1447560" cy="761760"/>
          </a:xfrm>
        </p:grpSpPr>
        <p:sp>
          <p:nvSpPr>
            <p:cNvPr id="237" name=""/>
            <p:cNvSpPr/>
            <p:nvPr/>
          </p:nvSpPr>
          <p:spPr>
            <a:xfrm>
              <a:off x="1143000" y="1676520"/>
              <a:ext cx="1447560" cy="76176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576"/>
                  </a:moveTo>
                  <a:lnTo>
                    <a:pt x="0" y="0"/>
                  </a:lnTo>
                  <a:lnTo>
                    <a:pt x="1104" y="0"/>
                  </a:lnTo>
                  <a:lnTo>
                    <a:pt x="1104" y="720"/>
                  </a:lnTo>
                  <a:lnTo>
                    <a:pt x="96" y="72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4360" y="1828800"/>
              <a:ext cx="1278000" cy="45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APPLY KV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TO THIS 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04920" y="4019400"/>
                <a:ext cx="28065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193920" y="4019400"/>
                <a:ext cx="762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80880" y="4400640"/>
                <a:ext cx="24386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895480" y="4400640"/>
                <a:ext cx="990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0880" y="4781520"/>
                <a:ext cx="20448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" name=""/>
          <p:cNvGrpSpPr/>
          <p:nvPr/>
        </p:nvGrpSpPr>
        <p:grpSpPr>
          <a:xfrm>
            <a:off x="1523880" y="1447920"/>
            <a:ext cx="533520" cy="228600"/>
            <a:chOff x="1523880" y="1447920"/>
            <a:chExt cx="533520" cy="228600"/>
          </a:xfrm>
        </p:grpSpPr>
        <p:sp>
          <p:nvSpPr>
            <p:cNvPr id="245" name=""/>
            <p:cNvSpPr/>
            <p:nvPr/>
          </p:nvSpPr>
          <p:spPr>
            <a:xfrm>
              <a:off x="1523880" y="144792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1601640" y="1486080"/>
                  <a:ext cx="1508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04920" y="5138640"/>
                <a:ext cx="4343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ASSIVE SIGN CONVENTIO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80880" y="5543640"/>
                <a:ext cx="2590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MS' LAW:  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80880" y="6153120"/>
                <a:ext cx="2590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0" name=""/>
          <p:cNvGrpSpPr/>
          <p:nvPr/>
        </p:nvGrpSpPr>
        <p:grpSpPr>
          <a:xfrm>
            <a:off x="5029200" y="228600"/>
            <a:ext cx="3843360" cy="4267080"/>
            <a:chOff x="5029200" y="228600"/>
            <a:chExt cx="3843360" cy="4267080"/>
          </a:xfrm>
        </p:grpSpPr>
        <p:graphicFrame>
          <p:nvGraphicFramePr>
            <p:cNvPr id="251" name=""/>
            <p:cNvGraphicFramePr/>
            <p:nvPr/>
          </p:nvGraphicFramePr>
          <p:xfrm>
            <a:off x="5029200" y="457200"/>
            <a:ext cx="3843360" cy="4038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29200" y="457200"/>
                      <a:ext cx="3843360" cy="403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>
              <a:off x="5111640" y="228600"/>
              <a:ext cx="92736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X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867280" y="1295280"/>
            <a:ext cx="1904760" cy="1066680"/>
            <a:chOff x="5867280" y="1295280"/>
            <a:chExt cx="1904760" cy="1066680"/>
          </a:xfrm>
        </p:grpSpPr>
        <p:grpSp>
          <p:nvGrpSpPr>
            <p:cNvPr id="255" name=""/>
            <p:cNvGrpSpPr/>
            <p:nvPr/>
          </p:nvGrpSpPr>
          <p:grpSpPr>
            <a:xfrm>
              <a:off x="6324480" y="1600200"/>
              <a:ext cx="1447560" cy="761760"/>
              <a:chOff x="6324480" y="1600200"/>
              <a:chExt cx="1447560" cy="761760"/>
            </a:xfrm>
          </p:grpSpPr>
          <p:sp>
            <p:nvSpPr>
              <p:cNvPr id="256" name=""/>
              <p:cNvSpPr/>
              <p:nvPr/>
            </p:nvSpPr>
            <p:spPr>
              <a:xfrm>
                <a:off x="6324480" y="1600200"/>
                <a:ext cx="1447560" cy="761760"/>
              </a:xfrm>
              <a:custGeom>
                <a:avLst/>
                <a:gdLst/>
                <a:ahLst/>
                <a:rect l="l" t="t" r="r" b="b"/>
                <a:pathLst>
                  <a:path w="1104" h="720">
                    <a:moveTo>
                      <a:pt x="0" y="576"/>
                    </a:moveTo>
                    <a:lnTo>
                      <a:pt x="0" y="0"/>
                    </a:lnTo>
                    <a:lnTo>
                      <a:pt x="1104" y="0"/>
                    </a:lnTo>
                    <a:lnTo>
                      <a:pt x="1104" y="720"/>
                    </a:lnTo>
                    <a:lnTo>
                      <a:pt x="96" y="720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05480" y="1752480"/>
                <a:ext cx="1186560" cy="4590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Lucida Console"/>
                  </a:rPr>
                  <a:t>DETERMINE 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Lucida Console"/>
                  </a:rPr>
                  <a:t>USING KV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867280" y="1295280"/>
              <a:ext cx="1219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6477120" y="1371600"/>
                  <a:ext cx="1508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876920" y="4876920"/>
                <a:ext cx="3746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-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k*I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k*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k*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442280" y="5130720"/>
                <a:ext cx="1701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781680" y="4114800"/>
                <a:ext cx="69876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781680" y="3581280"/>
                <a:ext cx="137160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5410080" y="1371600"/>
            <a:ext cx="2743200" cy="1066680"/>
            <a:chOff x="5410080" y="1371600"/>
            <a:chExt cx="2743200" cy="1066680"/>
          </a:xfrm>
        </p:grpSpPr>
        <p:sp>
          <p:nvSpPr>
            <p:cNvPr id="265" name=""/>
            <p:cNvSpPr/>
            <p:nvPr/>
          </p:nvSpPr>
          <p:spPr>
            <a:xfrm>
              <a:off x="5562720" y="1371600"/>
              <a:ext cx="2590560" cy="1066680"/>
            </a:xfrm>
            <a:custGeom>
              <a:avLst/>
              <a:gdLst/>
              <a:ahLst/>
              <a:rect l="l" t="t" r="r" b="b"/>
              <a:pathLst>
                <a:path w="1632" h="672">
                  <a:moveTo>
                    <a:pt x="1632" y="672"/>
                  </a:moveTo>
                  <a:lnTo>
                    <a:pt x="0" y="0"/>
                  </a:lnTo>
                  <a:lnTo>
                    <a:pt x="0" y="576"/>
                  </a:lnTo>
                  <a:lnTo>
                    <a:pt x="1152" y="576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5410080" y="1981080"/>
                  <a:ext cx="11685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FOR 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952880" y="5791320"/>
                <a:ext cx="25909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934320" y="6095880"/>
                <a:ext cx="13716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9" name="stop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33520" y="0"/>
            <a:ext cx="2438280" cy="1371600"/>
            <a:chOff x="533520" y="0"/>
            <a:chExt cx="2438280" cy="1371600"/>
          </a:xfrm>
        </p:grpSpPr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838080" y="0"/>
                  <a:ext cx="148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3" name=""/>
            <p:cNvSpPr/>
            <p:nvPr/>
          </p:nvSpPr>
          <p:spPr>
            <a:xfrm flipV="1">
              <a:off x="2971800" y="228240"/>
              <a:ext cx="0" cy="1066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33520" y="0"/>
              <a:ext cx="0" cy="1371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85800" y="228600"/>
            <a:ext cx="3264840" cy="990720"/>
            <a:chOff x="685800" y="228600"/>
            <a:chExt cx="3264840" cy="990720"/>
          </a:xfrm>
        </p:grpSpPr>
        <p:sp>
          <p:nvSpPr>
            <p:cNvPr id="276" name=""/>
            <p:cNvSpPr/>
            <p:nvPr/>
          </p:nvSpPr>
          <p:spPr>
            <a:xfrm>
              <a:off x="2916360" y="228600"/>
              <a:ext cx="1034280" cy="307080"/>
            </a:xfrm>
            <a:prstGeom prst="rect">
              <a:avLst/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228600"/>
              <a:ext cx="2133720" cy="990720"/>
            </a:xfrm>
            <a:custGeom>
              <a:avLst/>
              <a:gdLst/>
              <a:ahLst/>
              <a:rect l="l" t="t" r="r" b="b"/>
              <a:pathLst>
                <a:path w="1344" h="624">
                  <a:moveTo>
                    <a:pt x="1344" y="0"/>
                  </a:moveTo>
                  <a:lnTo>
                    <a:pt x="0" y="0"/>
                  </a:lnTo>
                  <a:lnTo>
                    <a:pt x="96" y="624"/>
                  </a:lnTo>
                  <a:lnTo>
                    <a:pt x="1344" y="624"/>
                  </a:lnTo>
                  <a:lnTo>
                    <a:pt x="1344" y="14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04880" y="281160"/>
            <a:ext cx="2190600" cy="2616840"/>
            <a:chOff x="704880" y="281160"/>
            <a:chExt cx="2190600" cy="2616840"/>
          </a:xfrm>
        </p:grpSpPr>
        <p:sp>
          <p:nvSpPr>
            <p:cNvPr id="279" name=""/>
            <p:cNvSpPr/>
            <p:nvPr/>
          </p:nvSpPr>
          <p:spPr>
            <a:xfrm>
              <a:off x="1394280" y="2590920"/>
              <a:ext cx="1354320" cy="307080"/>
            </a:xfrm>
            <a:prstGeom prst="rect">
              <a:avLst/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R KVL 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4880" y="281160"/>
              <a:ext cx="2190600" cy="2130120"/>
            </a:xfrm>
            <a:custGeom>
              <a:avLst/>
              <a:gdLst/>
              <a:ahLst/>
              <a:rect l="l" t="t" r="r" b="b"/>
              <a:pathLst>
                <a:path w="1380" h="1342">
                  <a:moveTo>
                    <a:pt x="1380" y="15"/>
                  </a:moveTo>
                  <a:cubicBezTo>
                    <a:pt x="1000" y="0"/>
                    <a:pt x="614" y="15"/>
                    <a:pt x="234" y="10"/>
                  </a:cubicBezTo>
                  <a:cubicBezTo>
                    <a:pt x="144" y="5"/>
                    <a:pt x="95" y="10"/>
                    <a:pt x="16" y="10"/>
                  </a:cubicBezTo>
                  <a:cubicBezTo>
                    <a:pt x="13" y="275"/>
                    <a:pt x="0" y="540"/>
                    <a:pt x="0" y="805"/>
                  </a:cubicBezTo>
                  <a:cubicBezTo>
                    <a:pt x="0" y="940"/>
                    <a:pt x="3" y="1075"/>
                    <a:pt x="8" y="1210"/>
                  </a:cubicBezTo>
                  <a:cubicBezTo>
                    <a:pt x="9" y="1227"/>
                    <a:pt x="11" y="1342"/>
                    <a:pt x="31" y="1319"/>
                  </a:cubicBezTo>
                  <a:cubicBezTo>
                    <a:pt x="459" y="1332"/>
                    <a:pt x="889" y="1327"/>
                    <a:pt x="1317" y="1327"/>
                  </a:cubicBezTo>
                  <a:cubicBezTo>
                    <a:pt x="1325" y="801"/>
                    <a:pt x="1202" y="928"/>
                    <a:pt x="1333" y="797"/>
                  </a:cubicBezTo>
                </a:path>
              </a:pathLst>
            </a:custGeom>
            <a:noFill/>
            <a:ln w="2844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505320" y="1066680"/>
            <a:ext cx="114300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1600200"/>
            <a:ext cx="114300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05320" y="2057400"/>
            <a:ext cx="114300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9T12:07:19Z</dcterms:created>
  <dc:creator>Jorge Aravena</dc:creator>
  <dc:description/>
  <dc:language>en-US</dc:language>
  <cp:lastModifiedBy>Jorge Aravena</cp:lastModifiedBy>
  <dcterms:modified xsi:type="dcterms:W3CDTF">2001-03-22T13:25:42Z</dcterms:modified>
  <cp:revision>23</cp:revision>
  <dc:subject/>
  <dc:title>No Slide Title</dc:title>
</cp:coreProperties>
</file>