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EE7-B62D-484F-B06E-2205A809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1F4-056E-44F1-B7D5-D45A491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DB5-FCDF-4DBA-A3DC-6DAC6671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B57-322A-484D-94C2-B9D80232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04B-58A0-4CA4-BB42-936605D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77A-8FB2-4170-9319-1A54CEF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1E7-BEB9-4889-8943-4AA5CEA3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040-0D6D-44D0-8B0E-A59AF19B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CE1-EA17-4EE5-813F-76A4F50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7D1-2BB8-4BF2-AB8A-85A7A0E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947-ACBF-4C35-B639-2355EE4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E4B-E99D-4993-A061-EE74F7EB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4F17-606A-4DE6-AE5F-74967D786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101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106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1-04-23T21:00:04Z</dcterms:modified>
  <cp:revision>1</cp:revision>
  <dc:subject/>
  <dc:title>No Slide Title</dc:title>
</cp:coreProperties>
</file>