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2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2.wmf" ContentType="image/x-wmf"/>
  <Override PartName="/ppt/media/image3.png" ContentType="image/png"/>
  <Override PartName="/ppt/media/image17.jpeg" ContentType="image/jpeg"/>
  <Override PartName="/ppt/media/image4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8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9AD82-6F2B-49A3-B49D-4A1712520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8BC98-1396-4C32-89DF-69976C67A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C9282-AC92-4F7C-8BFF-C153818EF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D78DB-137C-4E5E-B427-58C09FDF7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EB6DC-56E5-4F95-A132-23E4C4EF2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2988A-0977-40B4-B3AC-96EA404CC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FF1BB-D92C-4F54-A9C7-A2C923DB4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A6F78-4CCA-4E44-8530-A915BEED8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96BB0-02D4-4C2F-A282-CC0A18D84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ABB83-903D-480C-AD42-553C190DB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D9662-EF9F-4F85-BB68-185495DF8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2D855-541E-4030-AB49-E3E505A4C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3622C-F3FB-4BC2-842B-034912E6ED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png"/><Relationship Id="rId4" Type="http://schemas.openxmlformats.org/officeDocument/2006/relationships/image" Target="../media/image4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760" y="0"/>
            <a:ext cx="26726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APPL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805120" y="0"/>
            <a:ext cx="21160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HEART PACEMA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4775040" y="41400"/>
            <a:ext cx="4368960" cy="3388320"/>
            <a:chOff x="4775040" y="41400"/>
            <a:chExt cx="4368960" cy="3388320"/>
          </a:xfrm>
        </p:grpSpPr>
        <p:grpSp>
          <p:nvGrpSpPr>
            <p:cNvPr id="44" name=""/>
            <p:cNvGrpSpPr/>
            <p:nvPr/>
          </p:nvGrpSpPr>
          <p:grpSpPr>
            <a:xfrm>
              <a:off x="4876920" y="41400"/>
              <a:ext cx="4267080" cy="3388320"/>
              <a:chOff x="4876920" y="41400"/>
              <a:chExt cx="4267080" cy="3388320"/>
            </a:xfrm>
          </p:grpSpPr>
          <p:grpSp>
            <p:nvGrpSpPr>
              <p:cNvPr id="45" name=""/>
              <p:cNvGrpSpPr/>
              <p:nvPr/>
            </p:nvGrpSpPr>
            <p:grpSpPr>
              <a:xfrm>
                <a:off x="5029200" y="41400"/>
                <a:ext cx="4114800" cy="1177920"/>
                <a:chOff x="5029200" y="41400"/>
                <a:chExt cx="4114800" cy="1177920"/>
              </a:xfrm>
            </p:grpSpPr>
            <p:graphicFrame>
              <p:nvGraphicFramePr>
                <p:cNvPr id="46" name=""/>
                <p:cNvGraphicFramePr/>
                <p:nvPr/>
              </p:nvGraphicFramePr>
              <p:xfrm>
                <a:off x="5029200" y="41400"/>
                <a:ext cx="4114800" cy="1177920"/>
              </p:xfrm>
              <a:graphic>
                <a:graphicData uri="http://schemas.openxmlformats.org/presentationml/2006/ole">
                  <p:oleObj r:id="rId1" spid="">
                    <p:embed/>
                    <p:pic>
                      <p:nvPicPr>
                        <p:cNvPr id="47" name="" descr=""/>
                        <p:cNvPicPr/>
                        <p:nvPr/>
                      </p:nvPicPr>
                      <p:blipFill>
                        <a:blip r:embed="rId2"/>
                        <a:stretch/>
                      </p:blipFill>
                      <p:spPr>
                        <a:xfrm>
                          <a:off x="5029200" y="41400"/>
                          <a:ext cx="4114800" cy="117792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mc:AlternateContent>
              <mc:Choice xmlns:a14="http://schemas.microsoft.com/office/drawing/2010/main" Requires="a14">
                <p:sp>
                  <p:nvSpPr>
                    <p:cNvPr id="48" name=""/>
                    <p:cNvSpPr txBox="1"/>
                    <p:nvPr/>
                  </p:nvSpPr>
                  <p:spPr>
                    <a:xfrm>
                      <a:off x="8824680" y="513720"/>
                      <a:ext cx="177120" cy="18936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t xml:space="preserve">μ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</p:grpSp>
          <p:graphicFrame>
            <p:nvGraphicFramePr>
              <p:cNvPr id="49" name=""/>
              <p:cNvGraphicFramePr/>
              <p:nvPr/>
            </p:nvGraphicFramePr>
            <p:xfrm>
              <a:off x="4876920" y="1187280"/>
              <a:ext cx="3292200" cy="195120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50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4876920" y="1187280"/>
                        <a:ext cx="3292200" cy="19512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51" name=""/>
              <p:cNvSpPr/>
              <p:nvPr/>
            </p:nvSpPr>
            <p:spPr>
              <a:xfrm>
                <a:off x="6130800" y="1474920"/>
                <a:ext cx="2312640" cy="33732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Simplified SCR model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7181280" y="3092400"/>
                <a:ext cx="1241280" cy="33732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SCR “fires”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53" name=""/>
                <p:cNvSpPr txBox="1"/>
                <p:nvPr/>
              </p:nvSpPr>
              <p:spPr>
                <a:xfrm>
                  <a:off x="4775040" y="1760400"/>
                  <a:ext cx="559080" cy="265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50</m:t>
                      </m:r>
                      <m:r>
                        <m:t xml:space="preserve">μA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4" name=""/>
          <p:cNvGrpSpPr/>
          <p:nvPr/>
        </p:nvGrpSpPr>
        <p:grpSpPr>
          <a:xfrm>
            <a:off x="0" y="3505320"/>
            <a:ext cx="4114800" cy="2171520"/>
            <a:chOff x="0" y="3505320"/>
            <a:chExt cx="4114800" cy="2171520"/>
          </a:xfrm>
        </p:grpSpPr>
        <p:pic>
          <p:nvPicPr>
            <p:cNvPr id="55" name="F06.042_W0654" descr=""/>
            <p:cNvPicPr/>
            <p:nvPr/>
          </p:nvPicPr>
          <p:blipFill>
            <a:blip r:embed="rId5"/>
            <a:stretch/>
          </p:blipFill>
          <p:spPr>
            <a:xfrm>
              <a:off x="0" y="3754440"/>
              <a:ext cx="4114800" cy="19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3840" y="3505320"/>
              <a:ext cx="176400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harging pha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0120" y="5773680"/>
            <a:ext cx="4410000" cy="841320"/>
            <a:chOff x="60120" y="5773680"/>
            <a:chExt cx="4410000" cy="841320"/>
          </a:xfrm>
        </p:grpSpPr>
        <p:sp>
          <p:nvSpPr>
            <p:cNvPr id="58" name=""/>
            <p:cNvSpPr/>
            <p:nvPr/>
          </p:nvSpPr>
          <p:spPr>
            <a:xfrm>
              <a:off x="60120" y="5773680"/>
              <a:ext cx="4410000" cy="5806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s soon as the SCR switches off th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apacitor starts charging. Hence, assum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9" name=""/>
                <p:cNvSpPr txBox="1"/>
                <p:nvPr/>
              </p:nvSpPr>
              <p:spPr>
                <a:xfrm>
                  <a:off x="1219320" y="6324480"/>
                  <a:ext cx="10540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0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4572000" y="3429000"/>
                <a:ext cx="229860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4572000" y="3962520"/>
                <a:ext cx="15112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τ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C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6</m:t>
                        </m:r>
                      </m:sup>
                    </m:sSup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4572000" y="4267080"/>
                <a:ext cx="15620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∞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V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4572000" y="4572000"/>
                <a:ext cx="21718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  <m:r>
                      <m:t xml:space="preserve">V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7010280" y="4114800"/>
                <a:ext cx="8254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6</m:t>
                        </m:r>
                      </m:e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5257800" y="4876920"/>
                <a:ext cx="236232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8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C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6" name=""/>
          <p:cNvSpPr/>
          <p:nvPr/>
        </p:nvSpPr>
        <p:spPr>
          <a:xfrm>
            <a:off x="297360" y="2344680"/>
            <a:ext cx="408528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ind R so that the SCR is ready to fi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fter one second of capacitor charg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4952880" y="5410080"/>
                <a:ext cx="3391200" cy="52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equired: 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8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C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4876920" y="5943600"/>
                <a:ext cx="23112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C</m:t>
                            </m:r>
                          </m:den>
                        </m:f>
                      </m:sup>
                    </m:sSup>
                    <m:r>
                      <m:t xml:space="preserve">=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8</m:t>
                    </m:r>
                    <m:r>
                      <m:t xml:space="preserve">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RC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5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7162920" y="6095880"/>
                <a:ext cx="133344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R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69</m:t>
                    </m:r>
                    <m:r>
                      <m:t xml:space="preserve">k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7238880" y="6324480"/>
                <a:ext cx="132084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τ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C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69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71" name="geaux" descr=""/>
          <p:cNvPicPr/>
          <p:nvPr/>
        </p:nvPicPr>
        <p:blipFill>
          <a:blip r:embed="rId6"/>
          <a:stretch/>
        </p:blipFill>
        <p:spPr>
          <a:xfrm>
            <a:off x="841068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72" name="">
            <a:hlinkClick r:id="" action="ppaction://hlinkshowjump?jump=nextslide"/>
          </p:cNvPr>
          <p:cNvSpPr/>
          <p:nvPr/>
        </p:nvSpPr>
        <p:spPr>
          <a:xfrm>
            <a:off x="4662360" y="66150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>
            <a:hlinkClick r:id="" action="ppaction://hlinkshowjump?jump=previousslide"/>
          </p:cNvPr>
          <p:cNvSpPr/>
          <p:nvPr/>
        </p:nvSpPr>
        <p:spPr>
          <a:xfrm>
            <a:off x="412920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F06.040_W0652" descr=""/>
          <p:cNvPicPr/>
          <p:nvPr/>
        </p:nvPicPr>
        <p:blipFill>
          <a:blip r:embed="rId7"/>
          <a:stretch/>
        </p:blipFill>
        <p:spPr>
          <a:xfrm>
            <a:off x="0" y="360360"/>
            <a:ext cx="4572000" cy="193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F06.043_W0655" descr=""/>
          <p:cNvPicPr/>
          <p:nvPr/>
        </p:nvPicPr>
        <p:blipFill>
          <a:blip r:embed="rId1"/>
          <a:stretch/>
        </p:blipFill>
        <p:spPr>
          <a:xfrm>
            <a:off x="152280" y="368280"/>
            <a:ext cx="4038840" cy="2222640"/>
          </a:xfrm>
          <a:prstGeom prst="rect">
            <a:avLst/>
          </a:prstGeom>
          <a:ln w="0">
            <a:noFill/>
          </a:ln>
        </p:spPr>
      </p:pic>
      <p:pic>
        <p:nvPicPr>
          <p:cNvPr id="76" name="Example6p12" descr=""/>
          <p:cNvPicPr/>
          <p:nvPr/>
        </p:nvPicPr>
        <p:blipFill>
          <a:blip r:embed="rId2"/>
          <a:stretch/>
        </p:blipFill>
        <p:spPr>
          <a:xfrm>
            <a:off x="4191120" y="2743200"/>
            <a:ext cx="5029200" cy="4114800"/>
          </a:xfrm>
          <a:prstGeom prst="rect">
            <a:avLst/>
          </a:prstGeom>
          <a:ln w="0">
            <a:noFill/>
          </a:ln>
        </p:spPr>
      </p:pic>
      <p:pic>
        <p:nvPicPr>
          <p:cNvPr id="77" name="geaux" descr=""/>
          <p:cNvPicPr/>
          <p:nvPr/>
        </p:nvPicPr>
        <p:blipFill>
          <a:blip r:embed="rId3"/>
          <a:stretch/>
        </p:blipFill>
        <p:spPr>
          <a:xfrm>
            <a:off x="841068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78" name="">
            <a:hlinkClick r:id="" action="ppaction://hlinkshowjump?jump=nextslide"/>
          </p:cNvPr>
          <p:cNvSpPr/>
          <p:nvPr/>
        </p:nvSpPr>
        <p:spPr>
          <a:xfrm>
            <a:off x="4662360" y="66150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>
            <a:hlinkClick r:id="" action="ppaction://hlinkshowjump?jump=previousslide"/>
          </p:cNvPr>
          <p:cNvSpPr/>
          <p:nvPr/>
        </p:nvSpPr>
        <p:spPr>
          <a:xfrm>
            <a:off x="412920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94480" y="58680"/>
            <a:ext cx="24591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DISCHARGE ST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3360" y="2573280"/>
            <a:ext cx="452124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ith the chosen resistor discharge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fter one second and the capacitor volt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s 5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76320" y="3429000"/>
                <a:ext cx="253980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2666880" y="3429000"/>
                <a:ext cx="99072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τ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69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2666880" y="3733920"/>
                <a:ext cx="10162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0" y="4038480"/>
                <a:ext cx="462276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∞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RI</m:t>
                    </m:r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69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6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6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673200" y="4419720"/>
                <a:ext cx="24382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</m:e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380880" y="5105520"/>
                <a:ext cx="316260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69</m:t>
                            </m:r>
                          </m:den>
                        </m:f>
                      </m:sup>
                    </m:sSup>
                    <m:r>
                      <m:t xml:space="preserve">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88" name=""/>
          <p:cNvGrpSpPr/>
          <p:nvPr/>
        </p:nvGrpSpPr>
        <p:grpSpPr>
          <a:xfrm>
            <a:off x="180720" y="5697360"/>
            <a:ext cx="3451320" cy="347760"/>
            <a:chOff x="180720" y="5697360"/>
            <a:chExt cx="3451320" cy="347760"/>
          </a:xfrm>
        </p:grpSpPr>
        <p:sp>
          <p:nvSpPr>
            <p:cNvPr id="89" name=""/>
            <p:cNvSpPr/>
            <p:nvPr/>
          </p:nvSpPr>
          <p:spPr>
            <a:xfrm>
              <a:off x="180720" y="5697360"/>
              <a:ext cx="17701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For SCR turn of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0" name=""/>
                <p:cNvSpPr txBox="1"/>
                <p:nvPr/>
              </p:nvSpPr>
              <p:spPr>
                <a:xfrm>
                  <a:off x="2057400" y="5715000"/>
                  <a:ext cx="1574640" cy="330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1</m:t>
                      </m:r>
                      <m:r>
                        <m:t xml:space="preserve">+</m:t>
                      </m:r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off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304920" y="6121440"/>
                <a:ext cx="266688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f>
                          <m:num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off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69</m:t>
                            </m:r>
                          </m:den>
                        </m:f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5</m:t>
                        </m:r>
                      </m:den>
                    </m:f>
                    <m:r>
                      <m:t xml:space="preserve">⇒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ff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2" name=""/>
          <p:cNvSpPr/>
          <p:nvPr/>
        </p:nvSpPr>
        <p:spPr>
          <a:xfrm>
            <a:off x="4796280" y="-22320"/>
            <a:ext cx="4340880" cy="28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example6p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visualizes one cycle of pacemak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charge cy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tau=0.569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tc=linspace(0,1,200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c=6-5.8*exp(-tc/tau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discharge cycle. SCR 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td=linspace(1,1.11,25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cd=-22.45+27.45*exp(-(td-1)/tau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lot(tc,vc,</a:t>
            </a:r>
            <a:r>
              <a:rPr b="1" lang="en-US" sz="1400" spc="-1" strike="noStrike">
                <a:solidFill>
                  <a:srgbClr val="b22222"/>
                </a:solidFill>
                <a:latin typeface="Courier New"/>
              </a:rPr>
              <a:t>'bd'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td,vcd,</a:t>
            </a:r>
            <a:r>
              <a:rPr b="1" lang="en-US" sz="1400" spc="-1" strike="noStrike">
                <a:solidFill>
                  <a:srgbClr val="b22222"/>
                </a:solidFill>
                <a:latin typeface="Courier New"/>
              </a:rPr>
              <a:t>'ro'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,grid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title(</a:t>
            </a:r>
            <a:r>
              <a:rPr b="1" lang="en-US" sz="1400" spc="-1" strike="noStrike">
                <a:solidFill>
                  <a:srgbClr val="b22222"/>
                </a:solidFill>
                <a:latin typeface="Courier New"/>
              </a:rPr>
              <a:t>'PACEMAKER CYCLE'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xlabel(</a:t>
            </a:r>
            <a:r>
              <a:rPr b="1" lang="en-US" sz="1400" spc="-1" strike="noStrike">
                <a:solidFill>
                  <a:srgbClr val="b22222"/>
                </a:solidFill>
                <a:latin typeface="Courier New"/>
              </a:rPr>
              <a:t>'time(s)'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, ylabel(</a:t>
            </a:r>
            <a:r>
              <a:rPr b="1" lang="en-US" sz="1400" spc="-1" strike="noStrike">
                <a:solidFill>
                  <a:srgbClr val="b22222"/>
                </a:solidFill>
                <a:latin typeface="Courier New"/>
              </a:rPr>
              <a:t>'voltage(V)'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gend(</a:t>
            </a:r>
            <a:r>
              <a:rPr b="1" lang="en-US" sz="1400" spc="-1" strike="noStrike">
                <a:solidFill>
                  <a:srgbClr val="b22222"/>
                </a:solidFill>
                <a:latin typeface="Courier New"/>
              </a:rPr>
              <a:t>'SCR off'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b22222"/>
                </a:solidFill>
                <a:latin typeface="Courier New"/>
              </a:rPr>
              <a:t>'SCR on'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F06.045B_W0657" descr=""/>
          <p:cNvPicPr/>
          <p:nvPr/>
        </p:nvPicPr>
        <p:blipFill>
          <a:blip r:embed="rId1"/>
          <a:stretch/>
        </p:blipFill>
        <p:spPr>
          <a:xfrm>
            <a:off x="5105520" y="533520"/>
            <a:ext cx="3581280" cy="269532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267480" y="6276960"/>
            <a:ext cx="866772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nductor current at the beginning of ON period MUST be the same than the curr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t the end of OFF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505240" y="76320"/>
            <a:ext cx="23662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BOOSTER CONVER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08640" y="2895480"/>
            <a:ext cx="32212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TANDARD DC POWER SUPP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228600" y="3581280"/>
            <a:ext cx="8772480" cy="2630520"/>
            <a:chOff x="228600" y="3581280"/>
            <a:chExt cx="8772480" cy="2630520"/>
          </a:xfrm>
        </p:grpSpPr>
        <p:graphicFrame>
          <p:nvGraphicFramePr>
            <p:cNvPr id="100" name=""/>
            <p:cNvGraphicFramePr/>
            <p:nvPr/>
          </p:nvGraphicFramePr>
          <p:xfrm>
            <a:off x="228600" y="3581280"/>
            <a:ext cx="8772480" cy="18126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01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228600" y="3581280"/>
                      <a:ext cx="8772480" cy="1812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2" name=""/>
            <p:cNvSpPr/>
            <p:nvPr/>
          </p:nvSpPr>
          <p:spPr>
            <a:xfrm>
              <a:off x="1187280" y="5387760"/>
              <a:ext cx="3029040" cy="82404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BOOSTER “ON” PERIO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Energy is stored in inductor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apacitor discharg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741280" y="5329080"/>
              <a:ext cx="2773080" cy="82404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BOOSTER “OFF”  PERIO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nductor releases energy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apacitor charg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4" name="geaux" descr=""/>
          <p:cNvPicPr/>
          <p:nvPr/>
        </p:nvPicPr>
        <p:blipFill>
          <a:blip r:embed="rId4"/>
          <a:stretch/>
        </p:blipFill>
        <p:spPr>
          <a:xfrm>
            <a:off x="841068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105" name="">
            <a:hlinkClick r:id="" action="ppaction://hlinkshowjump?jump=nextslide"/>
          </p:cNvPr>
          <p:cNvSpPr/>
          <p:nvPr/>
        </p:nvSpPr>
        <p:spPr>
          <a:xfrm>
            <a:off x="4662360" y="66150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>
            <a:hlinkClick r:id="" action="ppaction://hlinkshowjump?jump=previousslide"/>
          </p:cNvPr>
          <p:cNvSpPr/>
          <p:nvPr/>
        </p:nvSpPr>
        <p:spPr>
          <a:xfrm>
            <a:off x="412920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025040" y="228600"/>
            <a:ext cx="13770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.g. boos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F06.045A_W0657" descr=""/>
          <p:cNvPicPr/>
          <p:nvPr/>
        </p:nvPicPr>
        <p:blipFill>
          <a:blip r:embed="rId5"/>
          <a:stretch/>
        </p:blipFill>
        <p:spPr>
          <a:xfrm>
            <a:off x="0" y="398520"/>
            <a:ext cx="4572000" cy="34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9" name=""/>
          <p:cNvGraphicFramePr/>
          <p:nvPr/>
        </p:nvGraphicFramePr>
        <p:xfrm>
          <a:off x="152280" y="380880"/>
          <a:ext cx="4419720" cy="183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380880"/>
                    <a:ext cx="4419720" cy="183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" name=""/>
          <p:cNvSpPr/>
          <p:nvPr/>
        </p:nvSpPr>
        <p:spPr>
          <a:xfrm>
            <a:off x="347760" y="58680"/>
            <a:ext cx="17917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“ON” CYC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222120" y="2209680"/>
                <a:ext cx="375948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n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n</m:t>
                            </m:r>
                          </m:sub>
                        </m:sSub>
                      </m:sup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num>
                      <m:den>
                        <m:r>
                          <m:t xml:space="preserve">L</m:t>
                        </m:r>
                      </m:den>
                    </m:f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113" name=""/>
          <p:cNvGrpSpPr/>
          <p:nvPr/>
        </p:nvGrpSpPr>
        <p:grpSpPr>
          <a:xfrm>
            <a:off x="0" y="3092400"/>
            <a:ext cx="4038480" cy="2102040"/>
            <a:chOff x="0" y="3092400"/>
            <a:chExt cx="4038480" cy="2102040"/>
          </a:xfrm>
        </p:grpSpPr>
        <p:grpSp>
          <p:nvGrpSpPr>
            <p:cNvPr id="114" name=""/>
            <p:cNvGrpSpPr/>
            <p:nvPr/>
          </p:nvGrpSpPr>
          <p:grpSpPr>
            <a:xfrm>
              <a:off x="0" y="3092400"/>
              <a:ext cx="4038480" cy="2102040"/>
              <a:chOff x="0" y="3092400"/>
              <a:chExt cx="4038480" cy="2102040"/>
            </a:xfrm>
          </p:grpSpPr>
          <p:graphicFrame>
            <p:nvGraphicFramePr>
              <p:cNvPr id="115" name=""/>
              <p:cNvGraphicFramePr/>
              <p:nvPr/>
            </p:nvGraphicFramePr>
            <p:xfrm>
              <a:off x="0" y="3429000"/>
              <a:ext cx="4038480" cy="176544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116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0" y="3429000"/>
                        <a:ext cx="4038480" cy="17654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17" name=""/>
              <p:cNvSpPr/>
              <p:nvPr/>
            </p:nvSpPr>
            <p:spPr>
              <a:xfrm>
                <a:off x="298080" y="3092400"/>
                <a:ext cx="1849680" cy="33732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THE “OFF” CYCL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118" name=""/>
                <p:cNvSpPr txBox="1"/>
                <p:nvPr/>
              </p:nvSpPr>
              <p:spPr>
                <a:xfrm>
                  <a:off x="2286000" y="3138480"/>
                  <a:ext cx="5824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t</m:t>
                      </m:r>
                      <m:r>
                        <m:t xml:space="preserve">&gt;</m:t>
                      </m:r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on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228600" y="5105520"/>
                <a:ext cx="3238560" cy="74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n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f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i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n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n</m:t>
                            </m:r>
                          </m:sub>
                        </m:sSub>
                      </m:sub>
                      <m:sup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ff</m:t>
                            </m:r>
                          </m:sub>
                        </m:sSub>
                      </m:sup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grpSp>
        <p:nvGrpSpPr>
          <p:cNvPr id="120" name=""/>
          <p:cNvGrpSpPr/>
          <p:nvPr/>
        </p:nvGrpSpPr>
        <p:grpSpPr>
          <a:xfrm>
            <a:off x="45720" y="5943600"/>
            <a:ext cx="4304520" cy="841320"/>
            <a:chOff x="45720" y="5943600"/>
            <a:chExt cx="4304520" cy="841320"/>
          </a:xfrm>
        </p:grpSpPr>
        <p:sp>
          <p:nvSpPr>
            <p:cNvPr id="121" name=""/>
            <p:cNvSpPr/>
            <p:nvPr/>
          </p:nvSpPr>
          <p:spPr>
            <a:xfrm>
              <a:off x="45720" y="5943600"/>
              <a:ext cx="4304520" cy="5806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IMPLIFYING ASSUMPTION: THE OUTP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VOLTAGE (Vo) IS CONSTA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2" name=""/>
                <p:cNvSpPr txBox="1"/>
                <p:nvPr/>
              </p:nvSpPr>
              <p:spPr>
                <a:xfrm>
                  <a:off x="1371600" y="6494400"/>
                  <a:ext cx="11685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in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5410080" y="228600"/>
                <a:ext cx="221004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i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n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L</m:t>
                        </m:r>
                      </m:den>
                    </m:f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f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5257800" y="914400"/>
                <a:ext cx="271764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num>
                      <m:den>
                        <m:r>
                          <m:t xml:space="preserve">L</m:t>
                        </m:r>
                      </m:den>
                    </m:f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n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L</m:t>
                        </m:r>
                      </m:den>
                    </m:f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f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4800600" y="1523880"/>
                <a:ext cx="156204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n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ff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ff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6400800" y="1676520"/>
                <a:ext cx="25527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&gt;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hence  booster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5638680" y="2286000"/>
                <a:ext cx="2362320" cy="92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Period:       </m:t>
                        </m:r>
                        <m:r>
                          <m:t xml:space="preserve">T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n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ff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uty cycle: </m:t>
                        </m:r>
                        <m:r>
                          <m:t xml:space="preserve">D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on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5943600" y="3429000"/>
                <a:ext cx="127008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sub>
                    </m:sSub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D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9" name=""/>
          <p:cNvSpPr/>
          <p:nvPr/>
        </p:nvSpPr>
        <p:spPr>
          <a:xfrm>
            <a:off x="5009040" y="4249800"/>
            <a:ext cx="3757680" cy="580680"/>
          </a:xfrm>
          <a:prstGeom prst="rect">
            <a:avLst/>
          </a:prstGeom>
          <a:solidFill>
            <a:srgbClr val="ccffcc"/>
          </a:solidFill>
          <a:ln w="255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By adjusting the duty cycle one c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djust the output voltag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geaux" descr=""/>
          <p:cNvPicPr/>
          <p:nvPr/>
        </p:nvPicPr>
        <p:blipFill>
          <a:blip r:embed="rId5"/>
          <a:stretch/>
        </p:blipFill>
        <p:spPr>
          <a:xfrm>
            <a:off x="841068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131" name="">
            <a:hlinkClick r:id="" action="ppaction://hlinkshowjump?jump=nextslide"/>
          </p:cNvPr>
          <p:cNvSpPr/>
          <p:nvPr/>
        </p:nvSpPr>
        <p:spPr>
          <a:xfrm>
            <a:off x="4662360" y="66150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>
            <a:hlinkClick r:id="" action="ppaction://hlinkshowjump?jump=previousslide"/>
          </p:cNvPr>
          <p:cNvSpPr/>
          <p:nvPr/>
        </p:nvSpPr>
        <p:spPr>
          <a:xfrm>
            <a:off x="412920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F06.049_W0661" descr=""/>
          <p:cNvPicPr/>
          <p:nvPr/>
        </p:nvPicPr>
        <p:blipFill>
          <a:blip r:embed="rId1"/>
          <a:stretch/>
        </p:blipFill>
        <p:spPr>
          <a:xfrm>
            <a:off x="0" y="905040"/>
            <a:ext cx="4572000" cy="26920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34560" y="0"/>
            <a:ext cx="236916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BY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2394000" y="0"/>
                <a:ext cx="6300720" cy="9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IND </m:t>
                        </m:r>
                        <m:r>
                          <m:t xml:space="preserve">C</m:t>
                        </m:r>
                        <m:r>
                          <m:rPr>
                            <m:lit/>
                            <m:nor/>
                          </m:rPr>
                          <m:t xml:space="preserve">  SUCH  THAT </m:t>
                        </m:r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IS  OVERDAMPED, AND  SATISFIES:</m:t>
                        </m:r>
                      </m:e>
                      <m:e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Reaches  1A within  100ms; </m:t>
                        </m:r>
                      </m:e>
                      <m:e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Stays above 1A between  1s  and  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36" name=""/>
          <p:cNvSpPr/>
          <p:nvPr/>
        </p:nvSpPr>
        <p:spPr>
          <a:xfrm>
            <a:off x="232200" y="3792600"/>
            <a:ext cx="41310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FTER SWITCHING WE HAVE RLC SE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0" y="4114800"/>
                <a:ext cx="31114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R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C</m:t>
                        </m:r>
                      </m:den>
                    </m:f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38160" y="5105520"/>
                <a:ext cx="415296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h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Eq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:  </m:t>
                    </m:r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s</m:t>
                    </m:r>
                    <m:r>
                      <m:t xml:space="preserve">+</m:t>
                    </m:r>
                    <m:f>
                      <m:fPr>
                        <m:type m:val="lin"/>
                      </m:fPr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-50760" y="4764240"/>
                <a:ext cx="488952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ESIRED  RESPONSE: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t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t</m:t>
                        </m:r>
                      </m:sup>
                    </m:sSup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730080" y="5410080"/>
                <a:ext cx="23749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;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5410080" y="4280040"/>
                <a:ext cx="3009960" cy="90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NITIAL  CONDITIONS: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L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i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6095880" y="5486400"/>
                <a:ext cx="17272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43" name="geaux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44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48680" y="5773680"/>
            <a:ext cx="430452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or the initial conditions analyze circui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t t=0+. Assume the circuit was in stead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tate prior to the switch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4876920" y="1066680"/>
            <a:ext cx="3657600" cy="3036960"/>
            <a:chOff x="4876920" y="1066680"/>
            <a:chExt cx="3657600" cy="3036960"/>
          </a:xfrm>
        </p:grpSpPr>
        <p:graphicFrame>
          <p:nvGraphicFramePr>
            <p:cNvPr id="148" name=""/>
            <p:cNvGraphicFramePr/>
            <p:nvPr/>
          </p:nvGraphicFramePr>
          <p:xfrm>
            <a:off x="4876920" y="1066680"/>
            <a:ext cx="3657600" cy="3036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4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876920" y="1066680"/>
                      <a:ext cx="3657600" cy="3036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50" name=""/>
            <p:cNvSpPr/>
            <p:nvPr/>
          </p:nvSpPr>
          <p:spPr>
            <a:xfrm>
              <a:off x="6881400" y="1201680"/>
              <a:ext cx="160416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ircuit at t=0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1" name=""/>
                <p:cNvSpPr txBox="1"/>
                <p:nvPr/>
              </p:nvSpPr>
              <p:spPr>
                <a:xfrm>
                  <a:off x="6934320" y="2971800"/>
                  <a:ext cx="12826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0</m:t>
                      </m:r>
                      <m:r>
                        <m:t xml:space="preserve">+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2</m:t>
                      </m:r>
                      <m:r>
                        <m:t xml:space="preserve">V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762120" y="457200"/>
                <a:ext cx="24256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num>
                      <m:den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53" name=""/>
          <p:cNvSpPr/>
          <p:nvPr/>
        </p:nvSpPr>
        <p:spPr>
          <a:xfrm>
            <a:off x="5060880" y="304920"/>
            <a:ext cx="3990600" cy="824040"/>
          </a:xfrm>
          <a:prstGeom prst="rect">
            <a:avLst/>
          </a:prstGeom>
          <a:solidFill>
            <a:srgbClr val="ccffcc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OW ONE CAN USE TRIAL AND ERR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R CAN ATTEMPT TO ESTIMATE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EQUIRED CAPACIT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0" y="1809720"/>
            <a:ext cx="9144000" cy="5048280"/>
            <a:chOff x="0" y="1809720"/>
            <a:chExt cx="9144000" cy="5048280"/>
          </a:xfrm>
        </p:grpSpPr>
        <p:pic>
          <p:nvPicPr>
            <p:cNvPr id="155" name="Example6p14_2" descr=""/>
            <p:cNvPicPr/>
            <p:nvPr/>
          </p:nvPicPr>
          <p:blipFill>
            <a:blip r:embed="rId1"/>
            <a:stretch/>
          </p:blipFill>
          <p:spPr>
            <a:xfrm>
              <a:off x="0" y="1809720"/>
              <a:ext cx="9144000" cy="504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"/>
            <p:cNvSpPr/>
            <p:nvPr/>
          </p:nvSpPr>
          <p:spPr>
            <a:xfrm>
              <a:off x="471600" y="1905120"/>
              <a:ext cx="1598040" cy="82404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Mesh plo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obtained wit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MATLA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57" name="geaux" descr=""/>
          <p:cNvPicPr/>
          <p:nvPr/>
        </p:nvPicPr>
        <p:blipFill>
          <a:blip r:embed="rId2"/>
          <a:stretch/>
        </p:blipFill>
        <p:spPr>
          <a:xfrm>
            <a:off x="841068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158" name="">
            <a:hlinkClick r:id="" action="ppaction://hlinkshowjump?jump=nextslide"/>
          </p:cNvPr>
          <p:cNvSpPr/>
          <p:nvPr/>
        </p:nvSpPr>
        <p:spPr>
          <a:xfrm>
            <a:off x="4662360" y="66150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>
            <a:hlinkClick r:id="" action="ppaction://hlinkshowjump?jump=previousslide"/>
          </p:cNvPr>
          <p:cNvSpPr/>
          <p:nvPr/>
        </p:nvSpPr>
        <p:spPr>
          <a:xfrm>
            <a:off x="412920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568880" y="1430280"/>
            <a:ext cx="591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F FEASIBLE, GET AN IDEA OF THE FAMILY OF SOLUTION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4953240" y="2349360"/>
            <a:ext cx="3961800" cy="2008440"/>
            <a:chOff x="4953240" y="2349360"/>
            <a:chExt cx="3961800" cy="2008440"/>
          </a:xfrm>
        </p:grpSpPr>
        <p:sp>
          <p:nvSpPr>
            <p:cNvPr id="162" name=""/>
            <p:cNvSpPr/>
            <p:nvPr/>
          </p:nvSpPr>
          <p:spPr>
            <a:xfrm>
              <a:off x="4953240" y="2349360"/>
              <a:ext cx="3961800" cy="11595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» s=[[1:9]';[11:19]']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» mesh(t,s,ils'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» view([37.5,30]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» xlabel('time(s)'),ylabel('s_1(sec^{-1})'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» title('CURRENT AS FUNCTION OF MODES'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609160" y="3533760"/>
              <a:ext cx="3254760" cy="82404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ls is a matrix that contains al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he computed responses, o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er colum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43640" y="76320"/>
            <a:ext cx="7221600" cy="35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example6p14.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displays current as function of roots in characteristic eq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 il(t)=(60/(s2-s1))*(exp(-s1*t)-exp(s2*t)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 with restriction s1+s2=20, s1~=s2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t=linspace(0,5,500)'; </a:t>
            </a: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set display interval as a column v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ls=[]; </a:t>
            </a: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reserve space to store curv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for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1=1: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2=20-s1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if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1~=s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l=(60/(s2-s1))*(exp(-s1*t)-exp(-s2*t)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ls=[ils il]; </a:t>
            </a: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save new trace as a column in matri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now with one command we plot all the columns as functions of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lot(t,ils), grid, xlabel(</a:t>
            </a:r>
            <a:r>
              <a:rPr b="1" lang="en-US" sz="1400" spc="-1" strike="noStrike">
                <a:solidFill>
                  <a:srgbClr val="b22222"/>
                </a:solidFill>
                <a:latin typeface="Courier New"/>
              </a:rPr>
              <a:t>'Time(s)'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,ylabel(</a:t>
            </a:r>
            <a:r>
              <a:rPr b="1" lang="en-US" sz="1400" spc="-1" strike="noStrike">
                <a:solidFill>
                  <a:srgbClr val="b22222"/>
                </a:solidFill>
                <a:latin typeface="Courier New"/>
              </a:rPr>
              <a:t>'i(A)'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title(</a:t>
            </a:r>
            <a:r>
              <a:rPr b="1" lang="en-US" sz="1400" spc="-1" strike="noStrike">
                <a:solidFill>
                  <a:srgbClr val="b22222"/>
                </a:solidFill>
                <a:latin typeface="Courier New"/>
              </a:rPr>
              <a:t>'CURRENT AS FUNCTION OF MODES'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Example6p14_1" descr=""/>
          <p:cNvPicPr/>
          <p:nvPr/>
        </p:nvPicPr>
        <p:blipFill>
          <a:blip r:embed="rId1"/>
          <a:stretch/>
        </p:blipFill>
        <p:spPr>
          <a:xfrm>
            <a:off x="76320" y="3505320"/>
            <a:ext cx="8991360" cy="331452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2742120" y="0"/>
            <a:ext cx="5461560" cy="337320"/>
          </a:xfrm>
          <a:prstGeom prst="rect">
            <a:avLst/>
          </a:prstGeom>
          <a:solidFill>
            <a:srgbClr val="ccffcc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stimate charge by estimating area under the cur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1981080" y="3886200"/>
            <a:ext cx="4817520" cy="855720"/>
            <a:chOff x="1981080" y="3886200"/>
            <a:chExt cx="4817520" cy="855720"/>
          </a:xfrm>
        </p:grpSpPr>
        <p:sp>
          <p:nvSpPr>
            <p:cNvPr id="168" name=""/>
            <p:cNvSpPr/>
            <p:nvPr/>
          </p:nvSpPr>
          <p:spPr>
            <a:xfrm>
              <a:off x="2158560" y="3886200"/>
              <a:ext cx="4640040" cy="3373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For this curve the area is approx. 12 squar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981080" y="4284720"/>
              <a:ext cx="609480" cy="457200"/>
            </a:xfrm>
            <a:custGeom>
              <a:avLst/>
              <a:gdLst/>
              <a:ahLst/>
              <a:rect l="l" t="t" r="r" b="b"/>
              <a:pathLst>
                <a:path w="384" h="288">
                  <a:moveTo>
                    <a:pt x="384" y="0"/>
                  </a:moveTo>
                  <a:cubicBezTo>
                    <a:pt x="224" y="120"/>
                    <a:pt x="64" y="240"/>
                    <a:pt x="0" y="288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3505320" y="4419720"/>
                <a:ext cx="265428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×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×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[</m:t>
                    </m:r>
                    <m:r>
                      <m:t xml:space="preserve">A</m:t>
                    </m:r>
                    <m:r>
                      <m:t xml:space="preserve">×</m:t>
                    </m:r>
                    <m:r>
                      <m:t xml:space="preserve">s</m:t>
                    </m:r>
                    <m:r>
                      <m:t xml:space="preserve">]</m:t>
                    </m:r>
                    <m:r>
                      <m:t xml:space="preserve">≈</m:t>
                    </m:r>
                    <m:r>
                      <m:t xml:space="preserve">3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3429000" y="4648320"/>
                <a:ext cx="28195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r>
                          <m:t xml:space="preserve">V</m:t>
                        </m:r>
                      </m:den>
                    </m:f>
                    <m:r>
                      <m:t xml:space="preserve">≈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F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50</m:t>
                    </m:r>
                    <m:r>
                      <m:rPr>
                        <m:lit/>
                        <m:nor/>
                      </m:rPr>
                      <m:t xml:space="preserve">m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4800600" y="5257800"/>
                <a:ext cx="146052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e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C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6248520" y="5257800"/>
                <a:ext cx="104112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44</m:t>
                        </m:r>
                      </m:e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56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74" name="geaux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75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143640" y="152280"/>
            <a:ext cx="7434360" cy="15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8b22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verific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1=18.944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2=20-s1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l=(60/(s2-s1))*(exp(-s1*t)-exp(-s2*t)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lot(t,il,</a:t>
            </a:r>
            <a:r>
              <a:rPr b="1" lang="en-US" sz="1400" spc="-1" strike="noStrike">
                <a:solidFill>
                  <a:srgbClr val="b22222"/>
                </a:solidFill>
                <a:latin typeface="Courier New"/>
              </a:rPr>
              <a:t>'rd'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t,il,</a:t>
            </a:r>
            <a:r>
              <a:rPr b="1" lang="en-US" sz="1400" spc="-1" strike="noStrike">
                <a:solidFill>
                  <a:srgbClr val="b22222"/>
                </a:solidFill>
                <a:latin typeface="Courier New"/>
              </a:rPr>
              <a:t>'b'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, grid, xlabel(</a:t>
            </a:r>
            <a:r>
              <a:rPr b="1" lang="en-US" sz="1400" spc="-1" strike="noStrike">
                <a:solidFill>
                  <a:srgbClr val="b22222"/>
                </a:solidFill>
                <a:latin typeface="Courier New"/>
              </a:rPr>
              <a:t>'time(s)'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, ylabel(</a:t>
            </a:r>
            <a:r>
              <a:rPr b="1" lang="en-US" sz="1400" spc="-1" strike="noStrike">
                <a:solidFill>
                  <a:srgbClr val="b22222"/>
                </a:solidFill>
                <a:latin typeface="Courier New"/>
              </a:rPr>
              <a:t>'i(A)'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title(</a:t>
            </a:r>
            <a:r>
              <a:rPr b="1" lang="en-US" sz="1400" spc="-1" strike="noStrike">
                <a:solidFill>
                  <a:srgbClr val="b22222"/>
                </a:solidFill>
                <a:latin typeface="Courier New"/>
              </a:rPr>
              <a:t>'VERIFICATION OF DESIGN'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Example6p14_3" descr=""/>
          <p:cNvPicPr/>
          <p:nvPr/>
        </p:nvPicPr>
        <p:blipFill>
          <a:blip r:embed="rId1"/>
          <a:stretch/>
        </p:blipFill>
        <p:spPr>
          <a:xfrm>
            <a:off x="228600" y="1676520"/>
            <a:ext cx="8763120" cy="4724280"/>
          </a:xfrm>
          <a:prstGeom prst="rect">
            <a:avLst/>
          </a:prstGeom>
          <a:ln w="0">
            <a:noFill/>
          </a:ln>
        </p:spPr>
      </p:pic>
      <p:grpSp>
        <p:nvGrpSpPr>
          <p:cNvPr id="179" name=""/>
          <p:cNvGrpSpPr/>
          <p:nvPr/>
        </p:nvGrpSpPr>
        <p:grpSpPr>
          <a:xfrm>
            <a:off x="7308000" y="5774760"/>
            <a:ext cx="1826640" cy="1078560"/>
            <a:chOff x="7308000" y="5774760"/>
            <a:chExt cx="1826640" cy="1078560"/>
          </a:xfrm>
        </p:grpSpPr>
        <p:pic>
          <p:nvPicPr>
            <p:cNvPr id="180" name="stop" descr=""/>
            <p:cNvPicPr/>
            <p:nvPr/>
          </p:nvPicPr>
          <p:blipFill>
            <a:blip r:embed="rId2"/>
            <a:stretch/>
          </p:blipFill>
          <p:spPr>
            <a:xfrm>
              <a:off x="8184960" y="6338880"/>
              <a:ext cx="514440" cy="5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"/>
            <p:cNvSpPr/>
            <p:nvPr/>
          </p:nvSpPr>
          <p:spPr>
            <a:xfrm>
              <a:off x="7308000" y="5774760"/>
              <a:ext cx="1826640" cy="36828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Appl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2" name="">
            <a:hlinkClick r:id="" action="ppaction://hlinkshowjump?jump=previousslide"/>
          </p:cNvPr>
          <p:cNvSpPr/>
          <p:nvPr/>
        </p:nvSpPr>
        <p:spPr>
          <a:xfrm>
            <a:off x="41148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1T09:02:51Z</dcterms:created>
  <dc:creator>Jorge Aravena</dc:creator>
  <dc:description/>
  <dc:language>en-US</dc:language>
  <cp:lastModifiedBy>student</cp:lastModifiedBy>
  <dcterms:modified xsi:type="dcterms:W3CDTF">2001-05-23T14:43:54Z</dcterms:modified>
  <cp:revision>6</cp:revision>
  <dc:subject/>
  <dc:title>No Slide Title</dc:title>
</cp:coreProperties>
</file>