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6C5-C7BA-43C6-98F2-26EEDE03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9CD-8ACA-493C-B5E1-446F71A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309-6978-4431-A5C3-F10029FB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5C7-1BA0-4CD9-858D-48D013A0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2F5-E2D7-4FAD-9E1D-D175896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200-B684-442F-9B36-D7D44E7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161-06A5-4A01-8FD3-92D4251C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41B-AF5F-4B9A-AF32-40878879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05B-4062-4CD5-8CCF-F1526B5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FF2-E9B5-43DD-9700-2B2D90C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A21-E48C-4842-AE88-D0B1443D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1D3-3532-4DF5-AB49-F2114BA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91D-1E81-4B30-9542-C8F07CE0D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3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29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6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6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6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8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1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4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5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3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0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8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4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8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0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3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59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4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0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2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2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7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2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6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4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8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6" name="geaux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0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8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49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7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0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8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1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0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eaux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1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4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7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0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3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6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4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5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8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0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49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7" name="stop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eaux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EffectOfTimeConstant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 rot="10800000">
                <a:off x="744480" y="3276360"/>
                <a:ext cx="71042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CT: WHEN ALL INDEPENDENT SOURCES ARE CONST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ARIABLE,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N THE CIRCUI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IS  OF  THE  FORM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4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0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4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0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3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student</cp:lastModifiedBy>
  <dcterms:modified xsi:type="dcterms:W3CDTF">2001-05-23T13:47:38Z</dcterms:modified>
  <cp:revision>22</cp:revision>
  <dc:subject/>
  <dc:title>No Slide Title</dc:title>
</cp:coreProperties>
</file>