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312-EEB6-47D8-8250-8A8A9037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A68-2BE9-4896-B26B-08A7903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4BE-9D05-4AB8-A873-A8FB4048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5D0-21AE-483E-836B-98F95F1B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1C2-4EEB-4F5F-9E36-5799A147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88B-B11C-414E-B6E8-F60033C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FAE-2642-4ED3-BC0B-7F3DBE1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018-DF20-4C9A-A7F2-92C6279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6B9-6F29-41E5-B170-A97C163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4BC-E7E4-4165-B085-18682E3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D05-3F08-4DE5-981F-071701E3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410-EC02-46E9-ACEE-E9C8D321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A70A-6372-4E95-999E-8416D064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Example6p7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Example6p8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Example6p9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stop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1-05-23T02:14:24Z</dcterms:modified>
  <cp:revision>15</cp:revision>
  <dc:subject/>
  <dc:title>No Slide Title</dc:title>
</cp:coreProperties>
</file>