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3.wmf" ContentType="image/x-wmf"/>
  <Override PartName="/ppt/media/image27.wmf" ContentType="image/x-wmf"/>
  <Override PartName="/ppt/media/image4.wmf" ContentType="image/x-wmf"/>
  <Override PartName="/ppt/media/image10.png" ContentType="image/png"/>
  <Override PartName="/ppt/media/image47.png" ContentType="image/png"/>
  <Override PartName="/ppt/media/image5.wmf" ContentType="image/x-wmf"/>
  <Override PartName="/ppt/media/image35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52.wmf" ContentType="image/x-wmf"/>
  <Override PartName="/ppt/media/image49.png" ContentType="image/png"/>
  <Override PartName="/ppt/media/image51.png" ContentType="image/png"/>
  <Override PartName="/ppt/media/image38.wmf" ContentType="image/x-wmf"/>
  <Override PartName="/ppt/media/image50.png" ContentType="image/png"/>
  <Override PartName="/ppt/media/image11.png" ContentType="image/png"/>
  <Override PartName="/ppt/media/image48.png" ContentType="image/png"/>
  <Override PartName="/ppt/media/image39.wmf" ContentType="image/x-wmf"/>
  <Override PartName="/ppt/media/image8.png" ContentType="image/png"/>
  <Override PartName="/ppt/media/image41.wmf" ContentType="image/x-wmf"/>
  <Override PartName="/ppt/media/image30.png" ContentType="image/png"/>
  <Override PartName="/ppt/media/image42.wmf" ContentType="image/x-wmf"/>
  <Override PartName="/ppt/media/image9.png" ContentType="image/png"/>
  <Override PartName="/ppt/media/image12.jpeg" ContentType="image/jpeg"/>
  <Override PartName="/ppt/media/image34.png" ContentType="image/png"/>
  <Override PartName="/ppt/media/image53.wmf" ContentType="image/x-wmf"/>
  <Override PartName="/ppt/media/image13.png" ContentType="image/png"/>
  <Override PartName="/ppt/media/image54.jpeg" ContentType="image/jpeg"/>
  <Override PartName="/ppt/media/image7.png" ContentType="image/png"/>
  <Override PartName="/ppt/media/image40.wmf" ContentType="image/x-wmf"/>
  <Override PartName="/ppt/media/image37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08A-6237-4389-AD18-2F88EBF9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43DB-73AA-49B4-91C3-DAE4E1F6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4CA-92AC-47CA-956E-5B2C7925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78C7-A5E4-4532-815E-A2B41907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F5B-C169-4281-BFAD-C8A00C71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6D2-2E65-47E0-B0C1-D2C97CD2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2B1-4F2B-45E6-BBF4-12799803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2AB-42E9-48B3-92BE-460344E0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E77-4E60-4587-A001-53003AC7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098B-9F37-46A6-AD40-0B3BF695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61DD-103C-49A2-A6D3-047D223E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C91C-E1F1-49E6-B838-3E2C3988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69A0-E9FA-46CB-9C02-75ACEE5D5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image" Target="../media/image44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3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0680" y="117360"/>
            <a:ext cx="7313040" cy="6426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ALYSIS OF CIRCUITS WITH ONE ENERGY STORING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CONSTANT IN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20680" y="852480"/>
            <a:ext cx="33354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 STEP-BY-STEP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773640" y="1565280"/>
            <a:ext cx="7587360" cy="1940040"/>
            <a:chOff x="773640" y="1565280"/>
            <a:chExt cx="7587360" cy="1940040"/>
          </a:xfrm>
        </p:grpSpPr>
        <p:sp>
          <p:nvSpPr>
            <p:cNvPr id="44" name=""/>
            <p:cNvSpPr/>
            <p:nvPr/>
          </p:nvSpPr>
          <p:spPr>
            <a:xfrm>
              <a:off x="773640" y="1565280"/>
              <a:ext cx="7587360" cy="1191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IS APPROACH RELIES ON THE KNOWN FORM OF TH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BUT FINDS THE CONSTANTS        USING BASIC CIRCUI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NALYSIS TOOLS AND FORGOES THE DETERMINATION OF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IFFERENTIAL EQUATION MODE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114800" y="1905120"/>
                  <a:ext cx="838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" name=""/>
                <p:cNvSpPr txBox="1"/>
                <p:nvPr/>
              </p:nvSpPr>
              <p:spPr>
                <a:xfrm>
                  <a:off x="3200400" y="2843280"/>
                  <a:ext cx="281952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905120" y="3543480"/>
                <a:ext cx="563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is the steady state value of the variable and ca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be determined analyzing the circuit in steady stat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955880" y="4267080"/>
                <a:ext cx="5283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is the initial condition and provides the seco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equation to compute the constants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928880" y="5029200"/>
                <a:ext cx="5310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  is the time constant and can be determin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using Thevenin across the energy storing elem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0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-76320" y="380880"/>
          <a:ext cx="5181840" cy="32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380880"/>
                    <a:ext cx="518184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438280" y="763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6320" y="3581280"/>
                <a:ext cx="3149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6320" y="4114800"/>
                <a:ext cx="39495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INITIAL CAPACITOR VOLTAGE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7" name=""/>
          <p:cNvGraphicFramePr/>
          <p:nvPr/>
        </p:nvGraphicFramePr>
        <p:xfrm>
          <a:off x="0" y="4419720"/>
          <a:ext cx="3962520" cy="24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419720"/>
                    <a:ext cx="396252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90720" y="5105520"/>
                <a:ext cx="685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209680" y="5029200"/>
                <a:ext cx="457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1" name=""/>
          <p:cNvGrpSpPr/>
          <p:nvPr/>
        </p:nvGrpSpPr>
        <p:grpSpPr>
          <a:xfrm>
            <a:off x="2055960" y="4414680"/>
            <a:ext cx="355320" cy="462240"/>
            <a:chOff x="2055960" y="4414680"/>
            <a:chExt cx="355320" cy="462240"/>
          </a:xfrm>
        </p:grpSpPr>
        <p:sp>
          <p:nvSpPr>
            <p:cNvPr id="252" name=""/>
            <p:cNvSpPr/>
            <p:nvPr/>
          </p:nvSpPr>
          <p:spPr>
            <a:xfrm>
              <a:off x="2055960" y="4414680"/>
              <a:ext cx="155520" cy="15588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2209680" y="45864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09480" y="4724280"/>
                <a:ext cx="633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301920" y="5638680"/>
                <a:ext cx="1498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6" name=""/>
          <p:cNvGrpSpPr/>
          <p:nvPr/>
        </p:nvGrpSpPr>
        <p:grpSpPr>
          <a:xfrm>
            <a:off x="38160" y="4419720"/>
            <a:ext cx="495360" cy="380880"/>
            <a:chOff x="38160" y="4419720"/>
            <a:chExt cx="495360" cy="380880"/>
          </a:xfrm>
        </p:grpSpPr>
        <p:sp>
          <p:nvSpPr>
            <p:cNvPr id="257" name=""/>
            <p:cNvSpPr/>
            <p:nvPr/>
          </p:nvSpPr>
          <p:spPr>
            <a:xfrm>
              <a:off x="380880" y="441972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38160" y="4572000"/>
                  <a:ext cx="4190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9" name=""/>
          <p:cNvGrpSpPr/>
          <p:nvPr/>
        </p:nvGrpSpPr>
        <p:grpSpPr>
          <a:xfrm>
            <a:off x="1442520" y="4572000"/>
            <a:ext cx="1377000" cy="914400"/>
            <a:chOff x="1442520" y="4572000"/>
            <a:chExt cx="1377000" cy="914400"/>
          </a:xfrm>
        </p:grpSpPr>
        <p:sp>
          <p:nvSpPr>
            <p:cNvPr id="260" name=""/>
            <p:cNvSpPr/>
            <p:nvPr/>
          </p:nvSpPr>
          <p:spPr>
            <a:xfrm flipH="1">
              <a:off x="1442520" y="4799160"/>
              <a:ext cx="53028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81080" y="4876920"/>
              <a:ext cx="0" cy="6094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14600" y="4572000"/>
              <a:ext cx="3049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410080" y="152280"/>
                <a:ext cx="3200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 @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4" name=""/>
          <p:cNvGrpSpPr/>
          <p:nvPr/>
        </p:nvGrpSpPr>
        <p:grpSpPr>
          <a:xfrm>
            <a:off x="6019920" y="304920"/>
            <a:ext cx="3047760" cy="747720"/>
            <a:chOff x="6019920" y="304920"/>
            <a:chExt cx="3047760" cy="747720"/>
          </a:xfrm>
        </p:grpSpPr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8686800" y="304920"/>
                  <a:ext cx="3808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6019920" y="762120"/>
                  <a:ext cx="2209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473800" y="1081080"/>
                <a:ext cx="344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486400" y="160020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5029200" y="2035080"/>
            <a:ext cx="4038480" cy="2459160"/>
            <a:chOff x="5029200" y="2035080"/>
            <a:chExt cx="4038480" cy="2459160"/>
          </a:xfrm>
        </p:grpSpPr>
        <p:graphicFrame>
          <p:nvGraphicFramePr>
            <p:cNvPr id="270" name=""/>
            <p:cNvGraphicFramePr/>
            <p:nvPr/>
          </p:nvGraphicFramePr>
          <p:xfrm>
            <a:off x="5029200" y="2035080"/>
            <a:ext cx="3962520" cy="2459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29200" y="2035080"/>
                      <a:ext cx="3962520" cy="245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7304040" y="2438280"/>
                  <a:ext cx="633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8381880" y="2590920"/>
                  <a:ext cx="685800" cy="15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/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74" name=""/>
            <p:cNvGrpSpPr/>
            <p:nvPr/>
          </p:nvGrpSpPr>
          <p:grpSpPr>
            <a:xfrm>
              <a:off x="6081840" y="2652840"/>
              <a:ext cx="890640" cy="1004760"/>
              <a:chOff x="6081840" y="2652840"/>
              <a:chExt cx="890640" cy="1004760"/>
            </a:xfrm>
          </p:grpSpPr>
          <p:graphicFrame>
            <p:nvGraphicFramePr>
              <p:cNvPr id="275" name=""/>
              <p:cNvGraphicFramePr/>
              <p:nvPr/>
            </p:nvGraphicFramePr>
            <p:xfrm>
              <a:off x="6081840" y="2652840"/>
              <a:ext cx="547560" cy="1004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7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081840" y="2652840"/>
                        <a:ext cx="547560" cy="100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277" name=""/>
                  <p:cNvSpPr txBox="1"/>
                  <p:nvPr/>
                </p:nvSpPr>
                <p:spPr>
                  <a:xfrm>
                    <a:off x="6553080" y="2743200"/>
                    <a:ext cx="419400" cy="81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V</m:t>
                            </m:r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562720" y="4648320"/>
                <a:ext cx="2387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9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280" y="0"/>
            <a:ext cx="2375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33520" y="228600"/>
                <a:ext cx="286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4" name=""/>
          <p:cNvGraphicFramePr/>
          <p:nvPr/>
        </p:nvGraphicFramePr>
        <p:xfrm>
          <a:off x="5181480" y="4191120"/>
          <a:ext cx="3505320" cy="21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191120"/>
                    <a:ext cx="3505320" cy="217620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52280" y="609480"/>
          <a:ext cx="3962520" cy="245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609480"/>
                    <a:ext cx="396252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429000" y="1066680"/>
                <a:ext cx="6094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990720" y="3098880"/>
                <a:ext cx="2158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04920" y="3733920"/>
                <a:ext cx="39495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 DETERMINE TIME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838080" y="4038480"/>
                <a:ext cx="2806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acitive Circuit: </m:t>
                    </m:r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2" name=""/>
          <p:cNvGrpSpPr/>
          <p:nvPr/>
        </p:nvGrpSpPr>
        <p:grpSpPr>
          <a:xfrm>
            <a:off x="0" y="4397400"/>
            <a:ext cx="3962520" cy="2460600"/>
            <a:chOff x="0" y="4397400"/>
            <a:chExt cx="3962520" cy="2460600"/>
          </a:xfrm>
        </p:grpSpPr>
        <p:graphicFrame>
          <p:nvGraphicFramePr>
            <p:cNvPr id="293" name=""/>
            <p:cNvGraphicFramePr/>
            <p:nvPr/>
          </p:nvGraphicFramePr>
          <p:xfrm>
            <a:off x="0" y="4397400"/>
            <a:ext cx="3962520" cy="2460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397400"/>
                      <a:ext cx="3962520" cy="24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5" name=""/>
            <p:cNvSpPr/>
            <p:nvPr/>
          </p:nvSpPr>
          <p:spPr>
            <a:xfrm>
              <a:off x="457200" y="5181480"/>
              <a:ext cx="0" cy="76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85800" y="5638680"/>
            <a:ext cx="600120" cy="755640"/>
            <a:chOff x="685800" y="5638680"/>
            <a:chExt cx="600120" cy="755640"/>
          </a:xfrm>
        </p:grpSpPr>
        <p:sp>
          <p:nvSpPr>
            <p:cNvPr id="297" name=""/>
            <p:cNvSpPr/>
            <p:nvPr/>
          </p:nvSpPr>
          <p:spPr>
            <a:xfrm>
              <a:off x="939960" y="5638680"/>
              <a:ext cx="345960" cy="495000"/>
            </a:xfrm>
            <a:custGeom>
              <a:avLst/>
              <a:gdLst/>
              <a:ahLst/>
              <a:rect l="l" t="t" r="r" b="b"/>
              <a:pathLst>
                <a:path w="218" h="312">
                  <a:moveTo>
                    <a:pt x="0" y="312"/>
                  </a:moveTo>
                  <a:cubicBezTo>
                    <a:pt x="3" y="208"/>
                    <a:pt x="8" y="0"/>
                    <a:pt x="8" y="0"/>
                  </a:cubicBezTo>
                  <a:cubicBezTo>
                    <a:pt x="78" y="0"/>
                    <a:pt x="148" y="0"/>
                    <a:pt x="218" y="0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685800" y="6103800"/>
                  <a:ext cx="419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200400" y="5791320"/>
                <a:ext cx="1587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200400" y="4724280"/>
                <a:ext cx="1650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5181480" y="22860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638680" y="584280"/>
                <a:ext cx="18795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4876920" y="1193760"/>
                <a:ext cx="3555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952880" y="2209680"/>
                <a:ext cx="3365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5540040" y="377496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0" y="0"/>
          <a:ext cx="388620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8862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048120" y="609480"/>
                <a:ext cx="168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52280" y="3581280"/>
                <a:ext cx="32133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52280" y="4114800"/>
                <a:ext cx="3975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 INITIAL INDUCTOR CURREN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4" name=""/>
          <p:cNvGrpSpPr/>
          <p:nvPr/>
        </p:nvGrpSpPr>
        <p:grpSpPr>
          <a:xfrm>
            <a:off x="0" y="4387680"/>
            <a:ext cx="2666880" cy="2470320"/>
            <a:chOff x="0" y="4387680"/>
            <a:chExt cx="2666880" cy="2470320"/>
          </a:xfrm>
        </p:grpSpPr>
        <p:graphicFrame>
          <p:nvGraphicFramePr>
            <p:cNvPr id="315" name=""/>
            <p:cNvGraphicFramePr/>
            <p:nvPr/>
          </p:nvGraphicFramePr>
          <p:xfrm>
            <a:off x="0" y="4387680"/>
            <a:ext cx="2666880" cy="247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387680"/>
                      <a:ext cx="2666880" cy="247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>
              <a:off x="1295280" y="4489560"/>
              <a:ext cx="762120" cy="0"/>
            </a:xfrm>
            <a:prstGeom prst="line">
              <a:avLst/>
            </a:prstGeom>
            <a:ln w="442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447920" y="4586400"/>
            <a:ext cx="633240" cy="366120"/>
            <a:chOff x="1447920" y="4586400"/>
            <a:chExt cx="633240" cy="366120"/>
          </a:xfrm>
        </p:grpSpPr>
        <p:sp>
          <p:nvSpPr>
            <p:cNvPr id="319" name=""/>
            <p:cNvSpPr/>
            <p:nvPr/>
          </p:nvSpPr>
          <p:spPr>
            <a:xfrm>
              <a:off x="1523880" y="45864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1447920" y="4662360"/>
                  <a:ext cx="63324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−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1" name=""/>
          <p:cNvGrpSpPr/>
          <p:nvPr/>
        </p:nvGrpSpPr>
        <p:grpSpPr>
          <a:xfrm>
            <a:off x="958680" y="4419720"/>
            <a:ext cx="412920" cy="442800"/>
            <a:chOff x="958680" y="4419720"/>
            <a:chExt cx="412920" cy="442800"/>
          </a:xfrm>
        </p:grpSpPr>
        <p:sp>
          <p:nvSpPr>
            <p:cNvPr id="322" name=""/>
            <p:cNvSpPr/>
            <p:nvPr/>
          </p:nvSpPr>
          <p:spPr>
            <a:xfrm>
              <a:off x="1143000" y="4419720"/>
              <a:ext cx="22860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958680" y="4572000"/>
                  <a:ext cx="265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4" name=""/>
          <p:cNvGrpSpPr/>
          <p:nvPr/>
        </p:nvGrpSpPr>
        <p:grpSpPr>
          <a:xfrm>
            <a:off x="609480" y="5029200"/>
            <a:ext cx="1143000" cy="609480"/>
            <a:chOff x="609480" y="5029200"/>
            <a:chExt cx="1143000" cy="609480"/>
          </a:xfrm>
        </p:grpSpPr>
        <p:sp>
          <p:nvSpPr>
            <p:cNvPr id="325" name=""/>
            <p:cNvSpPr/>
            <p:nvPr/>
          </p:nvSpPr>
          <p:spPr>
            <a:xfrm flipH="1">
              <a:off x="609480" y="502920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66680" y="5105520"/>
              <a:ext cx="0" cy="533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71600" y="502920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133720" y="4724280"/>
                <a:ext cx="2603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381400" y="5410080"/>
                <a:ext cx="21463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410080" y="76320"/>
                <a:ext cx="2793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31" name=""/>
          <p:cNvGraphicFramePr/>
          <p:nvPr/>
        </p:nvGraphicFramePr>
        <p:xfrm>
          <a:off x="4800600" y="457200"/>
          <a:ext cx="3886200" cy="36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457200"/>
                    <a:ext cx="38862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6705720" y="376200"/>
          <a:ext cx="1004760" cy="76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376200"/>
                    <a:ext cx="10047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5702400" y="4191120"/>
                <a:ext cx="2298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8153280" y="205740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7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57200" y="76320"/>
                <a:ext cx="287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1" name=""/>
          <p:cNvGrpSpPr/>
          <p:nvPr/>
        </p:nvGrpSpPr>
        <p:grpSpPr>
          <a:xfrm>
            <a:off x="5334120" y="3429000"/>
            <a:ext cx="3047760" cy="3159000"/>
            <a:chOff x="5334120" y="3429000"/>
            <a:chExt cx="3047760" cy="3159000"/>
          </a:xfrm>
        </p:grpSpPr>
        <p:graphicFrame>
          <p:nvGraphicFramePr>
            <p:cNvPr id="342" name=""/>
            <p:cNvGraphicFramePr/>
            <p:nvPr/>
          </p:nvGraphicFramePr>
          <p:xfrm>
            <a:off x="5334120" y="3763800"/>
            <a:ext cx="3047760" cy="282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3763800"/>
                      <a:ext cx="3047760" cy="282420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5692680" y="342900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IGINAL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0" y="380880"/>
            <a:ext cx="3581280" cy="3318120"/>
            <a:chOff x="0" y="380880"/>
            <a:chExt cx="3581280" cy="3318120"/>
          </a:xfrm>
        </p:grpSpPr>
        <p:grpSp>
          <p:nvGrpSpPr>
            <p:cNvPr id="346" name=""/>
            <p:cNvGrpSpPr/>
            <p:nvPr/>
          </p:nvGrpSpPr>
          <p:grpSpPr>
            <a:xfrm>
              <a:off x="0" y="380880"/>
              <a:ext cx="3581280" cy="3318120"/>
              <a:chOff x="0" y="380880"/>
              <a:chExt cx="3581280" cy="3318120"/>
            </a:xfrm>
          </p:grpSpPr>
          <p:graphicFrame>
            <p:nvGraphicFramePr>
              <p:cNvPr id="347" name=""/>
              <p:cNvGraphicFramePr/>
              <p:nvPr/>
            </p:nvGraphicFramePr>
            <p:xfrm>
              <a:off x="0" y="380880"/>
              <a:ext cx="3581280" cy="3318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4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380880"/>
                        <a:ext cx="3581280" cy="3318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9" name=""/>
              <p:cNvSpPr/>
              <p:nvPr/>
            </p:nvSpPr>
            <p:spPr>
              <a:xfrm>
                <a:off x="1752480" y="533520"/>
                <a:ext cx="9907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2971800" y="17524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819520" y="3036960"/>
                <a:ext cx="23112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152280" y="3657600"/>
                <a:ext cx="39499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 DETERMINE TIME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2895480" y="4000680"/>
                <a:ext cx="167652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ductive Circu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54" name=""/>
          <p:cNvGraphicFramePr/>
          <p:nvPr/>
        </p:nvGraphicFramePr>
        <p:xfrm>
          <a:off x="0" y="4114800"/>
          <a:ext cx="2895480" cy="268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114800"/>
                    <a:ext cx="289548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"/>
          <p:cNvGrpSpPr/>
          <p:nvPr/>
        </p:nvGrpSpPr>
        <p:grpSpPr>
          <a:xfrm>
            <a:off x="469800" y="4038480"/>
            <a:ext cx="1473480" cy="1913040"/>
            <a:chOff x="469800" y="4038480"/>
            <a:chExt cx="1473480" cy="1913040"/>
          </a:xfrm>
        </p:grpSpPr>
        <p:sp>
          <p:nvSpPr>
            <p:cNvPr id="357" name=""/>
            <p:cNvSpPr/>
            <p:nvPr/>
          </p:nvSpPr>
          <p:spPr>
            <a:xfrm>
              <a:off x="469800" y="5097600"/>
              <a:ext cx="392040" cy="853920"/>
            </a:xfrm>
            <a:custGeom>
              <a:avLst/>
              <a:gdLst/>
              <a:ahLst/>
              <a:rect l="l" t="t" r="r" b="b"/>
              <a:pathLst>
                <a:path w="247" h="538">
                  <a:moveTo>
                    <a:pt x="16" y="0"/>
                  </a:moveTo>
                  <a:cubicBezTo>
                    <a:pt x="26" y="1"/>
                    <a:pt x="172" y="9"/>
                    <a:pt x="172" y="39"/>
                  </a:cubicBezTo>
                  <a:cubicBezTo>
                    <a:pt x="247" y="114"/>
                    <a:pt x="226" y="338"/>
                    <a:pt x="226" y="405"/>
                  </a:cubicBezTo>
                  <a:cubicBezTo>
                    <a:pt x="205" y="410"/>
                    <a:pt x="182" y="409"/>
                    <a:pt x="164" y="421"/>
                  </a:cubicBezTo>
                  <a:cubicBezTo>
                    <a:pt x="132" y="442"/>
                    <a:pt x="120" y="487"/>
                    <a:pt x="86" y="506"/>
                  </a:cubicBezTo>
                  <a:cubicBezTo>
                    <a:pt x="60" y="520"/>
                    <a:pt x="27" y="524"/>
                    <a:pt x="0" y="538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52480" y="4038480"/>
              <a:ext cx="0" cy="533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1523880" y="4572000"/>
                  <a:ext cx="41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124080" y="50292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2971800" y="5486400"/>
                <a:ext cx="113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340240" y="7632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486400" y="457200"/>
                <a:ext cx="2768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486400" y="762120"/>
                <a:ext cx="2857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6019920" y="137160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410080" y="2209680"/>
                <a:ext cx="2959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67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0" y="393840"/>
          <a:ext cx="5410080" cy="30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93840"/>
                    <a:ext cx="5410080" cy="30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2362320" y="0"/>
                <a:ext cx="1689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800600" y="12600"/>
                <a:ext cx="32130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228600" y="3657600"/>
                <a:ext cx="289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 DETERMIN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5" name=""/>
          <p:cNvGraphicFramePr/>
          <p:nvPr/>
        </p:nvGraphicFramePr>
        <p:xfrm>
          <a:off x="0" y="3962520"/>
          <a:ext cx="4343400" cy="29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62520"/>
                    <a:ext cx="4343400" cy="29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006640" y="6095880"/>
                <a:ext cx="73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809880" y="5715000"/>
                <a:ext cx="4572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86200" y="4495680"/>
                <a:ext cx="5446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52280" y="3962520"/>
                <a:ext cx="2082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257800" y="2681280"/>
                <a:ext cx="287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82" name=""/>
          <p:cNvGraphicFramePr/>
          <p:nvPr/>
        </p:nvGraphicFramePr>
        <p:xfrm>
          <a:off x="4800600" y="3005280"/>
          <a:ext cx="4111560" cy="301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005280"/>
                    <a:ext cx="411156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6248520" y="59436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5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920" y="0"/>
            <a:ext cx="2131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04920" y="0"/>
                <a:ext cx="286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90" name=""/>
          <p:cNvGraphicFramePr/>
          <p:nvPr/>
        </p:nvGraphicFramePr>
        <p:xfrm>
          <a:off x="4952880" y="4267080"/>
          <a:ext cx="3962520" cy="21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4267080"/>
                    <a:ext cx="3962520" cy="21178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5800680" y="387360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0" y="380880"/>
            <a:ext cx="4572000" cy="2444760"/>
            <a:chOff x="0" y="380880"/>
            <a:chExt cx="4572000" cy="2444760"/>
          </a:xfrm>
        </p:grpSpPr>
        <p:graphicFrame>
          <p:nvGraphicFramePr>
            <p:cNvPr id="394" name=""/>
            <p:cNvGraphicFramePr/>
            <p:nvPr/>
          </p:nvGraphicFramePr>
          <p:xfrm>
            <a:off x="0" y="380880"/>
            <a:ext cx="4572000" cy="244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80880"/>
                      <a:ext cx="457200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"/>
            <p:cNvSpPr/>
            <p:nvPr/>
          </p:nvSpPr>
          <p:spPr>
            <a:xfrm>
              <a:off x="1752480" y="685800"/>
              <a:ext cx="38124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19520" y="685800"/>
              <a:ext cx="83808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 rot="10800000">
                <a:off x="3886200" y="762120"/>
                <a:ext cx="609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9" name=""/>
          <p:cNvGrpSpPr/>
          <p:nvPr/>
        </p:nvGrpSpPr>
        <p:grpSpPr>
          <a:xfrm>
            <a:off x="2286000" y="304920"/>
            <a:ext cx="533520" cy="457200"/>
            <a:chOff x="2286000" y="304920"/>
            <a:chExt cx="533520" cy="457200"/>
          </a:xfrm>
        </p:grpSpPr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2438280" y="304920"/>
                  <a:ext cx="265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01" name=""/>
            <p:cNvSpPr/>
            <p:nvPr/>
          </p:nvSpPr>
          <p:spPr>
            <a:xfrm>
              <a:off x="2286000" y="609480"/>
              <a:ext cx="533520" cy="15264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152280" y="2793960"/>
                <a:ext cx="2819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3" name=""/>
          <p:cNvGrpSpPr/>
          <p:nvPr/>
        </p:nvGrpSpPr>
        <p:grpSpPr>
          <a:xfrm>
            <a:off x="1981080" y="914400"/>
            <a:ext cx="1067040" cy="457200"/>
            <a:chOff x="1981080" y="914400"/>
            <a:chExt cx="1067040" cy="457200"/>
          </a:xfrm>
        </p:grpSpPr>
        <p:sp>
          <p:nvSpPr>
            <p:cNvPr id="404" name=""/>
            <p:cNvSpPr/>
            <p:nvPr/>
          </p:nvSpPr>
          <p:spPr>
            <a:xfrm flipH="1">
              <a:off x="1981080" y="9144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4600" y="99072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0920" y="91440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905120" y="1905120"/>
                <a:ext cx="7365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8" name=""/>
          <p:cNvGrpSpPr/>
          <p:nvPr/>
        </p:nvGrpSpPr>
        <p:grpSpPr>
          <a:xfrm>
            <a:off x="501480" y="2971800"/>
            <a:ext cx="2940120" cy="798480"/>
            <a:chOff x="501480" y="2971800"/>
            <a:chExt cx="2940120" cy="798480"/>
          </a:xfrm>
        </p:grpSpPr>
        <mc:AlternateContent>
          <mc:Choice xmlns:a14="http://schemas.microsoft.com/office/drawing/2010/main" Requires="a14">
            <p:sp>
              <p:nvSpPr>
                <p:cNvPr id="409" name=""/>
                <p:cNvSpPr txBox="1"/>
                <p:nvPr/>
              </p:nvSpPr>
              <p:spPr>
                <a:xfrm>
                  <a:off x="2971800" y="2971800"/>
                  <a:ext cx="4698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501480" y="3429000"/>
                  <a:ext cx="174024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1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×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2362320" y="3429000"/>
                <a:ext cx="2146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2" name=""/>
          <p:cNvGrpSpPr/>
          <p:nvPr/>
        </p:nvGrpSpPr>
        <p:grpSpPr>
          <a:xfrm>
            <a:off x="2782800" y="2057400"/>
            <a:ext cx="1560240" cy="380880"/>
            <a:chOff x="2782800" y="2057400"/>
            <a:chExt cx="1560240" cy="380880"/>
          </a:xfrm>
        </p:grpSpPr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2782800" y="2057400"/>
                  <a:ext cx="2286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4001760" y="2097000"/>
                  <a:ext cx="3412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886200" y="2590920"/>
                <a:ext cx="4572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200400" y="22860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7" name=""/>
          <p:cNvGrpSpPr/>
          <p:nvPr/>
        </p:nvGrpSpPr>
        <p:grpSpPr>
          <a:xfrm>
            <a:off x="3124080" y="762120"/>
            <a:ext cx="725400" cy="1805040"/>
            <a:chOff x="3124080" y="762120"/>
            <a:chExt cx="725400" cy="1805040"/>
          </a:xfrm>
        </p:grpSpPr>
        <p:sp>
          <p:nvSpPr>
            <p:cNvPr id="418" name=""/>
            <p:cNvSpPr/>
            <p:nvPr/>
          </p:nvSpPr>
          <p:spPr>
            <a:xfrm>
              <a:off x="3124080" y="762120"/>
              <a:ext cx="555480" cy="1805040"/>
            </a:xfrm>
            <a:custGeom>
              <a:avLst/>
              <a:gdLst/>
              <a:ahLst/>
              <a:rect l="l" t="t" r="r" b="b"/>
              <a:pathLst>
                <a:path w="350" h="1137">
                  <a:moveTo>
                    <a:pt x="350" y="15"/>
                  </a:moveTo>
                  <a:cubicBezTo>
                    <a:pt x="242" y="1"/>
                    <a:pt x="252" y="0"/>
                    <a:pt x="109" y="7"/>
                  </a:cubicBezTo>
                  <a:cubicBezTo>
                    <a:pt x="93" y="12"/>
                    <a:pt x="62" y="23"/>
                    <a:pt x="62" y="23"/>
                  </a:cubicBezTo>
                  <a:cubicBezTo>
                    <a:pt x="59" y="72"/>
                    <a:pt x="56" y="122"/>
                    <a:pt x="54" y="171"/>
                  </a:cubicBezTo>
                  <a:cubicBezTo>
                    <a:pt x="50" y="267"/>
                    <a:pt x="50" y="363"/>
                    <a:pt x="46" y="459"/>
                  </a:cubicBezTo>
                  <a:cubicBezTo>
                    <a:pt x="36" y="677"/>
                    <a:pt x="0" y="895"/>
                    <a:pt x="0" y="1114"/>
                  </a:cubicBezTo>
                  <a:cubicBezTo>
                    <a:pt x="114" y="1125"/>
                    <a:pt x="164" y="1137"/>
                    <a:pt x="288" y="1137"/>
                  </a:cubicBezTo>
                  <a:cubicBezTo>
                    <a:pt x="294" y="934"/>
                    <a:pt x="319" y="716"/>
                    <a:pt x="319" y="514"/>
                  </a:cubicBezTo>
                </a:path>
              </a:pathLst>
            </a:custGeom>
            <a:solidFill>
              <a:srgbClr val="00cc99">
                <a:alpha val="50000"/>
              </a:srgbClr>
            </a:solidFill>
            <a:ln w="2844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57280" y="1204920"/>
              <a:ext cx="592200" cy="3682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58760" y="3809880"/>
                <a:ext cx="40258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 TIME 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52280" y="4172040"/>
                <a:ext cx="1613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ductive circuit</m:t>
                        </m:r>
                      </m:e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09680" y="4191120"/>
                <a:ext cx="19558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ircuit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pendent sources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3" name=""/>
          <p:cNvGrpSpPr/>
          <p:nvPr/>
        </p:nvGrpSpPr>
        <p:grpSpPr>
          <a:xfrm>
            <a:off x="4876920" y="41400"/>
            <a:ext cx="3574800" cy="3195360"/>
            <a:chOff x="4876920" y="41400"/>
            <a:chExt cx="3574800" cy="3195360"/>
          </a:xfrm>
        </p:grpSpPr>
        <p:graphicFrame>
          <p:nvGraphicFramePr>
            <p:cNvPr id="424" name=""/>
            <p:cNvGraphicFramePr/>
            <p:nvPr/>
          </p:nvGraphicFramePr>
          <p:xfrm>
            <a:off x="4876920" y="457200"/>
            <a:ext cx="3574800" cy="277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76920" y="457200"/>
                      <a:ext cx="3574800" cy="277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6" name=""/>
            <p:cNvSpPr/>
            <p:nvPr/>
          </p:nvSpPr>
          <p:spPr>
            <a:xfrm>
              <a:off x="5294520" y="41400"/>
              <a:ext cx="29239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PEN CIRCUIT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867280" y="1600200"/>
            <a:ext cx="762120" cy="1103400"/>
            <a:chOff x="5867280" y="1600200"/>
            <a:chExt cx="762120" cy="1103400"/>
          </a:xfrm>
        </p:grpSpPr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5867280" y="2362320"/>
                  <a:ext cx="749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=6A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429" name=""/>
            <p:cNvSpPr/>
            <p:nvPr/>
          </p:nvSpPr>
          <p:spPr>
            <a:xfrm>
              <a:off x="6629400" y="160020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162920" y="2209680"/>
                <a:ext cx="4190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31" name=""/>
          <p:cNvGrpSpPr/>
          <p:nvPr/>
        </p:nvGrpSpPr>
        <p:grpSpPr>
          <a:xfrm>
            <a:off x="6553080" y="905040"/>
            <a:ext cx="2006640" cy="2585880"/>
            <a:chOff x="6553080" y="905040"/>
            <a:chExt cx="2006640" cy="2585880"/>
          </a:xfrm>
        </p:grpSpPr>
        <p:grpSp>
          <p:nvGrpSpPr>
            <p:cNvPr id="432" name=""/>
            <p:cNvGrpSpPr/>
            <p:nvPr/>
          </p:nvGrpSpPr>
          <p:grpSpPr>
            <a:xfrm>
              <a:off x="7093080" y="905040"/>
              <a:ext cx="668160" cy="931680"/>
              <a:chOff x="7093080" y="905040"/>
              <a:chExt cx="668160" cy="931680"/>
            </a:xfrm>
          </p:grpSpPr>
          <p:sp>
            <p:nvSpPr>
              <p:cNvPr id="433" name=""/>
              <p:cNvSpPr/>
              <p:nvPr/>
            </p:nvSpPr>
            <p:spPr>
              <a:xfrm>
                <a:off x="7093080" y="905040"/>
                <a:ext cx="603000" cy="931680"/>
              </a:xfrm>
              <a:custGeom>
                <a:avLst/>
                <a:gdLst/>
                <a:ahLst/>
                <a:rect l="l" t="t" r="r" b="b"/>
                <a:pathLst>
                  <a:path w="378" h="589">
                    <a:moveTo>
                      <a:pt x="371" y="0"/>
                    </a:moveTo>
                    <a:cubicBezTo>
                      <a:pt x="272" y="0"/>
                      <a:pt x="173" y="0"/>
                      <a:pt x="74" y="0"/>
                    </a:cubicBezTo>
                    <a:cubicBezTo>
                      <a:pt x="25" y="162"/>
                      <a:pt x="0" y="584"/>
                      <a:pt x="74" y="584"/>
                    </a:cubicBezTo>
                    <a:cubicBezTo>
                      <a:pt x="140" y="565"/>
                      <a:pt x="133" y="570"/>
                      <a:pt x="230" y="577"/>
                    </a:cubicBezTo>
                    <a:cubicBezTo>
                      <a:pt x="310" y="589"/>
                      <a:pt x="261" y="584"/>
                      <a:pt x="378" y="584"/>
                    </a:cubicBezTo>
                    <a:cubicBezTo>
                      <a:pt x="371" y="234"/>
                      <a:pt x="371" y="361"/>
                      <a:pt x="371" y="203"/>
                    </a:cubicBezTo>
                  </a:path>
                </a:pathLst>
              </a:custGeom>
              <a:noFill/>
              <a:ln w="2844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62920" y="1386000"/>
                <a:ext cx="598320" cy="368280"/>
              </a:xfrm>
              <a:prstGeom prst="rect">
                <a:avLst/>
              </a:prstGeom>
              <a:noFill/>
              <a:ln w="284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Console"/>
                  </a:rPr>
                  <a:t>KV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6553080" y="3200400"/>
                  <a:ext cx="2006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934320" y="380880"/>
                <a:ext cx="698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37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4829760" y="228600"/>
            <a:ext cx="4021200" cy="1465560"/>
            <a:chOff x="4829760" y="228600"/>
            <a:chExt cx="4021200" cy="1465560"/>
          </a:xfrm>
        </p:grpSpPr>
        <p:sp>
          <p:nvSpPr>
            <p:cNvPr id="441" name=""/>
            <p:cNvSpPr/>
            <p:nvPr/>
          </p:nvSpPr>
          <p:spPr>
            <a:xfrm>
              <a:off x="4829760" y="228600"/>
              <a:ext cx="4021200" cy="14655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NOTE: FOR THE INDUCTIVE C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CIRCUIT USED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OMPUTE THE SHORT CIRCUI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URRENT IS THE SAME USE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ETERMIN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2" name=""/>
                <p:cNvSpPr txBox="1"/>
                <p:nvPr/>
              </p:nvSpPr>
              <p:spPr>
                <a:xfrm>
                  <a:off x="6248520" y="137160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3" name=""/>
          <p:cNvGrpSpPr/>
          <p:nvPr/>
        </p:nvGrpSpPr>
        <p:grpSpPr>
          <a:xfrm>
            <a:off x="0" y="380880"/>
            <a:ext cx="4572000" cy="2444760"/>
            <a:chOff x="0" y="380880"/>
            <a:chExt cx="4572000" cy="2444760"/>
          </a:xfrm>
        </p:grpSpPr>
        <p:graphicFrame>
          <p:nvGraphicFramePr>
            <p:cNvPr id="444" name=""/>
            <p:cNvGraphicFramePr/>
            <p:nvPr/>
          </p:nvGraphicFramePr>
          <p:xfrm>
            <a:off x="0" y="380880"/>
            <a:ext cx="457200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380880"/>
                      <a:ext cx="457200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6" name=""/>
            <p:cNvSpPr/>
            <p:nvPr/>
          </p:nvSpPr>
          <p:spPr>
            <a:xfrm>
              <a:off x="1752480" y="685800"/>
              <a:ext cx="38124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19520" y="685800"/>
              <a:ext cx="83808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452880" y="0"/>
            <a:ext cx="30610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HORT CIRCUIT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4952880" y="4282920"/>
          <a:ext cx="3962520" cy="211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282920"/>
                    <a:ext cx="3962520" cy="21178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5800680" y="388944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2897280" y="762120"/>
            <a:ext cx="758880" cy="290520"/>
            <a:chOff x="2897280" y="762120"/>
            <a:chExt cx="758880" cy="290520"/>
          </a:xfrm>
        </p:grpSpPr>
        <p:sp>
          <p:nvSpPr>
            <p:cNvPr id="453" name=""/>
            <p:cNvSpPr/>
            <p:nvPr/>
          </p:nvSpPr>
          <p:spPr>
            <a:xfrm>
              <a:off x="2897280" y="763920"/>
              <a:ext cx="758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3124080" y="762120"/>
                  <a:ext cx="31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5" name=""/>
          <p:cNvGrpSpPr/>
          <p:nvPr/>
        </p:nvGrpSpPr>
        <p:grpSpPr>
          <a:xfrm>
            <a:off x="754200" y="808200"/>
            <a:ext cx="2846160" cy="1752480"/>
            <a:chOff x="754200" y="808200"/>
            <a:chExt cx="2846160" cy="1752480"/>
          </a:xfrm>
        </p:grpSpPr>
        <p:sp>
          <p:nvSpPr>
            <p:cNvPr id="456" name=""/>
            <p:cNvSpPr/>
            <p:nvPr/>
          </p:nvSpPr>
          <p:spPr>
            <a:xfrm>
              <a:off x="754200" y="808200"/>
              <a:ext cx="2846160" cy="1752480"/>
            </a:xfrm>
            <a:custGeom>
              <a:avLst/>
              <a:gdLst/>
              <a:ahLst/>
              <a:rect l="l" t="t" r="r" b="b"/>
              <a:pathLst>
                <a:path w="1793" h="1104">
                  <a:moveTo>
                    <a:pt x="0" y="1018"/>
                  </a:moveTo>
                  <a:cubicBezTo>
                    <a:pt x="34" y="969"/>
                    <a:pt x="13" y="1007"/>
                    <a:pt x="24" y="902"/>
                  </a:cubicBezTo>
                  <a:cubicBezTo>
                    <a:pt x="33" y="813"/>
                    <a:pt x="40" y="725"/>
                    <a:pt x="55" y="637"/>
                  </a:cubicBezTo>
                  <a:cubicBezTo>
                    <a:pt x="65" y="507"/>
                    <a:pt x="73" y="377"/>
                    <a:pt x="86" y="247"/>
                  </a:cubicBezTo>
                  <a:cubicBezTo>
                    <a:pt x="94" y="24"/>
                    <a:pt x="94" y="102"/>
                    <a:pt x="94" y="13"/>
                  </a:cubicBezTo>
                  <a:cubicBezTo>
                    <a:pt x="728" y="4"/>
                    <a:pt x="667" y="0"/>
                    <a:pt x="1364" y="13"/>
                  </a:cubicBezTo>
                  <a:cubicBezTo>
                    <a:pt x="1507" y="16"/>
                    <a:pt x="1650" y="37"/>
                    <a:pt x="1793" y="37"/>
                  </a:cubicBezTo>
                  <a:cubicBezTo>
                    <a:pt x="1787" y="393"/>
                    <a:pt x="1769" y="749"/>
                    <a:pt x="1769" y="1104"/>
                  </a:cubicBezTo>
                  <a:cubicBezTo>
                    <a:pt x="1231" y="1104"/>
                    <a:pt x="694" y="1104"/>
                    <a:pt x="156" y="110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7" name=""/>
                <p:cNvSpPr txBox="1"/>
                <p:nvPr/>
              </p:nvSpPr>
              <p:spPr>
                <a:xfrm>
                  <a:off x="3276720" y="2209680"/>
                  <a:ext cx="19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8" name=""/>
          <p:cNvGrpSpPr/>
          <p:nvPr/>
        </p:nvGrpSpPr>
        <p:grpSpPr>
          <a:xfrm>
            <a:off x="1089000" y="1187280"/>
            <a:ext cx="1422360" cy="1213200"/>
            <a:chOff x="1089000" y="1187280"/>
            <a:chExt cx="1422360" cy="1213200"/>
          </a:xfrm>
        </p:grpSpPr>
        <p:sp>
          <p:nvSpPr>
            <p:cNvPr id="459" name=""/>
            <p:cNvSpPr/>
            <p:nvPr/>
          </p:nvSpPr>
          <p:spPr>
            <a:xfrm>
              <a:off x="1089000" y="1187280"/>
              <a:ext cx="1422360" cy="1213200"/>
            </a:xfrm>
            <a:custGeom>
              <a:avLst/>
              <a:gdLst/>
              <a:ahLst/>
              <a:rect l="l" t="t" r="r" b="b"/>
              <a:pathLst>
                <a:path w="896" h="764">
                  <a:moveTo>
                    <a:pt x="0" y="764"/>
                  </a:moveTo>
                  <a:cubicBezTo>
                    <a:pt x="18" y="577"/>
                    <a:pt x="33" y="389"/>
                    <a:pt x="54" y="203"/>
                  </a:cubicBezTo>
                  <a:cubicBezTo>
                    <a:pt x="57" y="135"/>
                    <a:pt x="62" y="0"/>
                    <a:pt x="62" y="0"/>
                  </a:cubicBezTo>
                  <a:cubicBezTo>
                    <a:pt x="245" y="12"/>
                    <a:pt x="425" y="26"/>
                    <a:pt x="608" y="31"/>
                  </a:cubicBezTo>
                  <a:cubicBezTo>
                    <a:pt x="717" y="39"/>
                    <a:pt x="693" y="35"/>
                    <a:pt x="779" y="47"/>
                  </a:cubicBezTo>
                  <a:cubicBezTo>
                    <a:pt x="797" y="50"/>
                    <a:pt x="816" y="53"/>
                    <a:pt x="834" y="55"/>
                  </a:cubicBezTo>
                  <a:cubicBezTo>
                    <a:pt x="855" y="58"/>
                    <a:pt x="896" y="62"/>
                    <a:pt x="896" y="62"/>
                  </a:cubicBezTo>
                  <a:cubicBezTo>
                    <a:pt x="892" y="284"/>
                    <a:pt x="880" y="510"/>
                    <a:pt x="880" y="733"/>
                  </a:cubicBezTo>
                  <a:cubicBezTo>
                    <a:pt x="815" y="748"/>
                    <a:pt x="750" y="736"/>
                    <a:pt x="685" y="725"/>
                  </a:cubicBezTo>
                  <a:cubicBezTo>
                    <a:pt x="496" y="731"/>
                    <a:pt x="306" y="740"/>
                    <a:pt x="117" y="74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2209680" y="1981080"/>
                  <a:ext cx="163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1" name=""/>
          <p:cNvGrpSpPr/>
          <p:nvPr/>
        </p:nvGrpSpPr>
        <p:grpSpPr>
          <a:xfrm>
            <a:off x="2819520" y="2057400"/>
            <a:ext cx="1484280" cy="341280"/>
            <a:chOff x="2819520" y="2057400"/>
            <a:chExt cx="1484280" cy="341280"/>
          </a:xfrm>
        </p:grpSpPr>
        <mc:AlternateContent>
          <mc:Choice xmlns:a14="http://schemas.microsoft.com/office/drawing/2010/main" Requires="a14">
            <p:sp>
              <p:nvSpPr>
                <p:cNvPr id="462" name=""/>
                <p:cNvSpPr txBox="1"/>
                <p:nvPr/>
              </p:nvSpPr>
              <p:spPr>
                <a:xfrm>
                  <a:off x="2819520" y="2057400"/>
                  <a:ext cx="2286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''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3962520" y="2057400"/>
                  <a:ext cx="3412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''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88920" y="2895480"/>
                <a:ext cx="22734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'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438280" y="3124080"/>
                <a:ext cx="582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3200400" y="2895480"/>
                <a:ext cx="1130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88920" y="3809880"/>
                <a:ext cx="26542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  <m:r>
                                <m:t xml:space="preserve">[</m:t>
                              </m:r>
                              <m:r>
                                <m:t xml:space="preserve">V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[</m:t>
                              </m:r>
                              <m:r>
                                <m:t xml:space="preserve">A</m:t>
                              </m:r>
                              <m:r>
                                <m:t xml:space="preserve">]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857680" y="3886200"/>
                <a:ext cx="1638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H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152280" y="4572000"/>
                <a:ext cx="281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33520" y="4876920"/>
                <a:ext cx="245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76320" y="5257800"/>
                <a:ext cx="434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685800" y="5791320"/>
                <a:ext cx="2933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8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6" name=""/>
          <p:cNvGraphicFramePr/>
          <p:nvPr/>
        </p:nvGraphicFramePr>
        <p:xfrm>
          <a:off x="76320" y="182520"/>
          <a:ext cx="6172200" cy="17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82520"/>
                    <a:ext cx="617220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962520" y="763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867280" y="76320"/>
                <a:ext cx="32385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76320" y="2057400"/>
                <a:ext cx="54356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 DETERMINE CAPACITOR VOLTAGE AT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81" name=""/>
          <p:cNvGraphicFramePr/>
          <p:nvPr/>
        </p:nvGraphicFramePr>
        <p:xfrm>
          <a:off x="0" y="2620800"/>
          <a:ext cx="6172200" cy="17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20800"/>
                    <a:ext cx="617220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200400" y="3824280"/>
                <a:ext cx="101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191120" y="2616120"/>
                <a:ext cx="838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5" name=""/>
          <p:cNvGrpSpPr/>
          <p:nvPr/>
        </p:nvGrpSpPr>
        <p:grpSpPr>
          <a:xfrm>
            <a:off x="3594240" y="3203640"/>
            <a:ext cx="1996920" cy="622080"/>
            <a:chOff x="3594240" y="3203640"/>
            <a:chExt cx="1996920" cy="622080"/>
          </a:xfrm>
        </p:grpSpPr>
        <p:sp>
          <p:nvSpPr>
            <p:cNvPr id="486" name=""/>
            <p:cNvSpPr/>
            <p:nvPr/>
          </p:nvSpPr>
          <p:spPr>
            <a:xfrm>
              <a:off x="3594240" y="3203640"/>
              <a:ext cx="1996920" cy="622080"/>
            </a:xfrm>
            <a:custGeom>
              <a:avLst/>
              <a:gdLst/>
              <a:ahLst/>
              <a:rect l="l" t="t" r="r" b="b"/>
              <a:pathLst>
                <a:path w="1258" h="392">
                  <a:moveTo>
                    <a:pt x="1235" y="0"/>
                  </a:moveTo>
                  <a:cubicBezTo>
                    <a:pt x="843" y="0"/>
                    <a:pt x="450" y="0"/>
                    <a:pt x="58" y="0"/>
                  </a:cubicBezTo>
                  <a:cubicBezTo>
                    <a:pt x="0" y="92"/>
                    <a:pt x="27" y="231"/>
                    <a:pt x="27" y="336"/>
                  </a:cubicBezTo>
                  <a:cubicBezTo>
                    <a:pt x="274" y="341"/>
                    <a:pt x="520" y="349"/>
                    <a:pt x="767" y="359"/>
                  </a:cubicBezTo>
                  <a:cubicBezTo>
                    <a:pt x="928" y="392"/>
                    <a:pt x="1094" y="390"/>
                    <a:pt x="1258" y="390"/>
                  </a:cubicBezTo>
                </a:path>
              </a:pathLst>
            </a:custGeom>
            <a:noFill/>
            <a:ln w="2844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35360" y="3317760"/>
              <a:ext cx="592200" cy="368280"/>
            </a:xfrm>
            <a:prstGeom prst="rect">
              <a:avLst/>
            </a:prstGeom>
            <a:noFill/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6172200" y="3124080"/>
                <a:ext cx="2743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952880" y="3276720"/>
                <a:ext cx="685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76320" y="434340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6629400" y="350532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3200400" y="4343400"/>
                <a:ext cx="2463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101520" y="4648320"/>
                <a:ext cx="287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4" name=""/>
          <p:cNvGrpSpPr/>
          <p:nvPr/>
        </p:nvGrpSpPr>
        <p:grpSpPr>
          <a:xfrm>
            <a:off x="0" y="4952880"/>
            <a:ext cx="6172200" cy="1722600"/>
            <a:chOff x="0" y="4952880"/>
            <a:chExt cx="6172200" cy="1722600"/>
          </a:xfrm>
        </p:grpSpPr>
        <p:graphicFrame>
          <p:nvGraphicFramePr>
            <p:cNvPr id="495" name=""/>
            <p:cNvGraphicFramePr/>
            <p:nvPr/>
          </p:nvGraphicFramePr>
          <p:xfrm>
            <a:off x="0" y="4952880"/>
            <a:ext cx="6172200" cy="1722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952880"/>
                      <a:ext cx="6172200" cy="17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5562720" y="57610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8" name=""/>
            <p:cNvSpPr/>
            <p:nvPr/>
          </p:nvSpPr>
          <p:spPr>
            <a:xfrm>
              <a:off x="1752480" y="5684760"/>
              <a:ext cx="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580920" y="5715000"/>
            <a:ext cx="762120" cy="304920"/>
            <a:chOff x="3580920" y="5715000"/>
            <a:chExt cx="762120" cy="304920"/>
          </a:xfrm>
        </p:grpSpPr>
        <p:sp>
          <p:nvSpPr>
            <p:cNvPr id="500" name=""/>
            <p:cNvSpPr/>
            <p:nvPr/>
          </p:nvSpPr>
          <p:spPr>
            <a:xfrm flipH="1">
              <a:off x="3580920" y="571500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3733920" y="5791320"/>
                  <a:ext cx="4572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352680" y="6172200"/>
                <a:ext cx="62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6934320" y="5715000"/>
                <a:ext cx="1358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04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7760" y="65160"/>
            <a:ext cx="2375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88920" y="76320"/>
                <a:ext cx="40258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 TIME 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4191120" y="7632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acitive circuit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7315200" y="76320"/>
                <a:ext cx="1041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11" name=""/>
          <p:cNvGrpSpPr/>
          <p:nvPr/>
        </p:nvGrpSpPr>
        <p:grpSpPr>
          <a:xfrm>
            <a:off x="76320" y="380880"/>
            <a:ext cx="6172200" cy="1722600"/>
            <a:chOff x="76320" y="380880"/>
            <a:chExt cx="6172200" cy="1722600"/>
          </a:xfrm>
        </p:grpSpPr>
        <p:graphicFrame>
          <p:nvGraphicFramePr>
            <p:cNvPr id="512" name=""/>
            <p:cNvGraphicFramePr/>
            <p:nvPr/>
          </p:nvGraphicFramePr>
          <p:xfrm>
            <a:off x="76320" y="380880"/>
            <a:ext cx="6172200" cy="1722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380880"/>
                      <a:ext cx="6172200" cy="17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14" name=""/>
                <p:cNvSpPr txBox="1"/>
                <p:nvPr/>
              </p:nvSpPr>
              <p:spPr>
                <a:xfrm>
                  <a:off x="5638680" y="1189080"/>
                  <a:ext cx="60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5" name=""/>
            <p:cNvSpPr/>
            <p:nvPr/>
          </p:nvSpPr>
          <p:spPr>
            <a:xfrm>
              <a:off x="1828800" y="1112760"/>
              <a:ext cx="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400800" y="99072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5105520" y="914400"/>
                <a:ext cx="392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18" name=""/>
          <p:cNvGrpSpPr/>
          <p:nvPr/>
        </p:nvGrpSpPr>
        <p:grpSpPr>
          <a:xfrm>
            <a:off x="4114800" y="4800600"/>
            <a:ext cx="5029200" cy="1770120"/>
            <a:chOff x="4114800" y="4800600"/>
            <a:chExt cx="5029200" cy="1770120"/>
          </a:xfrm>
        </p:grpSpPr>
        <p:graphicFrame>
          <p:nvGraphicFramePr>
            <p:cNvPr id="519" name=""/>
            <p:cNvGraphicFramePr/>
            <p:nvPr/>
          </p:nvGraphicFramePr>
          <p:xfrm>
            <a:off x="4114800" y="5167440"/>
            <a:ext cx="5029200" cy="1403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14800" y="5167440"/>
                      <a:ext cx="5029200" cy="140328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21" name=""/>
            <p:cNvSpPr/>
            <p:nvPr/>
          </p:nvSpPr>
          <p:spPr>
            <a:xfrm>
              <a:off x="5189040" y="4800600"/>
              <a:ext cx="2375280" cy="36828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IGINAL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71640" y="380880"/>
            <a:ext cx="29239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PEN CIRCUIT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4280" y="2098800"/>
            <a:ext cx="30610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HORT CIRCUIT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6320" y="2438280"/>
            <a:ext cx="6172200" cy="1722600"/>
            <a:chOff x="76320" y="2438280"/>
            <a:chExt cx="6172200" cy="1722600"/>
          </a:xfrm>
        </p:grpSpPr>
        <p:graphicFrame>
          <p:nvGraphicFramePr>
            <p:cNvPr id="525" name=""/>
            <p:cNvGraphicFramePr/>
            <p:nvPr/>
          </p:nvGraphicFramePr>
          <p:xfrm>
            <a:off x="76320" y="2438280"/>
            <a:ext cx="6172200" cy="1722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2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2438280"/>
                      <a:ext cx="6172200" cy="17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7" name=""/>
            <p:cNvSpPr/>
            <p:nvPr/>
          </p:nvSpPr>
          <p:spPr>
            <a:xfrm>
              <a:off x="1828800" y="3170160"/>
              <a:ext cx="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4120" y="2895480"/>
              <a:ext cx="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5398920" y="3200400"/>
                  <a:ext cx="31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0" name=""/>
          <p:cNvGrpSpPr/>
          <p:nvPr/>
        </p:nvGrpSpPr>
        <p:grpSpPr>
          <a:xfrm>
            <a:off x="1371600" y="2514600"/>
            <a:ext cx="2057400" cy="1828800"/>
            <a:chOff x="1371600" y="2514600"/>
            <a:chExt cx="2057400" cy="1828800"/>
          </a:xfrm>
        </p:grpSpPr>
        <p:sp>
          <p:nvSpPr>
            <p:cNvPr id="531" name=""/>
            <p:cNvSpPr/>
            <p:nvPr/>
          </p:nvSpPr>
          <p:spPr>
            <a:xfrm>
              <a:off x="1371600" y="2514600"/>
              <a:ext cx="2057400" cy="1828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2" name=""/>
                <p:cNvSpPr txBox="1"/>
                <p:nvPr/>
              </p:nvSpPr>
              <p:spPr>
                <a:xfrm>
                  <a:off x="1447920" y="2590920"/>
                  <a:ext cx="330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3" name=""/>
          <p:cNvGrpSpPr/>
          <p:nvPr/>
        </p:nvGrpSpPr>
        <p:grpSpPr>
          <a:xfrm>
            <a:off x="3600360" y="3030480"/>
            <a:ext cx="1484280" cy="866880"/>
            <a:chOff x="3600360" y="3030480"/>
            <a:chExt cx="1484280" cy="866880"/>
          </a:xfrm>
        </p:grpSpPr>
        <p:sp>
          <p:nvSpPr>
            <p:cNvPr id="534" name=""/>
            <p:cNvSpPr/>
            <p:nvPr/>
          </p:nvSpPr>
          <p:spPr>
            <a:xfrm>
              <a:off x="3600360" y="3030480"/>
              <a:ext cx="1484280" cy="866880"/>
            </a:xfrm>
            <a:custGeom>
              <a:avLst/>
              <a:gdLst/>
              <a:ahLst/>
              <a:rect l="l" t="t" r="r" b="b"/>
              <a:pathLst>
                <a:path w="935" h="546">
                  <a:moveTo>
                    <a:pt x="935" y="0"/>
                  </a:moveTo>
                  <a:cubicBezTo>
                    <a:pt x="935" y="177"/>
                    <a:pt x="935" y="353"/>
                    <a:pt x="935" y="530"/>
                  </a:cubicBezTo>
                  <a:cubicBezTo>
                    <a:pt x="800" y="534"/>
                    <a:pt x="665" y="546"/>
                    <a:pt x="530" y="546"/>
                  </a:cubicBezTo>
                  <a:cubicBezTo>
                    <a:pt x="353" y="546"/>
                    <a:pt x="0" y="538"/>
                    <a:pt x="0" y="538"/>
                  </a:cubicBezTo>
                  <a:cubicBezTo>
                    <a:pt x="0" y="400"/>
                    <a:pt x="0" y="263"/>
                    <a:pt x="0" y="125"/>
                  </a:cubicBezTo>
                  <a:cubicBezTo>
                    <a:pt x="311" y="114"/>
                    <a:pt x="155" y="117"/>
                    <a:pt x="467" y="117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35360" y="3505320"/>
              <a:ext cx="592200" cy="3682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6172200" y="2833560"/>
                <a:ext cx="179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172200" y="313848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8013600" y="3138480"/>
                <a:ext cx="97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172200" y="3505320"/>
                <a:ext cx="14349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7010280" y="4114800"/>
                <a:ext cx="1689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Ω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76320" y="4357800"/>
                <a:ext cx="281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76320" y="4724280"/>
                <a:ext cx="245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76320" y="5105520"/>
                <a:ext cx="300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3124080" y="5105520"/>
                <a:ext cx="106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28600" y="5562720"/>
                <a:ext cx="2997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46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59840" y="41400"/>
            <a:ext cx="237528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1560" y="3470400"/>
            <a:ext cx="40212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1: Form of th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990720" y="4170240"/>
                <a:ext cx="1981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4512600" y="41400"/>
            <a:ext cx="4569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: Initial inductor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4495680" y="685800"/>
          <a:ext cx="2697120" cy="25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685800"/>
                    <a:ext cx="26971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7238880" y="1523880"/>
                <a:ext cx="13716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4572000" y="3394080"/>
            <a:ext cx="42955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: Determine output at 0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inductor current is const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4132440" y="4056120"/>
          <a:ext cx="3850920" cy="25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2440" y="4056120"/>
                    <a:ext cx="38509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7381800" y="4341960"/>
                <a:ext cx="177336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0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52280" y="457200"/>
            <a:ext cx="2846520" cy="2538360"/>
            <a:chOff x="152280" y="457200"/>
            <a:chExt cx="2846520" cy="2538360"/>
          </a:xfrm>
        </p:grpSpPr>
        <p:graphicFrame>
          <p:nvGraphicFramePr>
            <p:cNvPr id="564" name=""/>
            <p:cNvGraphicFramePr/>
            <p:nvPr/>
          </p:nvGraphicFramePr>
          <p:xfrm>
            <a:off x="152280" y="609480"/>
            <a:ext cx="2846520" cy="2386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6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52280" y="609480"/>
                      <a:ext cx="2846520" cy="23860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66" name=""/>
                <p:cNvSpPr txBox="1"/>
                <p:nvPr/>
              </p:nvSpPr>
              <p:spPr>
                <a:xfrm>
                  <a:off x="247680" y="457200"/>
                  <a:ext cx="1689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14840" y="395280"/>
            <a:ext cx="70844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btaining the time constant: A General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851040"/>
          <a:ext cx="3087720" cy="22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51040"/>
                    <a:ext cx="30877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"/>
          <p:cNvGrpSpPr/>
          <p:nvPr/>
        </p:nvGrpSpPr>
        <p:grpSpPr>
          <a:xfrm>
            <a:off x="3129480" y="1566720"/>
            <a:ext cx="1278000" cy="749160"/>
            <a:chOff x="3129480" y="1566720"/>
            <a:chExt cx="1278000" cy="749160"/>
          </a:xfrm>
        </p:grpSpPr>
        <p:sp>
          <p:nvSpPr>
            <p:cNvPr id="56" name=""/>
            <p:cNvSpPr/>
            <p:nvPr/>
          </p:nvSpPr>
          <p:spPr>
            <a:xfrm>
              <a:off x="3346200" y="1566720"/>
              <a:ext cx="609480" cy="380880"/>
            </a:xfrm>
            <a:prstGeom prst="rightArrow">
              <a:avLst>
                <a:gd name="adj1" fmla="val 50000"/>
                <a:gd name="adj2" fmla="val 4000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29480" y="19476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ven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8" name=""/>
          <p:cNvGraphicFramePr/>
          <p:nvPr/>
        </p:nvGraphicFramePr>
        <p:xfrm>
          <a:off x="3962520" y="838080"/>
          <a:ext cx="2895480" cy="171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838080"/>
                    <a:ext cx="289548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73080" y="3402000"/>
          <a:ext cx="2670120" cy="216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0" y="3402000"/>
                    <a:ext cx="267012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495680" y="3460680"/>
          <a:ext cx="2641680" cy="210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3460680"/>
                    <a:ext cx="2641680" cy="21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369160" y="3546360"/>
            <a:ext cx="1689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KCL@ nod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066320" y="3809880"/>
            <a:ext cx="840240" cy="489240"/>
            <a:chOff x="1066320" y="3809880"/>
            <a:chExt cx="840240" cy="489240"/>
          </a:xfrm>
        </p:grpSpPr>
        <p:sp>
          <p:nvSpPr>
            <p:cNvPr id="66" name=""/>
            <p:cNvSpPr/>
            <p:nvPr/>
          </p:nvSpPr>
          <p:spPr>
            <a:xfrm>
              <a:off x="1600200" y="388620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1066320" y="3962520"/>
              <a:ext cx="381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1676520" y="3809880"/>
                  <a:ext cx="23004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143000" y="3886200"/>
                  <a:ext cx="29052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666880" y="3809880"/>
                <a:ext cx="10670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666880" y="4089240"/>
                <a:ext cx="12193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666880" y="4800600"/>
                <a:ext cx="14479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219400" y="5486400"/>
                <a:ext cx="23526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2320" y="6111720"/>
                <a:ext cx="23065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7075800" y="3470400"/>
            <a:ext cx="1140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K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486400" y="3886200"/>
            <a:ext cx="1289160" cy="971640"/>
            <a:chOff x="5486400" y="3886200"/>
            <a:chExt cx="1289160" cy="971640"/>
          </a:xfrm>
        </p:grpSpPr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5486400" y="3886200"/>
                  <a:ext cx="68580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6477120" y="3962520"/>
                  <a:ext cx="29844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470720" y="3733920"/>
                <a:ext cx="1441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467480" y="4114800"/>
                <a:ext cx="1244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467480" y="4495680"/>
                <a:ext cx="12193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962760" y="5029200"/>
                <a:ext cx="21812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021280" y="5969160"/>
                <a:ext cx="2674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640640" y="6134040"/>
                <a:ext cx="4366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85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16120" y="14400"/>
            <a:ext cx="56671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IRCUITS WITH ONE ENERGY STORING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867280" y="2286000"/>
                <a:ext cx="2934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pacitive  Circuit 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uctive Circuit    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1920" y="117360"/>
            <a:ext cx="41583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4: Find output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 after the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76320" y="781200"/>
          <a:ext cx="3641760" cy="25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81200"/>
                    <a:ext cx="364176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3048120" y="2971800"/>
                <a:ext cx="1242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1" name=""/>
          <p:cNvGraphicFramePr/>
          <p:nvPr/>
        </p:nvGraphicFramePr>
        <p:xfrm>
          <a:off x="5181480" y="152280"/>
          <a:ext cx="3581640" cy="25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52280"/>
                    <a:ext cx="358164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"/>
          <p:cNvSpPr/>
          <p:nvPr/>
        </p:nvSpPr>
        <p:spPr>
          <a:xfrm>
            <a:off x="77400" y="3470400"/>
            <a:ext cx="456984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5: Find time constant 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0" y="4191120"/>
          <a:ext cx="2697120" cy="257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191120"/>
                    <a:ext cx="26971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2743200" y="4038480"/>
                <a:ext cx="8380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971800" y="4903920"/>
                <a:ext cx="11430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895480" y="5486400"/>
                <a:ext cx="12193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4798440" y="3394080"/>
            <a:ext cx="36097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6: Find th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5324400" y="3962520"/>
                <a:ext cx="30672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5334120" y="4419720"/>
                <a:ext cx="1828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4919760" y="4952880"/>
                <a:ext cx="24048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876920" y="5562720"/>
                <a:ext cx="27684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871240" y="5791320"/>
            <a:ext cx="3269880" cy="1077840"/>
            <a:chOff x="5871240" y="5791320"/>
            <a:chExt cx="3269880" cy="1077840"/>
          </a:xfrm>
        </p:grpSpPr>
        <p:grpSp>
          <p:nvGrpSpPr>
            <p:cNvPr id="587" name=""/>
            <p:cNvGrpSpPr/>
            <p:nvPr/>
          </p:nvGrpSpPr>
          <p:grpSpPr>
            <a:xfrm>
              <a:off x="8106840" y="5791320"/>
              <a:ext cx="1034280" cy="1077840"/>
              <a:chOff x="8106840" y="5791320"/>
              <a:chExt cx="1034280" cy="1077840"/>
            </a:xfrm>
          </p:grpSpPr>
          <p:pic>
            <p:nvPicPr>
              <p:cNvPr id="588" name="stop" descr=""/>
              <p:cNvPicPr/>
              <p:nvPr/>
            </p:nvPicPr>
            <p:blipFill>
              <a:blip r:embed="rId7"/>
              <a:stretch/>
            </p:blipFill>
            <p:spPr>
              <a:xfrm>
                <a:off x="8424720" y="6354720"/>
                <a:ext cx="514440" cy="51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8106840" y="5791320"/>
                <a:ext cx="1034280" cy="580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Step b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Ste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90" name="geaux" descr=""/>
            <p:cNvPicPr/>
            <p:nvPr/>
          </p:nvPicPr>
          <p:blipFill>
            <a:blip r:embed="rId8"/>
            <a:stretch/>
          </p:blipFill>
          <p:spPr>
            <a:xfrm>
              <a:off x="6400800" y="6477120"/>
              <a:ext cx="7318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5871240" y="6161040"/>
              <a:ext cx="1887480" cy="337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uls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2" name=""/>
          <p:cNvGraphicFramePr/>
          <p:nvPr/>
        </p:nvGraphicFramePr>
        <p:xfrm>
          <a:off x="0" y="1668600"/>
          <a:ext cx="9067680" cy="36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68600"/>
                    <a:ext cx="906768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"/>
          <p:cNvSpPr/>
          <p:nvPr/>
        </p:nvSpPr>
        <p:spPr>
          <a:xfrm>
            <a:off x="3526200" y="76320"/>
            <a:ext cx="2100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PULSE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2880" y="668160"/>
            <a:ext cx="7751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STUDY THE RESPONSE OF CIRCUITS TO A SPECIAL CLASS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INGU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1066680" y="1219320"/>
                <a:ext cx="1486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5413680" y="1263600"/>
            <a:ext cx="1643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OLTAGE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73760" y="3265560"/>
            <a:ext cx="1643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URRENT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81160" y="3352680"/>
            <a:ext cx="2253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IME SHIFTED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3" name=""/>
          <p:cNvGraphicFramePr/>
          <p:nvPr/>
        </p:nvGraphicFramePr>
        <p:xfrm>
          <a:off x="228600" y="762120"/>
          <a:ext cx="2905200" cy="53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2905200" cy="53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"/>
          <p:cNvSpPr/>
          <p:nvPr/>
        </p:nvSpPr>
        <p:spPr>
          <a:xfrm>
            <a:off x="140040" y="217440"/>
            <a:ext cx="1643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LSE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51320" y="5627520"/>
            <a:ext cx="274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LSE AS SUM OF STE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4800600" y="914400"/>
          <a:ext cx="3646440" cy="23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914400"/>
                    <a:ext cx="36464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9" name=""/>
          <p:cNvGrpSpPr/>
          <p:nvPr/>
        </p:nvGrpSpPr>
        <p:grpSpPr>
          <a:xfrm>
            <a:off x="4725000" y="0"/>
            <a:ext cx="3415680" cy="798480"/>
            <a:chOff x="4725000" y="0"/>
            <a:chExt cx="3415680" cy="798480"/>
          </a:xfrm>
        </p:grpSpPr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5181480" y="533520"/>
                  <a:ext cx="2959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[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4725000" y="0"/>
              <a:ext cx="18874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LEARN BY D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5029200" y="3352680"/>
                <a:ext cx="29844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4648320" y="3657600"/>
          <a:ext cx="4092480" cy="285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657600"/>
                    <a:ext cx="4092480" cy="28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5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1560240" y="117360"/>
            <a:ext cx="607860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ONZERO INITIAL TIME AND REPEATED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514600" y="1371600"/>
                <a:ext cx="41911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124080" y="609480"/>
                <a:ext cx="3384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21" name=""/>
          <p:cNvGrpSpPr/>
          <p:nvPr/>
        </p:nvGrpSpPr>
        <p:grpSpPr>
          <a:xfrm>
            <a:off x="2514600" y="2286000"/>
            <a:ext cx="4175280" cy="1054080"/>
            <a:chOff x="2514600" y="2286000"/>
            <a:chExt cx="4175280" cy="1054080"/>
          </a:xfrm>
        </p:grpSpPr>
        <mc:AlternateContent>
          <mc:Choice xmlns:a14="http://schemas.microsoft.com/office/drawing/2010/main" Requires="a14">
            <p:sp>
              <p:nvSpPr>
                <p:cNvPr id="622" name=""/>
                <p:cNvSpPr txBox="1"/>
                <p:nvPr/>
              </p:nvSpPr>
              <p:spPr>
                <a:xfrm>
                  <a:off x="2514600" y="2286000"/>
                  <a:ext cx="312408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≥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23" name=""/>
            <p:cNvSpPr/>
            <p:nvPr/>
          </p:nvSpPr>
          <p:spPr>
            <a:xfrm>
              <a:off x="2531520" y="2971800"/>
              <a:ext cx="41583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RESPONSE FOR CONSTANT SOUR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80" y="3341520"/>
            <a:ext cx="8227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expression will hold on ANY interval where the sources 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stant. The values of the constants may be different and mus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valuated for each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07920" y="4332240"/>
            <a:ext cx="73738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values at the end of one interval will serve as ini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ditions for the next 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93240" y="76320"/>
            <a:ext cx="2131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209680" y="90360"/>
                <a:ext cx="426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 OUTPUT  VOLTAG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31" name=""/>
          <p:cNvGraphicFramePr/>
          <p:nvPr/>
        </p:nvGraphicFramePr>
        <p:xfrm>
          <a:off x="0" y="609480"/>
          <a:ext cx="4572000" cy="18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4572000" cy="18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"/>
          <p:cNvGraphicFramePr/>
          <p:nvPr/>
        </p:nvGraphicFramePr>
        <p:xfrm>
          <a:off x="76320" y="2362320"/>
          <a:ext cx="4495680" cy="20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2362320"/>
                    <a:ext cx="449568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2590920" y="1752480"/>
                <a:ext cx="19044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76320" y="4419720"/>
                <a:ext cx="259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895480" y="441972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14480" y="5257800"/>
                <a:ext cx="354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0" y="4724280"/>
                <a:ext cx="16257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76320" y="5562720"/>
                <a:ext cx="2082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752480" y="4724280"/>
                <a:ext cx="17528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2362320" y="5638680"/>
                <a:ext cx="1955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 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1600200" y="6019920"/>
                <a:ext cx="17654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572000" y="533520"/>
                <a:ext cx="1625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724280" y="914400"/>
                <a:ext cx="21844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K rSub { size 8{2} }  rSup { size 8{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6248520" y="533520"/>
                <a:ext cx="71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7086600" y="380880"/>
                <a:ext cx="20448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7315200" y="1143000"/>
                <a:ext cx="7113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τ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4648320" y="1600200"/>
                <a:ext cx="1828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0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629400" y="1600200"/>
                <a:ext cx="2260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v rSub { size 8{o} }  \( 0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3+ \) =2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 \( V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5334120" y="1981080"/>
                <a:ext cx="23875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52" name="geaux" descr=""/>
          <p:cNvPicPr/>
          <p:nvPr/>
        </p:nvPicPr>
        <p:blipFill>
          <a:blip r:embed="rId5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3376440" y="2486160"/>
            <a:ext cx="5538960" cy="4082760"/>
            <a:chOff x="3376440" y="2486160"/>
            <a:chExt cx="5538960" cy="4082760"/>
          </a:xfrm>
        </p:grpSpPr>
        <p:graphicFrame>
          <p:nvGraphicFramePr>
            <p:cNvPr id="656" name=""/>
            <p:cNvGraphicFramePr/>
            <p:nvPr/>
          </p:nvGraphicFramePr>
          <p:xfrm>
            <a:off x="4114800" y="2743200"/>
            <a:ext cx="4800600" cy="2819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5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114800" y="2743200"/>
                      <a:ext cx="4800600" cy="281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8" name=""/>
            <p:cNvSpPr/>
            <p:nvPr/>
          </p:nvSpPr>
          <p:spPr>
            <a:xfrm>
              <a:off x="3376440" y="4611600"/>
              <a:ext cx="2028960" cy="1957320"/>
            </a:xfrm>
            <a:custGeom>
              <a:avLst/>
              <a:gdLst/>
              <a:ahLst/>
              <a:rect l="l" t="t" r="r" b="b"/>
              <a:pathLst>
                <a:path w="1278" h="1233">
                  <a:moveTo>
                    <a:pt x="0" y="1233"/>
                  </a:moveTo>
                  <a:cubicBezTo>
                    <a:pt x="219" y="1228"/>
                    <a:pt x="437" y="1226"/>
                    <a:pt x="655" y="1210"/>
                  </a:cubicBezTo>
                  <a:cubicBezTo>
                    <a:pt x="689" y="1186"/>
                    <a:pt x="692" y="1150"/>
                    <a:pt x="717" y="1116"/>
                  </a:cubicBezTo>
                  <a:cubicBezTo>
                    <a:pt x="737" y="1018"/>
                    <a:pt x="752" y="918"/>
                    <a:pt x="772" y="820"/>
                  </a:cubicBezTo>
                  <a:cubicBezTo>
                    <a:pt x="778" y="789"/>
                    <a:pt x="787" y="758"/>
                    <a:pt x="795" y="727"/>
                  </a:cubicBezTo>
                  <a:cubicBezTo>
                    <a:pt x="800" y="706"/>
                    <a:pt x="811" y="664"/>
                    <a:pt x="811" y="664"/>
                  </a:cubicBezTo>
                  <a:cubicBezTo>
                    <a:pt x="819" y="486"/>
                    <a:pt x="832" y="311"/>
                    <a:pt x="850" y="134"/>
                  </a:cubicBezTo>
                  <a:cubicBezTo>
                    <a:pt x="853" y="100"/>
                    <a:pt x="849" y="66"/>
                    <a:pt x="858" y="33"/>
                  </a:cubicBezTo>
                  <a:cubicBezTo>
                    <a:pt x="864" y="12"/>
                    <a:pt x="999" y="3"/>
                    <a:pt x="1021" y="2"/>
                  </a:cubicBezTo>
                  <a:cubicBezTo>
                    <a:pt x="1107" y="0"/>
                    <a:pt x="1192" y="2"/>
                    <a:pt x="1278" y="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502320" y="2486160"/>
              <a:ext cx="1155960" cy="2239920"/>
            </a:xfrm>
            <a:custGeom>
              <a:avLst/>
              <a:gdLst/>
              <a:ahLst/>
              <a:rect l="l" t="t" r="r" b="b"/>
              <a:pathLst>
                <a:path w="728" h="1411">
                  <a:moveTo>
                    <a:pt x="728" y="0"/>
                  </a:moveTo>
                  <a:cubicBezTo>
                    <a:pt x="603" y="3"/>
                    <a:pt x="479" y="2"/>
                    <a:pt x="354" y="8"/>
                  </a:cubicBezTo>
                  <a:cubicBezTo>
                    <a:pt x="0" y="25"/>
                    <a:pt x="313" y="24"/>
                    <a:pt x="205" y="24"/>
                  </a:cubicBezTo>
                  <a:cubicBezTo>
                    <a:pt x="222" y="387"/>
                    <a:pt x="338" y="739"/>
                    <a:pt x="385" y="1099"/>
                  </a:cubicBezTo>
                  <a:cubicBezTo>
                    <a:pt x="389" y="1169"/>
                    <a:pt x="379" y="1352"/>
                    <a:pt x="408" y="14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93240" y="85680"/>
            <a:ext cx="4569840" cy="2886120"/>
            <a:chOff x="93240" y="85680"/>
            <a:chExt cx="4569840" cy="2886120"/>
          </a:xfrm>
        </p:grpSpPr>
        <p:graphicFrame>
          <p:nvGraphicFramePr>
            <p:cNvPr id="661" name=""/>
            <p:cNvGraphicFramePr/>
            <p:nvPr/>
          </p:nvGraphicFramePr>
          <p:xfrm>
            <a:off x="225360" y="1239840"/>
            <a:ext cx="3143160" cy="173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2" name="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225360" y="1239840"/>
                      <a:ext cx="3143160" cy="17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3" name=""/>
            <p:cNvSpPr/>
            <p:nvPr/>
          </p:nvSpPr>
          <p:spPr>
            <a:xfrm>
              <a:off x="93240" y="85680"/>
              <a:ext cx="4569840" cy="11912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SWITCH IS INITIAL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T a. AT TIME t=0 IT MOVES TO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ND AT t=0.5 IT MOVES BACK TO 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FI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4" name=""/>
                <p:cNvSpPr txBox="1"/>
                <p:nvPr/>
              </p:nvSpPr>
              <p:spPr>
                <a:xfrm>
                  <a:off x="777960" y="95868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4800600" y="457200"/>
                <a:ext cx="17906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6781680" y="533520"/>
                <a:ext cx="2235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876920" y="1143000"/>
                <a:ext cx="1396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486400" y="1600200"/>
                <a:ext cx="2413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6477120" y="1219320"/>
                <a:ext cx="24001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711680" y="2971800"/>
                <a:ext cx="3505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722840" y="3584520"/>
                <a:ext cx="21844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K rSub { size 8{2} }  rSup { size 8{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τ</m:t>
                            </m:r>
                            <m:r>
                              <m:t xml:space="preserve">'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4672080" y="4194000"/>
                <a:ext cx="264168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5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K rSub { size 8{2} } 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7389720" y="4157640"/>
                <a:ext cx="1511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6551640" y="4575240"/>
                <a:ext cx="243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0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985</m:t>
                        </m:r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= - </m:t>
                        </m:r>
                        <m: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015</m:t>
                        </m:r>
                        <m:r>
                          <m:rPr>
                            <m:lit/>
                            <m:nor/>
                          </m:rPr>
                          <m:t xml:space="preserve">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5332320" y="4956120"/>
                <a:ext cx="30733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6" name="geaux" descr=""/>
          <p:cNvPicPr/>
          <p:nvPr/>
        </p:nvPicPr>
        <p:blipFill>
          <a:blip r:embed="rId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7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5480" y="19080"/>
            <a:ext cx="1034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457200" y="1981080"/>
            <a:ext cx="3373560" cy="3209400"/>
            <a:chOff x="457200" y="1981080"/>
            <a:chExt cx="3373560" cy="3209400"/>
          </a:xfrm>
        </p:grpSpPr>
        <p:graphicFrame>
          <p:nvGraphicFramePr>
            <p:cNvPr id="681" name=""/>
            <p:cNvGraphicFramePr/>
            <p:nvPr/>
          </p:nvGraphicFramePr>
          <p:xfrm>
            <a:off x="457200" y="2882880"/>
            <a:ext cx="3373560" cy="2071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" y="2882880"/>
                      <a:ext cx="3373560" cy="20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1523880" y="1981080"/>
                  <a:ext cx="48924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84" name=""/>
            <p:cNvSpPr/>
            <p:nvPr/>
          </p:nvSpPr>
          <p:spPr>
            <a:xfrm>
              <a:off x="599040" y="4853160"/>
              <a:ext cx="3228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iecewise constant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0" y="5257800"/>
                <a:ext cx="494028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N  EACH  INTERVAL  WHERE  THE   SOUR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 CONSTANT  THE OUTPUT  IS  OF THE  FOR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5200200" y="5641920"/>
            <a:ext cx="35946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nstants are determ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n the usual m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5257800" y="152280"/>
            <a:ext cx="3287880" cy="290520"/>
            <a:chOff x="5257800" y="152280"/>
            <a:chExt cx="3287880" cy="290520"/>
          </a:xfrm>
        </p:grpSpPr>
        <mc:AlternateContent>
          <mc:Choice xmlns:a14="http://schemas.microsoft.com/office/drawing/2010/main" Requires="a14">
            <p:sp>
              <p:nvSpPr>
                <p:cNvPr id="688" name=""/>
                <p:cNvSpPr txBox="1"/>
                <p:nvPr/>
              </p:nvSpPr>
              <p:spPr>
                <a:xfrm>
                  <a:off x="5257800" y="152280"/>
                  <a:ext cx="2692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</m:t>
                      </m:r>
                      <m:r>
                        <m:t xml:space="preserve">0</m:t>
                      </m:r>
                      <m:r>
                        <m:t xml:space="preserve">&lt;</m:t>
                      </m:r>
                      <m:r>
                        <m:t xml:space="preserve">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switch at 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9" name=""/>
                <p:cNvSpPr txBox="1"/>
                <p:nvPr/>
              </p:nvSpPr>
              <p:spPr>
                <a:xfrm>
                  <a:off x="8001000" y="152280"/>
                  <a:ext cx="544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0" name=""/>
          <p:cNvGrpSpPr/>
          <p:nvPr/>
        </p:nvGrpSpPr>
        <p:grpSpPr>
          <a:xfrm>
            <a:off x="5459400" y="2438280"/>
            <a:ext cx="3227400" cy="290520"/>
            <a:chOff x="5459400" y="2438280"/>
            <a:chExt cx="3227400" cy="290520"/>
          </a:xfrm>
        </p:grpSpPr>
        <mc:AlternateContent>
          <mc:Choice xmlns:a14="http://schemas.microsoft.com/office/drawing/2010/main" Requires="a14">
            <p:sp>
              <p:nvSpPr>
                <p:cNvPr id="691" name=""/>
                <p:cNvSpPr txBox="1"/>
                <p:nvPr/>
              </p:nvSpPr>
              <p:spPr>
                <a:xfrm>
                  <a:off x="5459400" y="2438280"/>
                  <a:ext cx="24001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switch at 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2" name=""/>
                <p:cNvSpPr txBox="1"/>
                <p:nvPr/>
              </p:nvSpPr>
              <p:spPr>
                <a:xfrm>
                  <a:off x="7975440" y="243828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373680" y="371520"/>
            <a:ext cx="6261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pulse1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displays the response to a pulse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min=linspace(-0.5,0,5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negative time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1=linspace(0,0.5,5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first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2=linspace(0.5, 1.5,10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cond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min=12*ones(size(tmin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1=12*exp(-t1/0.2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after first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2=12-11.015*exp(-(t2-0.5)/0.2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after second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min,vomin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1,vo1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x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2,vo2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m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OUTPUT VOLTAGE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o(V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DoubleSwitching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8915400" cy="382896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538200" y="-11160"/>
            <a:ext cx="4813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SING MATLAB TO DISPLAY OUTPUT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8273160" y="5638320"/>
            <a:ext cx="866520" cy="1215000"/>
            <a:chOff x="8273160" y="5638320"/>
            <a:chExt cx="866520" cy="1215000"/>
          </a:xfrm>
        </p:grpSpPr>
        <p:pic>
          <p:nvPicPr>
            <p:cNvPr id="699" name="stop" descr=""/>
            <p:cNvPicPr/>
            <p:nvPr/>
          </p:nvPicPr>
          <p:blipFill>
            <a:blip r:embed="rId2"/>
            <a:stretch/>
          </p:blipFill>
          <p:spPr>
            <a:xfrm>
              <a:off x="857088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8273160" y="5638320"/>
              <a:ext cx="86652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Fir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5040" y="76320"/>
            <a:ext cx="14151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6320" y="498600"/>
            <a:ext cx="4586760" cy="1190520"/>
            <a:chOff x="76320" y="498600"/>
            <a:chExt cx="4586760" cy="1190520"/>
          </a:xfrm>
        </p:grpSpPr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76320" y="838080"/>
                  <a:ext cx="2616120" cy="85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τ</m:t>
                                  </m:r>
                                </m:den>
                              </m:f>
                            </m:sup>
                          </m:sSup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∞</m:t>
                          </m:r>
                          <m:r>
                            <m:t xml:space="preserve">)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"/>
            <p:cNvSpPr/>
            <p:nvPr/>
          </p:nvSpPr>
          <p:spPr>
            <a:xfrm>
              <a:off x="93240" y="498600"/>
              <a:ext cx="456984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. THE FORM OF TH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6560" y="2098800"/>
            <a:ext cx="4845240" cy="2760840"/>
            <a:chOff x="16560" y="2098800"/>
            <a:chExt cx="4845240" cy="2760840"/>
          </a:xfrm>
        </p:grpSpPr>
        <p:sp>
          <p:nvSpPr>
            <p:cNvPr id="95" name=""/>
            <p:cNvSpPr/>
            <p:nvPr/>
          </p:nvSpPr>
          <p:spPr>
            <a:xfrm>
              <a:off x="17640" y="2098800"/>
              <a:ext cx="4844160" cy="1191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2: DRAW THE CIRCUIT IN ST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ATE PRIOR TO THE SWITCHING 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ETERMINE CAPACITOR VOLTAGE 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DUCTOR CURR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560" y="3394080"/>
              <a:ext cx="4432680" cy="1465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3: DRAW THE CIRCUIT AT 0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CAPACITOR ACTS AS A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OURCE. THE INDUCTOR ACTS AS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URRENT SOURC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ETERMINE THE VARIABLE AT t=0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7640" y="5362560"/>
            <a:ext cx="484416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4: DRAW THE CIRCUIT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 AFTER THE SWITCH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DETERMINE THE VARIABLE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1752480"/>
                <a:ext cx="1943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447920" y="4978440"/>
                <a:ext cx="1854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5027400" y="193680"/>
            <a:ext cx="374688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5: DETERMINE TH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105520" y="914400"/>
                <a:ext cx="3644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circuit with one capacitor</m:t>
                        </m:r>
                      </m:e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circuit with one indu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5324040" y="2174760"/>
            <a:ext cx="319824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6: DETERMINE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S K1, 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943600" y="3124080"/>
                <a:ext cx="2692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4114800"/>
          <a:ext cx="4572000" cy="17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14800"/>
                    <a:ext cx="457200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438280" y="152280"/>
                <a:ext cx="130500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28600" y="2362320"/>
                <a:ext cx="33526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5120" y="344340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RIOR TO THE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280" y="4800600"/>
            <a:ext cx="1549440" cy="1549440"/>
            <a:chOff x="152280" y="4800600"/>
            <a:chExt cx="1549440" cy="1549440"/>
          </a:xfrm>
        </p:grpSpPr>
        <p:sp>
          <p:nvSpPr>
            <p:cNvPr id="113" name=""/>
            <p:cNvSpPr/>
            <p:nvPr/>
          </p:nvSpPr>
          <p:spPr>
            <a:xfrm>
              <a:off x="641160" y="48006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152280" y="5791320"/>
                  <a:ext cx="1549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k</m:t>
                          </m:r>
                          <m:r>
                            <m:t xml:space="preserve">Ω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16040" y="6378480"/>
                <a:ext cx="322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71800" y="601992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62720" y="689040"/>
                <a:ext cx="259056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Determine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4892400" y="1035000"/>
            <a:ext cx="41583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A CIRCUIT VALID FOR t=0+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CAPACITOR ACTS AS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172200" y="3657600"/>
                <a:ext cx="198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6320" y="3033720"/>
                <a:ext cx="44956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Initial voltage across capacito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588560" y="4572000"/>
            <a:ext cx="4432680" cy="1465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NOTES FOR INDUCTIVE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1)DETERMINE INITIAL I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URRENT IN 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2)FOR THE t=0+ CIRCUIT RE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BY A CURRENT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960" y="6516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457200"/>
          <a:ext cx="4800600" cy="1787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57200"/>
                    <a:ext cx="4800600" cy="17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572000" y="1752480"/>
          <a:ext cx="4572000" cy="168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1752480"/>
                    <a:ext cx="457200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752480" y="5943600"/>
                <a:ext cx="698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" name=""/>
          <p:cNvGrpSpPr/>
          <p:nvPr/>
        </p:nvGrpSpPr>
        <p:grpSpPr>
          <a:xfrm>
            <a:off x="457200" y="4572000"/>
            <a:ext cx="990720" cy="1143000"/>
            <a:chOff x="457200" y="4572000"/>
            <a:chExt cx="990720" cy="1143000"/>
          </a:xfrm>
        </p:grpSpPr>
        <p:sp>
          <p:nvSpPr>
            <p:cNvPr id="132" name=""/>
            <p:cNvSpPr/>
            <p:nvPr/>
          </p:nvSpPr>
          <p:spPr>
            <a:xfrm>
              <a:off x="473040" y="5334120"/>
              <a:ext cx="592200" cy="36828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572000"/>
              <a:ext cx="990720" cy="1143000"/>
            </a:xfrm>
            <a:custGeom>
              <a:avLst/>
              <a:gdLst/>
              <a:ahLst/>
              <a:rect l="l" t="t" r="r" b="b"/>
              <a:pathLst>
                <a:path w="624" h="720">
                  <a:moveTo>
                    <a:pt x="624" y="576"/>
                  </a:moveTo>
                  <a:lnTo>
                    <a:pt x="624" y="0"/>
                  </a:lnTo>
                  <a:lnTo>
                    <a:pt x="0" y="0"/>
                  </a:lnTo>
                  <a:lnTo>
                    <a:pt x="0" y="720"/>
                  </a:lnTo>
                  <a:lnTo>
                    <a:pt x="576" y="72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76320" y="1066680"/>
          <a:ext cx="4572000" cy="19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066680"/>
                    <a:ext cx="457200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50840" y="3519360"/>
                <a:ext cx="4038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time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60320" y="3900600"/>
                <a:ext cx="2844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acitive circuit:  </m:t>
                    </m:r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0" y="4179960"/>
            <a:ext cx="4572000" cy="1915920"/>
            <a:chOff x="0" y="4179960"/>
            <a:chExt cx="4572000" cy="1915920"/>
          </a:xfrm>
        </p:grpSpPr>
        <p:graphicFrame>
          <p:nvGraphicFramePr>
            <p:cNvPr id="139" name=""/>
            <p:cNvGraphicFramePr/>
            <p:nvPr/>
          </p:nvGraphicFramePr>
          <p:xfrm>
            <a:off x="0" y="4179960"/>
            <a:ext cx="4572000" cy="1915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179960"/>
                      <a:ext cx="4572000" cy="191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41" name=""/>
            <p:cNvGrpSpPr/>
            <p:nvPr/>
          </p:nvGrpSpPr>
          <p:grpSpPr>
            <a:xfrm>
              <a:off x="838080" y="4865400"/>
              <a:ext cx="914400" cy="380880"/>
              <a:chOff x="838080" y="4865400"/>
              <a:chExt cx="914400" cy="380880"/>
            </a:xfrm>
          </p:grpSpPr>
          <mc:AlternateContent>
            <mc:Choice xmlns:a14="http://schemas.microsoft.com/office/drawing/2010/main" Requires="a14">
              <p:sp>
                <p:nvSpPr>
                  <p:cNvPr id="142" name=""/>
                  <p:cNvSpPr txBox="1"/>
                  <p:nvPr/>
                </p:nvSpPr>
                <p:spPr>
                  <a:xfrm>
                    <a:off x="1143000" y="486540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3" name=""/>
              <p:cNvSpPr/>
              <p:nvPr/>
            </p:nvSpPr>
            <p:spPr>
              <a:xfrm>
                <a:off x="838080" y="5246280"/>
                <a:ext cx="9144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227160" y="6070680"/>
            <a:ext cx="3555720" cy="290520"/>
            <a:chOff x="227160" y="6070680"/>
            <a:chExt cx="3555720" cy="29052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227160" y="6070680"/>
                  <a:ext cx="2108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2665440" y="6070680"/>
                  <a:ext cx="11174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31720" y="6527880"/>
                <a:ext cx="3429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72280" y="76320"/>
                <a:ext cx="29718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Determine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95960" y="457200"/>
                <a:ext cx="34639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257800" y="1066680"/>
                <a:ext cx="23241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658280" y="1170000"/>
                <a:ext cx="1143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295960" y="1752480"/>
                <a:ext cx="2286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658280" y="1905120"/>
                <a:ext cx="457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7200" y="76320"/>
                <a:ext cx="27432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486000" y="47304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FTER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066680" y="2870280"/>
                <a:ext cx="1282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546960" y="2362320"/>
                <a:ext cx="24526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AL  ANSWER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58" name=""/>
          <p:cNvGrpSpPr/>
          <p:nvPr/>
        </p:nvGrpSpPr>
        <p:grpSpPr>
          <a:xfrm>
            <a:off x="4815000" y="3546360"/>
            <a:ext cx="3884040" cy="949320"/>
            <a:chOff x="4815000" y="3546360"/>
            <a:chExt cx="3884040" cy="949320"/>
          </a:xfrm>
        </p:grpSpPr>
        <p:sp>
          <p:nvSpPr>
            <p:cNvPr id="159" name=""/>
            <p:cNvSpPr/>
            <p:nvPr/>
          </p:nvSpPr>
          <p:spPr>
            <a:xfrm>
              <a:off x="4815000" y="3546360"/>
              <a:ext cx="388404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NOTE: FOR INDUCTIVE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095880" y="3886200"/>
                  <a:ext cx="8002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1" name=""/>
          <p:cNvGrpSpPr/>
          <p:nvPr/>
        </p:nvGrpSpPr>
        <p:grpSpPr>
          <a:xfrm>
            <a:off x="4724280" y="4648320"/>
            <a:ext cx="4267440" cy="1792080"/>
            <a:chOff x="4724280" y="4648320"/>
            <a:chExt cx="4267440" cy="1792080"/>
          </a:xfrm>
        </p:grpSpPr>
        <p:graphicFrame>
          <p:nvGraphicFramePr>
            <p:cNvPr id="162" name=""/>
            <p:cNvGraphicFramePr/>
            <p:nvPr/>
          </p:nvGraphicFramePr>
          <p:xfrm>
            <a:off x="4724280" y="5029200"/>
            <a:ext cx="4267440" cy="141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5029200"/>
                      <a:ext cx="4267440" cy="141120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>
              <a:off x="5479920" y="464832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IGINAL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572000" y="2362320"/>
                <a:ext cx="1778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6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7640" y="76320"/>
            <a:ext cx="51184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MATLAB TO DISPLAY FIN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72960" y="533520"/>
                <a:ext cx="2835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5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 </m:t>
                                  </m:r>
                                  <m:f>
                                    <m:num>
                                      <m:r>
                                        <m:t xml:space="preserve">t</m:t>
                                      </m:r>
                                    </m:num>
                                    <m:den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5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3200400" y="849240"/>
            <a:ext cx="5943600" cy="137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help lin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INSPACE Linearly spaced vect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INSPACE(x1, x2) generates a row vector of 100 linear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qually spaced points between x1 and x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INSPACE(x1, x2, N) generates N points between x1 and x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ee also LOGSPACE, :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120" y="2590920"/>
            <a:ext cx="8714520" cy="393012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6p3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commands used to display funtion i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his is an example of MATLAB script or M-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must be stored in a text file with extension ".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he commands are executed when the name of the M-file is typed at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MATLAB prompt (without the extens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au=0.15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time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ni=-4*tau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lect left starting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nd=10*tau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right end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minus=linspace(tini,0,10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use 100 points for t&l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plus=linspace(0,tend, 25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and 250 for t&g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minus=2*ones(size(tminus)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i for t&l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lus=36/8+5/6*exp(-tplus/tau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i for t&g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minus,iminus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plus,iplus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grid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basic plot command specify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                                           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color and ma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ARIATION OF CURRENT i(t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i(t)(mA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gend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prior to switching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after switching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xis([-0.5,1.5,1.5,6]);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scales for axis [xmin,xmax,ymin,ymax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34760" y="457200"/>
            <a:ext cx="566712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mand used to define linearly spaced ar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3320" y="2209680"/>
            <a:ext cx="732816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cript (m-file) with commands used. Prepared with the MATLAB Ed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Example6p3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001000" cy="6000840"/>
          </a:xfrm>
          <a:prstGeom prst="rect">
            <a:avLst/>
          </a:prstGeom>
          <a:ln w="0">
            <a:noFill/>
          </a:ln>
        </p:spPr>
      </p:pic>
      <p:pic>
        <p:nvPicPr>
          <p:cNvPr id="17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4114800" y="2133720"/>
          <a:ext cx="4943520" cy="27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133720"/>
                    <a:ext cx="4943520" cy="27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76320" y="76320"/>
          <a:ext cx="4876560" cy="23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76320"/>
                    <a:ext cx="487656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200400" y="76320"/>
                <a:ext cx="1447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04920" y="2438280"/>
                <a:ext cx="33526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30120" y="3137040"/>
                <a:ext cx="3098880" cy="23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Initial inductor curren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41560" y="344160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rior to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4108320"/>
          <a:ext cx="4724280" cy="256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108320"/>
                    <a:ext cx="472428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" name=""/>
          <p:cNvGrpSpPr/>
          <p:nvPr/>
        </p:nvGrpSpPr>
        <p:grpSpPr>
          <a:xfrm>
            <a:off x="1066680" y="5910120"/>
            <a:ext cx="714600" cy="755640"/>
            <a:chOff x="1066680" y="5910120"/>
            <a:chExt cx="714600" cy="755640"/>
          </a:xfrm>
        </p:grpSpPr>
        <p:sp>
          <p:nvSpPr>
            <p:cNvPr id="193" name=""/>
            <p:cNvSpPr/>
            <p:nvPr/>
          </p:nvSpPr>
          <p:spPr>
            <a:xfrm>
              <a:off x="1347840" y="5910120"/>
              <a:ext cx="433440" cy="473040"/>
            </a:xfrm>
            <a:custGeom>
              <a:avLst/>
              <a:gdLst/>
              <a:ahLst/>
              <a:rect l="l" t="t" r="r" b="b"/>
              <a:pathLst>
                <a:path w="273" h="298">
                  <a:moveTo>
                    <a:pt x="0" y="298"/>
                  </a:moveTo>
                  <a:cubicBezTo>
                    <a:pt x="5" y="236"/>
                    <a:pt x="11" y="173"/>
                    <a:pt x="16" y="111"/>
                  </a:cubicBezTo>
                  <a:cubicBezTo>
                    <a:pt x="19" y="77"/>
                    <a:pt x="24" y="10"/>
                    <a:pt x="24" y="10"/>
                  </a:cubicBezTo>
                  <a:cubicBezTo>
                    <a:pt x="211" y="0"/>
                    <a:pt x="128" y="2"/>
                    <a:pt x="273" y="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066680" y="6400800"/>
                  <a:ext cx="698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5" name=""/>
          <p:cNvGrpSpPr/>
          <p:nvPr/>
        </p:nvGrpSpPr>
        <p:grpSpPr>
          <a:xfrm>
            <a:off x="152280" y="4165560"/>
            <a:ext cx="1524240" cy="1015920"/>
            <a:chOff x="152280" y="4165560"/>
            <a:chExt cx="1524240" cy="1015920"/>
          </a:xfrm>
        </p:grpSpPr>
        <p:sp>
          <p:nvSpPr>
            <p:cNvPr id="196" name=""/>
            <p:cNvSpPr/>
            <p:nvPr/>
          </p:nvSpPr>
          <p:spPr>
            <a:xfrm>
              <a:off x="838080" y="5181480"/>
              <a:ext cx="838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152280" y="4165560"/>
                  <a:ext cx="1384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124080" y="4191120"/>
                <a:ext cx="1498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997360" y="6299280"/>
                <a:ext cx="1346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715000" y="731880"/>
                <a:ext cx="266688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421240" y="1082520"/>
            <a:ext cx="3335400" cy="9169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at t=0+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is replac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urrent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638320" y="2336400"/>
            <a:ext cx="991080" cy="1829160"/>
            <a:chOff x="5638320" y="2336400"/>
            <a:chExt cx="991080" cy="1829160"/>
          </a:xfrm>
        </p:grpSpPr>
        <p:grpSp>
          <p:nvGrpSpPr>
            <p:cNvPr id="203" name=""/>
            <p:cNvGrpSpPr/>
            <p:nvPr/>
          </p:nvGrpSpPr>
          <p:grpSpPr>
            <a:xfrm>
              <a:off x="5943600" y="2717640"/>
              <a:ext cx="442800" cy="457200"/>
              <a:chOff x="5943600" y="2717640"/>
              <a:chExt cx="442800" cy="457200"/>
            </a:xfrm>
          </p:grpSpPr>
          <p:sp>
            <p:nvSpPr>
              <p:cNvPr id="204" name=""/>
              <p:cNvSpPr/>
              <p:nvPr/>
            </p:nvSpPr>
            <p:spPr>
              <a:xfrm>
                <a:off x="5943600" y="3022560"/>
                <a:ext cx="304920" cy="152280"/>
              </a:xfrm>
              <a:prstGeom prst="ellipse">
                <a:avLst/>
              </a:prstGeom>
              <a:solidFill>
                <a:srgbClr val="00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5" name=""/>
                  <p:cNvSpPr txBox="1"/>
                  <p:nvPr/>
                </p:nvSpPr>
                <p:spPr>
                  <a:xfrm>
                    <a:off x="6172200" y="2717640"/>
                    <a:ext cx="2142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06" name=""/>
            <p:cNvSpPr/>
            <p:nvPr/>
          </p:nvSpPr>
          <p:spPr>
            <a:xfrm>
              <a:off x="6172200" y="340344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48520" y="325116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638320" y="325116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019920" y="2336400"/>
              <a:ext cx="0" cy="533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181480" y="4927680"/>
                <a:ext cx="2235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620120" y="4902120"/>
                <a:ext cx="1041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715000" y="5689440"/>
                <a:ext cx="2502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3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920" y="0"/>
            <a:ext cx="2131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33520" y="152280"/>
                <a:ext cx="2743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241560" y="49860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FTER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52280" y="1143000"/>
          <a:ext cx="4773600" cy="25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4773600" cy="25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917720" y="1941480"/>
            <a:ext cx="1563840" cy="1584360"/>
          </a:xfrm>
          <a:custGeom>
            <a:avLst/>
            <a:gdLst/>
            <a:ahLst/>
            <a:rect l="l" t="t" r="r" b="b"/>
            <a:pathLst>
              <a:path w="985" h="998">
                <a:moveTo>
                  <a:pt x="15" y="71"/>
                </a:moveTo>
                <a:cubicBezTo>
                  <a:pt x="0" y="121"/>
                  <a:pt x="0" y="132"/>
                  <a:pt x="0" y="195"/>
                </a:cubicBezTo>
                <a:cubicBezTo>
                  <a:pt x="266" y="227"/>
                  <a:pt x="454" y="227"/>
                  <a:pt x="740" y="227"/>
                </a:cubicBezTo>
                <a:cubicBezTo>
                  <a:pt x="728" y="485"/>
                  <a:pt x="725" y="727"/>
                  <a:pt x="725" y="990"/>
                </a:cubicBezTo>
                <a:cubicBezTo>
                  <a:pt x="789" y="974"/>
                  <a:pt x="854" y="990"/>
                  <a:pt x="919" y="990"/>
                </a:cubicBezTo>
                <a:cubicBezTo>
                  <a:pt x="985" y="980"/>
                  <a:pt x="939" y="998"/>
                  <a:pt x="935" y="905"/>
                </a:cubicBezTo>
                <a:cubicBezTo>
                  <a:pt x="924" y="621"/>
                  <a:pt x="912" y="307"/>
                  <a:pt x="912" y="16"/>
                </a:cubicBezTo>
                <a:cubicBezTo>
                  <a:pt x="683" y="19"/>
                  <a:pt x="340" y="0"/>
                  <a:pt x="78" y="39"/>
                </a:cubicBezTo>
                <a:cubicBezTo>
                  <a:pt x="40" y="52"/>
                  <a:pt x="61" y="43"/>
                  <a:pt x="15" y="71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04920" y="3429000"/>
                <a:ext cx="1231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80880" y="3798720"/>
                <a:ext cx="388620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TIME CONSTAN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4" name=""/>
          <p:cNvGraphicFramePr/>
          <p:nvPr/>
        </p:nvGraphicFramePr>
        <p:xfrm>
          <a:off x="103320" y="4495680"/>
          <a:ext cx="4403520" cy="233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320" y="4495680"/>
                    <a:ext cx="4403520" cy="23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0" y="4836960"/>
            <a:ext cx="2911320" cy="1992600"/>
          </a:xfrm>
          <a:custGeom>
            <a:avLst/>
            <a:gdLst/>
            <a:ahLst/>
            <a:rect l="l" t="t" r="r" b="b"/>
            <a:pathLst>
              <a:path w="1834" h="1255">
                <a:moveTo>
                  <a:pt x="304" y="390"/>
                </a:moveTo>
                <a:cubicBezTo>
                  <a:pt x="307" y="372"/>
                  <a:pt x="316" y="353"/>
                  <a:pt x="312" y="335"/>
                </a:cubicBezTo>
                <a:cubicBezTo>
                  <a:pt x="310" y="326"/>
                  <a:pt x="297" y="320"/>
                  <a:pt x="288" y="320"/>
                </a:cubicBezTo>
                <a:cubicBezTo>
                  <a:pt x="205" y="318"/>
                  <a:pt x="122" y="325"/>
                  <a:pt x="39" y="327"/>
                </a:cubicBezTo>
                <a:cubicBezTo>
                  <a:pt x="17" y="362"/>
                  <a:pt x="8" y="403"/>
                  <a:pt x="0" y="444"/>
                </a:cubicBezTo>
                <a:cubicBezTo>
                  <a:pt x="3" y="681"/>
                  <a:pt x="0" y="917"/>
                  <a:pt x="8" y="1154"/>
                </a:cubicBezTo>
                <a:cubicBezTo>
                  <a:pt x="9" y="1185"/>
                  <a:pt x="66" y="1190"/>
                  <a:pt x="78" y="1192"/>
                </a:cubicBezTo>
                <a:cubicBezTo>
                  <a:pt x="193" y="1212"/>
                  <a:pt x="313" y="1221"/>
                  <a:pt x="429" y="1224"/>
                </a:cubicBezTo>
                <a:cubicBezTo>
                  <a:pt x="551" y="1227"/>
                  <a:pt x="673" y="1229"/>
                  <a:pt x="795" y="1231"/>
                </a:cubicBezTo>
                <a:cubicBezTo>
                  <a:pt x="1013" y="1234"/>
                  <a:pt x="1232" y="1236"/>
                  <a:pt x="1450" y="1239"/>
                </a:cubicBezTo>
                <a:cubicBezTo>
                  <a:pt x="1579" y="1245"/>
                  <a:pt x="1673" y="1255"/>
                  <a:pt x="1800" y="1247"/>
                </a:cubicBezTo>
                <a:cubicBezTo>
                  <a:pt x="1834" y="1149"/>
                  <a:pt x="1820" y="1086"/>
                  <a:pt x="1824" y="959"/>
                </a:cubicBezTo>
                <a:cubicBezTo>
                  <a:pt x="1821" y="769"/>
                  <a:pt x="1821" y="580"/>
                  <a:pt x="1816" y="390"/>
                </a:cubicBezTo>
                <a:cubicBezTo>
                  <a:pt x="1816" y="382"/>
                  <a:pt x="1809" y="374"/>
                  <a:pt x="1808" y="366"/>
                </a:cubicBezTo>
                <a:cubicBezTo>
                  <a:pt x="1799" y="280"/>
                  <a:pt x="1821" y="106"/>
                  <a:pt x="1730" y="47"/>
                </a:cubicBezTo>
                <a:cubicBezTo>
                  <a:pt x="1721" y="32"/>
                  <a:pt x="1705" y="0"/>
                  <a:pt x="1683" y="0"/>
                </a:cubicBezTo>
                <a:cubicBezTo>
                  <a:pt x="1674" y="0"/>
                  <a:pt x="1673" y="15"/>
                  <a:pt x="1668" y="23"/>
                </a:cubicBezTo>
                <a:cubicBezTo>
                  <a:pt x="1685" y="396"/>
                  <a:pt x="1679" y="193"/>
                  <a:pt x="1668" y="826"/>
                </a:cubicBezTo>
                <a:cubicBezTo>
                  <a:pt x="1663" y="1141"/>
                  <a:pt x="1736" y="1163"/>
                  <a:pt x="1481" y="1192"/>
                </a:cubicBezTo>
                <a:cubicBezTo>
                  <a:pt x="1360" y="1183"/>
                  <a:pt x="1314" y="1183"/>
                  <a:pt x="1216" y="1169"/>
                </a:cubicBezTo>
                <a:cubicBezTo>
                  <a:pt x="1132" y="1157"/>
                  <a:pt x="1051" y="1133"/>
                  <a:pt x="966" y="1122"/>
                </a:cubicBezTo>
                <a:cubicBezTo>
                  <a:pt x="770" y="1062"/>
                  <a:pt x="438" y="1086"/>
                  <a:pt x="273" y="1083"/>
                </a:cubicBezTo>
                <a:cubicBezTo>
                  <a:pt x="223" y="1077"/>
                  <a:pt x="174" y="1073"/>
                  <a:pt x="125" y="1060"/>
                </a:cubicBezTo>
                <a:cubicBezTo>
                  <a:pt x="133" y="864"/>
                  <a:pt x="113" y="921"/>
                  <a:pt x="164" y="818"/>
                </a:cubicBezTo>
                <a:cubicBezTo>
                  <a:pt x="172" y="787"/>
                  <a:pt x="179" y="756"/>
                  <a:pt x="187" y="725"/>
                </a:cubicBezTo>
                <a:cubicBezTo>
                  <a:pt x="193" y="703"/>
                  <a:pt x="218" y="663"/>
                  <a:pt x="218" y="663"/>
                </a:cubicBezTo>
                <a:cubicBezTo>
                  <a:pt x="227" y="612"/>
                  <a:pt x="242" y="564"/>
                  <a:pt x="273" y="522"/>
                </a:cubicBezTo>
                <a:cubicBezTo>
                  <a:pt x="293" y="464"/>
                  <a:pt x="304" y="455"/>
                  <a:pt x="304" y="390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846520" y="4800600"/>
                <a:ext cx="142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922480" y="57150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286000" y="4038480"/>
                <a:ext cx="2577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ductive Circuit: 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52280" y="4191120"/>
                <a:ext cx="1181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1" name=""/>
          <p:cNvGraphicFramePr/>
          <p:nvPr/>
        </p:nvGraphicFramePr>
        <p:xfrm>
          <a:off x="4952880" y="4191120"/>
          <a:ext cx="3962520" cy="191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4191120"/>
                    <a:ext cx="3962520" cy="19191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073480" y="152280"/>
                <a:ext cx="2883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410080" y="471600"/>
                <a:ext cx="2616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410080" y="838080"/>
                <a:ext cx="28958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15000" y="1447920"/>
                <a:ext cx="2146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486400" y="2286000"/>
                <a:ext cx="2933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5540040" y="380988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21:50:02Z</dcterms:created>
  <dc:creator>Jorge L. Aravena</dc:creator>
  <dc:description/>
  <dc:language>en-US</dc:language>
  <cp:lastModifiedBy>student</cp:lastModifiedBy>
  <cp:lastPrinted>2000-11-17T12:11:06Z</cp:lastPrinted>
  <dcterms:modified xsi:type="dcterms:W3CDTF">2001-05-31T16:25:10Z</dcterms:modified>
  <cp:revision>27</cp:revision>
  <dc:subject/>
  <dc:title>No Slide Title</dc:title>
</cp:coreProperties>
</file>