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7.wmf" ContentType="image/x-wmf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10.png" ContentType="image/png"/>
  <Override PartName="/ppt/media/image35.png" ContentType="image/png"/>
  <Override PartName="/ppt/media/image65.png" ContentType="image/png"/>
  <Override PartName="/ppt/media/image67.wmf" ContentType="image/x-wmf"/>
  <Override PartName="/ppt/media/image68.wmf" ContentType="image/x-wmf"/>
  <Override PartName="/ppt/media/image70.png" ContentType="image/png"/>
  <Override PartName="/ppt/media/image71.png" ContentType="image/png"/>
  <Override PartName="/ppt/media/image72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64.png" ContentType="image/png"/>
  <Override PartName="/ppt/media/image25.wmf" ContentType="image/x-wmf"/>
  <Override PartName="/ppt/media/image99.png" ContentType="image/png"/>
  <Override PartName="/ppt/media/image62.png" ContentType="image/png"/>
  <Override PartName="/ppt/media/image87.png" ContentType="image/png"/>
  <Override PartName="/ppt/media/image66.png" ContentType="image/png"/>
  <Override PartName="/ppt/media/image86.wmf" ContentType="image/x-wmf"/>
  <Override PartName="/ppt/media/image98.png" ContentType="image/png"/>
  <Override PartName="/ppt/media/image61.png" ContentType="image/png"/>
  <Override PartName="/ppt/media/image97.png" ContentType="image/png"/>
  <Override PartName="/ppt/media/image60.png" ContentType="image/png"/>
  <Override PartName="/ppt/media/image96.png" ContentType="image/png"/>
  <Override PartName="/ppt/media/image95.png" ContentType="image/png"/>
  <Override PartName="/ppt/media/image74.png" ContentType="image/png"/>
  <Override PartName="/ppt/media/image94.wmf" ContentType="image/x-wmf"/>
  <Override PartName="/ppt/media/image79.png" ContentType="image/png"/>
  <Override PartName="/ppt/media/image89.png" ContentType="image/png"/>
  <Override PartName="/ppt/media/image27.wmf" ContentType="image/x-wmf"/>
  <Override PartName="/ppt/media/image92.wmf" ContentType="image/x-wmf"/>
  <Override PartName="/ppt/media/image73.wmf" ContentType="image/x-wmf"/>
  <Override PartName="/ppt/media/image33.png" ContentType="image/png"/>
  <Override PartName="/ppt/media/image90.png" ContentType="image/png"/>
  <Override PartName="/ppt/media/image88.png" ContentType="image/png"/>
  <Override PartName="/ppt/media/image63.wmf" ContentType="image/x-wmf"/>
  <Override PartName="/ppt/media/image23.png" ContentType="image/png"/>
  <Override PartName="/ppt/media/image78.png" ContentType="image/png"/>
  <Override PartName="/ppt/media/image26.wmf" ContentType="image/x-wmf"/>
  <Override PartName="/ppt/media/image91.wmf" ContentType="image/x-wmf"/>
  <Override PartName="/ppt/media/image69.png" ContentType="image/png"/>
  <Override PartName="/ppt/media/image32.png" ContentType="image/png"/>
  <Override PartName="/ppt/media/image24.wmf" ContentType="image/x-wmf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31.png" ContentType="image/png"/>
  <Override PartName="/ppt/media/image2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3.png" ContentType="image/png"/>
  <Override PartName="/ppt/media/image80.png" ContentType="image/png"/>
  <Override PartName="/ppt/media/image15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5.png" ContentType="image/png"/>
  <Override PartName="/ppt/media/image17.png" ContentType="image/png"/>
  <Override PartName="/ppt/media/image8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A6F5-1EC2-4160-B578-8DFD561F3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4CBF-9CB7-403B-9AE2-53159539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A8AD-8BF5-4E56-B2E1-C8C94AC34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C31A-6B93-43DC-81E0-64307E942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361F-4F76-4D10-BA63-1EFA4559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FCC8-F9AC-4E87-AD87-3EC8B4E2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4D12-31FB-48F6-BCD8-C1C2BF88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D9D7-F265-4C8A-8878-9DAB6020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636D-958B-4822-9188-FDDFE96B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C61B-4B9A-4287-911E-C7A0C9D6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AA28-0687-448B-9C90-BD04F916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4AD3-5901-43C0-B38A-8E70175C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D3BF-B2F7-4F98-B712-D6020AB09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image" Target="../media/image28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8.wmf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2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3.wmf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6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0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2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4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png"/><Relationship Id="rId3" Type="http://schemas.openxmlformats.org/officeDocument/2006/relationships/image" Target="../media/image98.png"/><Relationship Id="rId4" Type="http://schemas.openxmlformats.org/officeDocument/2006/relationships/image" Target="../media/image9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30880" y="90360"/>
            <a:ext cx="577548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AC STEADY-STATE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1960" y="685800"/>
            <a:ext cx="2195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35720" y="1201680"/>
            <a:ext cx="4676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USOI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view basic facts about sinusoidal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64520" y="1919160"/>
            <a:ext cx="64231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USOIDAL AND COMPLEX FORCING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havior of circuits with sinusoidal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modeling of sinusoids in terms of complex exponent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4920" y="2882880"/>
            <a:ext cx="68562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presentation of complex exponentials as vectors. It facilit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ady-state analysis of circui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29240" y="3846600"/>
            <a:ext cx="61794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AND ADMI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neralization of the familiar concepts of resistance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ductance to describe AC steady state circuit 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53360" y="4808520"/>
            <a:ext cx="6737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 DIA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presentation of AC voltages and currents as complex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86400" y="5527800"/>
            <a:ext cx="4690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AC ANALYSIS USING KIRCHHOFF LA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38600" y="6002280"/>
            <a:ext cx="6021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TECHN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tension of node, loop, Thevenin and other techniqu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228600" y="152280"/>
            <a:ext cx="3657600" cy="2239920"/>
            <a:chOff x="228600" y="152280"/>
            <a:chExt cx="3657600" cy="2239920"/>
          </a:xfrm>
        </p:grpSpPr>
        <p:pic>
          <p:nvPicPr>
            <p:cNvPr id="185" name="F07.005_W0733" descr=""/>
            <p:cNvPicPr/>
            <p:nvPr/>
          </p:nvPicPr>
          <p:blipFill>
            <a:blip r:embed="rId1"/>
            <a:stretch/>
          </p:blipFill>
          <p:spPr>
            <a:xfrm>
              <a:off x="228600" y="287280"/>
              <a:ext cx="3657600" cy="21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322920" y="152280"/>
              <a:ext cx="20005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52280" y="1600200"/>
                <a:ext cx="1295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8160" y="2133720"/>
                <a:ext cx="2476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ssume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52280" y="2514600"/>
                <a:ext cx="2565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VL:  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28600" y="3124080"/>
                <a:ext cx="19558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jω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90440" y="3657600"/>
                <a:ext cx="438156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φ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φ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jωL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φ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jωL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φ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68240" y="5105520"/>
                <a:ext cx="2845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jωL</m:t>
                    </m:r>
                    <m:r>
                      <m:t xml:space="preserve">+</m:t>
                    </m:r>
                    <m:r>
                      <m:t xml:space="preserve">R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920880" y="5486400"/>
                <a:ext cx="1650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jωL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666880" y="5486400"/>
                <a:ext cx="1067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*/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jωL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jω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212840" y="6172200"/>
                <a:ext cx="2120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jωL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105520" y="228600"/>
                <a:ext cx="29588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jωL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</m:e>
                    </m:ra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r>
                              <m:t xml:space="preserve">ωL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5334120" y="838080"/>
                <a:ext cx="281916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ωL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r>
                              <m:t xml:space="preserve">ωL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5111640" y="1828800"/>
                <a:ext cx="32767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ωL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ω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851360" y="2706840"/>
                <a:ext cx="38736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ω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⇒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φ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562720" y="4114800"/>
                <a:ext cx="240012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↔</m:t>
                        </m:r>
                        <m:r>
                          <m:t xml:space="preserve">P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</m:e>
                          <m:sup>
                            <m:r>
                              <m:t xml:space="preserve">jθ</m:t>
                            </m:r>
                          </m:sup>
                        </m:sSup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01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699720" y="90360"/>
            <a:ext cx="1826640" cy="52056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PHA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8600" y="744480"/>
            <a:ext cx="72748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SSENTIAL CON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L INDEPENDENT SOURCES ARE SINUSOIDS OF THE SAME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3080" y="1447920"/>
            <a:ext cx="7916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CAUSE OF SOURCE SUPERPOSITION  ONE CAN CONSIDER A SINGL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505320" y="1752480"/>
                <a:ext cx="20826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674280" y="2116080"/>
            <a:ext cx="8122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TEADY STATE RESPONSE OF ANY CIRCUIT VARIABLE WILL BE OF THE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3581280" y="2438280"/>
                <a:ext cx="2032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φ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0" name=""/>
          <p:cNvGrpSpPr/>
          <p:nvPr/>
        </p:nvGrpSpPr>
        <p:grpSpPr>
          <a:xfrm>
            <a:off x="721440" y="2743200"/>
            <a:ext cx="5069880" cy="825480"/>
            <a:chOff x="721440" y="2743200"/>
            <a:chExt cx="5069880" cy="825480"/>
          </a:xfrm>
        </p:grpSpPr>
        <p:sp>
          <p:nvSpPr>
            <p:cNvPr id="211" name=""/>
            <p:cNvSpPr/>
            <p:nvPr/>
          </p:nvSpPr>
          <p:spPr>
            <a:xfrm>
              <a:off x="721440" y="2801880"/>
              <a:ext cx="1430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HORTCUT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2362320" y="2743200"/>
                  <a:ext cx="342900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r>
                            <m:t xml:space="preserve">(</m:t>
                          </m:r>
                          <m:r>
                            <m:t xml:space="preserve">ω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r>
                            <m:t xml:space="preserve">θ</m:t>
                          </m:r>
                          <m:r>
                            <m:t xml:space="preserve">)</m:t>
                          </m:r>
                        </m:sup>
                      </m:sSup>
                      <m:r>
                        <m:t xml:space="preserve">⇒</m:t>
                      </m:r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sSup>
                            <m:e/>
                            <m:sup>
                              <m:r>
                                <m:t xml:space="preserve">j</m:t>
                              </m:r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r>
                                <m:t xml:space="preserve">φ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3" name=""/>
                <p:cNvSpPr txBox="1"/>
                <p:nvPr/>
              </p:nvSpPr>
              <p:spPr>
                <a:xfrm>
                  <a:off x="2362320" y="3200400"/>
                  <a:ext cx="312408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</m:t>
                              </m:r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r>
                                <m:t xml:space="preserve">θ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e>
                      </m:d>
                      <m:r>
                        <m:t xml:space="preserve">⇒</m:t>
                      </m:r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sSup>
                                <m:e/>
                                <m:sup>
                                  <m:r>
                                    <m:t xml:space="preserve">j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ω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φ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4" name=""/>
          <p:cNvGrpSpPr/>
          <p:nvPr/>
        </p:nvGrpSpPr>
        <p:grpSpPr>
          <a:xfrm>
            <a:off x="753480" y="3792600"/>
            <a:ext cx="6104520" cy="358560"/>
            <a:chOff x="753480" y="3792600"/>
            <a:chExt cx="6104520" cy="358560"/>
          </a:xfrm>
        </p:grpSpPr>
        <p:sp>
          <p:nvSpPr>
            <p:cNvPr id="215" name=""/>
            <p:cNvSpPr/>
            <p:nvPr/>
          </p:nvSpPr>
          <p:spPr>
            <a:xfrm>
              <a:off x="753480" y="3792600"/>
              <a:ext cx="1247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W IDEA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2133720" y="3809880"/>
                  <a:ext cx="22860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r>
                            <m:t xml:space="preserve">(</m:t>
                          </m:r>
                          <m:r>
                            <m:t xml:space="preserve">ω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r>
                            <m:t xml:space="preserve">θ</m:t>
                          </m:r>
                          <m:r>
                            <m:t xml:space="preserve">)</m:t>
                          </m:r>
                        </m:sup>
                      </m:sSup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θ</m:t>
                          </m:r>
                        </m:sup>
                      </m:sSup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ω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4572000" y="3809880"/>
                  <a:ext cx="22860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θ</m:t>
                          </m:r>
                        </m:sup>
                      </m:sSup>
                      <m:r>
                        <m:t xml:space="preserve">⇒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φ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828800" y="4191120"/>
                <a:ext cx="56008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HORTCUT IN NOT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STEAD OF WRITING 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θ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E WRITE 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∠</m:t>
                        </m:r>
                        <m:r>
                          <m:t xml:space="preserve">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AND WE ACCEPT ANGLES IN DEGRE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1447920" y="5181480"/>
                <a:ext cx="6325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∠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 IS THE PHASOR REPRESENTATION FOR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014480" y="5562720"/>
                <a:ext cx="7520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U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∠</m:t>
                    </m:r>
                    <m:r>
                      <m:t xml:space="preserve">θ</m:t>
                    </m:r>
                    <m:r>
                      <m:t xml:space="preserve">⇒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∠</m:t>
                    </m:r>
                    <m:r>
                      <m:t xml:space="preserve">φ</m:t>
                    </m:r>
                    <m:r>
                      <m:t xml:space="preserve">→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984240" y="5925960"/>
            <a:ext cx="75567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HORTCUT 2: DEVELOP EFFICIENT TOOLS TO DETERMINE THE PHASOR 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PONSE GIVEN THE INPUT PHASOR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228600" y="152280"/>
            <a:ext cx="3657600" cy="2239920"/>
            <a:chOff x="228600" y="152280"/>
            <a:chExt cx="3657600" cy="2239920"/>
          </a:xfrm>
        </p:grpSpPr>
        <p:pic>
          <p:nvPicPr>
            <p:cNvPr id="226" name="F07.005_W0733" descr=""/>
            <p:cNvPicPr/>
            <p:nvPr/>
          </p:nvPicPr>
          <p:blipFill>
            <a:blip r:embed="rId1"/>
            <a:stretch/>
          </p:blipFill>
          <p:spPr>
            <a:xfrm>
              <a:off x="228600" y="287280"/>
              <a:ext cx="3657600" cy="21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322920" y="152280"/>
              <a:ext cx="20005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533520" y="1523880"/>
                <a:ext cx="10159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∠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276720" y="2133720"/>
                <a:ext cx="9903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∠</m:t>
                        </m:r>
                        <m:r>
                          <m:t xml:space="preserve">φ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22120" y="2476440"/>
                <a:ext cx="26035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3429000"/>
                <a:ext cx="284472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terms of phasors one has</m:t>
                        </m:r>
                      </m:e>
                      <m:e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r>
                              <m:t xml:space="preserve">jωL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1960" y="4800600"/>
            <a:ext cx="3587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phasor can be obtained u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 complex alg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1000" y="5562720"/>
            <a:ext cx="444024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will develop a phasor 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e circuit that will eliminate the ne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writing the differential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646160" y="58680"/>
            <a:ext cx="4010400" cy="1722240"/>
            <a:chOff x="4646160" y="58680"/>
            <a:chExt cx="4010400" cy="1722240"/>
          </a:xfrm>
        </p:grpSpPr>
        <p:grpSp>
          <p:nvGrpSpPr>
            <p:cNvPr id="235" name=""/>
            <p:cNvGrpSpPr/>
            <p:nvPr/>
          </p:nvGrpSpPr>
          <p:grpSpPr>
            <a:xfrm>
              <a:off x="4646160" y="533520"/>
              <a:ext cx="4010400" cy="1247400"/>
              <a:chOff x="4646160" y="533520"/>
              <a:chExt cx="4010400" cy="1247400"/>
            </a:xfrm>
          </p:grpSpPr>
          <mc:AlternateContent>
            <mc:Choice xmlns:a14="http://schemas.microsoft.com/office/drawing/2010/main" Requires="a14">
              <p:sp>
                <p:nvSpPr>
                  <p:cNvPr id="236" name=""/>
                  <p:cNvSpPr txBox="1"/>
                  <p:nvPr/>
                </p:nvSpPr>
                <p:spPr>
                  <a:xfrm>
                    <a:off x="5273280" y="1160280"/>
                    <a:ext cx="275580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ωt</m:t>
                            </m:r>
                            <m:r>
                              <m:t xml:space="preserve">±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  <m:r>
                              <m:t xml:space="preserve">↔</m:t>
                            </m:r>
                            <m:r>
                              <m:t xml:space="preserve">A</m:t>
                            </m:r>
                            <m:r>
                              <m:t xml:space="preserve">∠</m:t>
                            </m:r>
                            <m:r>
                              <m:t xml:space="preserve">±</m:t>
                            </m:r>
                            <m:r>
                              <m:t xml:space="preserve">θ</m:t>
                            </m:r>
                          </m:e>
                          <m:e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r>
                              <m:t xml:space="preserve">ωt</m:t>
                            </m:r>
                            <m:r>
                              <m:t xml:space="preserve">±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  <m:r>
                              <m:t xml:space="preserve">↔</m:t>
                            </m:r>
                            <m:r>
                              <m:t xml:space="preserve">A</m:t>
                            </m:r>
                            <m:r>
                              <m:t xml:space="preserve">∠</m:t>
                            </m:r>
                            <m:r>
                              <m:t xml:space="preserve">±</m:t>
                            </m:r>
                            <m:r>
                              <m:t xml:space="preserve">θ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37" name=""/>
              <p:cNvSpPr/>
              <p:nvPr/>
            </p:nvSpPr>
            <p:spPr>
              <a:xfrm>
                <a:off x="4646160" y="533520"/>
                <a:ext cx="401040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It is essential to be able to move fro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inusoids to phasor represen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4755960" y="58680"/>
              <a:ext cx="223056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4572000" y="1905120"/>
                <a:ext cx="26668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2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7315200" y="1905120"/>
                <a:ext cx="1054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2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4495680" y="2209680"/>
                <a:ext cx="27054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513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7315200" y="2209680"/>
                <a:ext cx="1104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4724280" y="2819520"/>
                <a:ext cx="17020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iven 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°↔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6400800" y="3138480"/>
                <a:ext cx="2489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800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4724280" y="3443400"/>
                <a:ext cx="1676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°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6400800" y="3429000"/>
                <a:ext cx="2502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800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4779000" y="3944880"/>
            <a:ext cx="37515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s can be combined using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ules of complex alg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5334120" y="4572000"/>
                <a:ext cx="3073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∠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5638680" y="4952880"/>
                <a:ext cx="21081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∠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0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F07.006A_W0734" descr=""/>
          <p:cNvPicPr/>
          <p:nvPr/>
        </p:nvPicPr>
        <p:blipFill>
          <a:blip r:embed="rId1"/>
          <a:stretch/>
        </p:blipFill>
        <p:spPr>
          <a:xfrm>
            <a:off x="5334120" y="149400"/>
            <a:ext cx="2209680" cy="18986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186120" y="76320"/>
            <a:ext cx="51001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 RELATIONSHIPS FOR CIRCUIT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1440" y="838080"/>
            <a:ext cx="1253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S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447920" y="838080"/>
                <a:ext cx="23749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57" name=""/>
          <p:cNvGrpSpPr/>
          <p:nvPr/>
        </p:nvGrpSpPr>
        <p:grpSpPr>
          <a:xfrm>
            <a:off x="0" y="1523880"/>
            <a:ext cx="4559400" cy="686520"/>
            <a:chOff x="0" y="1523880"/>
            <a:chExt cx="4559400" cy="686520"/>
          </a:xfrm>
        </p:grpSpPr>
        <mc:AlternateContent>
          <mc:Choice xmlns:a14="http://schemas.microsoft.com/office/drawing/2010/main" Requires="a14">
            <p:sp>
              <p:nvSpPr>
                <p:cNvPr id="258" name=""/>
                <p:cNvSpPr txBox="1"/>
                <p:nvPr/>
              </p:nvSpPr>
              <p:spPr>
                <a:xfrm>
                  <a:off x="0" y="1523880"/>
                  <a:ext cx="153360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θ</m:t>
                              </m:r>
                            </m:sup>
                          </m:sSup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I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θ</m:t>
                              </m:r>
                            </m:sup>
                          </m:sSup>
                        </m:e>
                        <m:e>
                          <m:r>
                            <m:t xml:space="preserve">V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RI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59" name=""/>
            <p:cNvSpPr/>
            <p:nvPr/>
          </p:nvSpPr>
          <p:spPr>
            <a:xfrm>
              <a:off x="745560" y="1873080"/>
              <a:ext cx="3813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representation for a 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F07.006B_W0734" descr=""/>
          <p:cNvPicPr/>
          <p:nvPr/>
        </p:nvPicPr>
        <p:blipFill>
          <a:blip r:embed="rId2"/>
          <a:stretch/>
        </p:blipFill>
        <p:spPr>
          <a:xfrm>
            <a:off x="5410080" y="1743120"/>
            <a:ext cx="2133720" cy="17985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87120" y="2514600"/>
            <a:ext cx="45514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s are complex numbers. The 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del has a geometric interpre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F07.006C_W0734" descr=""/>
          <p:cNvPicPr/>
          <p:nvPr/>
        </p:nvPicPr>
        <p:blipFill>
          <a:blip r:embed="rId3"/>
          <a:stretch/>
        </p:blipFill>
        <p:spPr>
          <a:xfrm>
            <a:off x="533520" y="3124080"/>
            <a:ext cx="1542960" cy="19526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918440" y="3429000"/>
            <a:ext cx="2616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voltage and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s are colin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9400" y="4737240"/>
            <a:ext cx="40716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erms of the sinusoidal signals t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ometric representation implies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wo sinusoids are “in phas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F07.006D_W0734" descr=""/>
          <p:cNvPicPr/>
          <p:nvPr/>
        </p:nvPicPr>
        <p:blipFill>
          <a:blip r:embed="rId4"/>
          <a:stretch/>
        </p:blipFill>
        <p:spPr>
          <a:xfrm>
            <a:off x="4876920" y="3276720"/>
            <a:ext cx="2971800" cy="2309760"/>
          </a:xfrm>
          <a:prstGeom prst="rect">
            <a:avLst/>
          </a:prstGeom>
          <a:ln w="0">
            <a:noFill/>
          </a:ln>
        </p:spPr>
      </p:pic>
      <p:pic>
        <p:nvPicPr>
          <p:cNvPr id="266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6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73520" y="272880"/>
            <a:ext cx="1381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F07.007A_W0735" descr=""/>
          <p:cNvPicPr/>
          <p:nvPr/>
        </p:nvPicPr>
        <p:blipFill>
          <a:blip r:embed="rId1"/>
          <a:stretch/>
        </p:blipFill>
        <p:spPr>
          <a:xfrm>
            <a:off x="0" y="609480"/>
            <a:ext cx="2286000" cy="2103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835280" y="152280"/>
                <a:ext cx="28065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2895480" y="685800"/>
                <a:ext cx="1575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j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609480" y="2514600"/>
                <a:ext cx="9399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jω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4" name="F07.007B_W0735" descr=""/>
          <p:cNvPicPr/>
          <p:nvPr/>
        </p:nvPicPr>
        <p:blipFill>
          <a:blip r:embed="rId2"/>
          <a:stretch/>
        </p:blipFill>
        <p:spPr>
          <a:xfrm>
            <a:off x="2209680" y="1981080"/>
            <a:ext cx="2362320" cy="21067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839240" y="3457440"/>
            <a:ext cx="27698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lationship betw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s is algebra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F07.007C_W0735" descr=""/>
          <p:cNvPicPr/>
          <p:nvPr/>
        </p:nvPicPr>
        <p:blipFill>
          <a:blip r:embed="rId3"/>
          <a:stretch/>
        </p:blipFill>
        <p:spPr>
          <a:xfrm>
            <a:off x="228600" y="4419720"/>
            <a:ext cx="2286000" cy="2193840"/>
          </a:xfrm>
          <a:prstGeom prst="rect">
            <a:avLst/>
          </a:prstGeom>
          <a:ln w="0">
            <a:noFill/>
          </a:ln>
        </p:spPr>
      </p:pic>
      <p:grpSp>
        <p:nvGrpSpPr>
          <p:cNvPr id="277" name=""/>
          <p:cNvGrpSpPr/>
          <p:nvPr/>
        </p:nvGrpSpPr>
        <p:grpSpPr>
          <a:xfrm>
            <a:off x="1919880" y="4097160"/>
            <a:ext cx="2521440" cy="957600"/>
            <a:chOff x="1919880" y="4097160"/>
            <a:chExt cx="2521440" cy="957600"/>
          </a:xfrm>
        </p:grpSpPr>
        <mc:AlternateContent>
          <mc:Choice xmlns:a14="http://schemas.microsoft.com/office/drawing/2010/main" Requires="a14">
            <p:sp>
              <p:nvSpPr>
                <p:cNvPr id="278" name=""/>
                <p:cNvSpPr txBox="1"/>
                <p:nvPr/>
              </p:nvSpPr>
              <p:spPr>
                <a:xfrm>
                  <a:off x="2514600" y="4724280"/>
                  <a:ext cx="157464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rPr>
                          <m:lit/>
                          <m:nor/>
                        </m:rPr>
                        <m:t xml:space="preserve">°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r>
                            <m:rPr>
                              <m:lit/>
                              <m:nor/>
                            </m:rPr>
                            <m:t xml:space="preserve">90</m:t>
                          </m:r>
                          <m:r>
                            <m:t xml:space="preserve">°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79" name=""/>
            <p:cNvSpPr/>
            <p:nvPr/>
          </p:nvSpPr>
          <p:spPr>
            <a:xfrm>
              <a:off x="1919880" y="4097160"/>
              <a:ext cx="25214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the geometric vi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e the resul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2666880" y="5181480"/>
                <a:ext cx="12826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318960" y="6172200"/>
            <a:ext cx="41734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voltage leads the current by 90 d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urrent lags the voltage by 90 d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2514600" y="1219320"/>
                <a:ext cx="18162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θ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j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83" name=""/>
          <p:cNvGrpSpPr/>
          <p:nvPr/>
        </p:nvGrpSpPr>
        <p:grpSpPr>
          <a:xfrm>
            <a:off x="5105520" y="210960"/>
            <a:ext cx="3721320" cy="2887920"/>
            <a:chOff x="5105520" y="210960"/>
            <a:chExt cx="3721320" cy="2887920"/>
          </a:xfrm>
        </p:grpSpPr>
        <p:sp>
          <p:nvSpPr>
            <p:cNvPr id="284" name=""/>
            <p:cNvSpPr/>
            <p:nvPr/>
          </p:nvSpPr>
          <p:spPr>
            <a:xfrm>
              <a:off x="5386320" y="210960"/>
              <a:ext cx="34405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 between sinusoid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5" name="F07.007D_W0735" descr=""/>
            <p:cNvPicPr/>
            <p:nvPr/>
          </p:nvPicPr>
          <p:blipFill>
            <a:blip r:embed="rId4"/>
            <a:stretch/>
          </p:blipFill>
          <p:spPr>
            <a:xfrm>
              <a:off x="5105520" y="685800"/>
              <a:ext cx="3657600" cy="241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6" name=""/>
          <p:cNvGrpSpPr/>
          <p:nvPr/>
        </p:nvGrpSpPr>
        <p:grpSpPr>
          <a:xfrm>
            <a:off x="4699080" y="3182760"/>
            <a:ext cx="4292640" cy="689040"/>
            <a:chOff x="4699080" y="3182760"/>
            <a:chExt cx="4292640" cy="689040"/>
          </a:xfrm>
        </p:grpSpPr>
        <p:sp>
          <p:nvSpPr>
            <p:cNvPr id="287" name=""/>
            <p:cNvSpPr/>
            <p:nvPr/>
          </p:nvSpPr>
          <p:spPr>
            <a:xfrm>
              <a:off x="4834440" y="3182760"/>
              <a:ext cx="20005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8" name=""/>
                <p:cNvSpPr txBox="1"/>
                <p:nvPr/>
              </p:nvSpPr>
              <p:spPr>
                <a:xfrm>
                  <a:off x="4699080" y="3581280"/>
                  <a:ext cx="4292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rPr>
                          <m:lit/>
                          <m:nor/>
                        </m:rPr>
                        <m:t xml:space="preserve">mH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377</m:t>
                      </m:r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  Find 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4724280" y="4038480"/>
                <a:ext cx="113040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jωL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5994360" y="4191120"/>
                <a:ext cx="15368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ωL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5994360" y="4800600"/>
                <a:ext cx="2781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952880" y="5537160"/>
                <a:ext cx="3365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93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9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F07.008B_W0736" descr=""/>
          <p:cNvPicPr/>
          <p:nvPr/>
        </p:nvPicPr>
        <p:blipFill>
          <a:blip r:embed="rId1"/>
          <a:stretch/>
        </p:blipFill>
        <p:spPr>
          <a:xfrm>
            <a:off x="2362320" y="2133720"/>
            <a:ext cx="2438280" cy="19065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249480" y="135000"/>
            <a:ext cx="1451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F07.008A_W0736" descr=""/>
          <p:cNvPicPr/>
          <p:nvPr/>
        </p:nvPicPr>
        <p:blipFill>
          <a:blip r:embed="rId2"/>
          <a:stretch/>
        </p:blipFill>
        <p:spPr>
          <a:xfrm>
            <a:off x="76320" y="609480"/>
            <a:ext cx="2590560" cy="2105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1822320" y="50760"/>
                <a:ext cx="28321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2743200" y="762120"/>
                <a:ext cx="15620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jω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e>
                      <m:sup>
                        <m:r>
                          <m:t xml:space="preserve">jθ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685800" y="2438280"/>
                <a:ext cx="9907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jω</m:t>
                    </m:r>
                    <m:r>
                      <m:rPr>
                        <m:lit/>
                        <m:nor/>
                      </m:rPr>
                      <m:t xml:space="preserve">C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1715400" y="3792600"/>
            <a:ext cx="27698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lationship betw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s is algebra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124080" y="1752480"/>
                <a:ext cx="1320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04" name="F07.008C_W0736" descr=""/>
          <p:cNvPicPr/>
          <p:nvPr/>
        </p:nvPicPr>
        <p:blipFill>
          <a:blip r:embed="rId3"/>
          <a:stretch/>
        </p:blipFill>
        <p:spPr>
          <a:xfrm>
            <a:off x="0" y="4495680"/>
            <a:ext cx="2666880" cy="22860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2564280" y="4495680"/>
            <a:ext cx="19623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a capacitor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leads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by 90 d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485080" y="5468760"/>
            <a:ext cx="2347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voltage la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urrent by 90 d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029200" y="58680"/>
            <a:ext cx="3581280" cy="2654280"/>
            <a:chOff x="5029200" y="58680"/>
            <a:chExt cx="3581280" cy="2654280"/>
          </a:xfrm>
        </p:grpSpPr>
        <p:pic>
          <p:nvPicPr>
            <p:cNvPr id="308" name="F07.008D_W0736" descr=""/>
            <p:cNvPicPr/>
            <p:nvPr/>
          </p:nvPicPr>
          <p:blipFill>
            <a:blip r:embed="rId4"/>
            <a:stretch/>
          </p:blipFill>
          <p:spPr>
            <a:xfrm>
              <a:off x="5029200" y="457200"/>
              <a:ext cx="3581280" cy="22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5151600" y="58680"/>
              <a:ext cx="3387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 between sinusoi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4572000" y="3048120"/>
            <a:ext cx="4457880" cy="671400"/>
            <a:chOff x="4572000" y="3048120"/>
            <a:chExt cx="4457880" cy="671400"/>
          </a:xfrm>
        </p:grpSpPr>
        <p:sp>
          <p:nvSpPr>
            <p:cNvPr id="311" name=""/>
            <p:cNvSpPr/>
            <p:nvPr/>
          </p:nvSpPr>
          <p:spPr>
            <a:xfrm>
              <a:off x="4910760" y="3048120"/>
              <a:ext cx="20005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2" name=""/>
                <p:cNvSpPr txBox="1"/>
                <p:nvPr/>
              </p:nvSpPr>
              <p:spPr>
                <a:xfrm>
                  <a:off x="4572000" y="3429000"/>
                  <a:ext cx="4457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μ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314</m:t>
                      </m:r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5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  Find 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952880" y="3886200"/>
                <a:ext cx="12193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4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6477120" y="4267080"/>
                <a:ext cx="24256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ωC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5092560" y="4857840"/>
                <a:ext cx="32259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4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0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5410080" y="5410080"/>
                <a:ext cx="28321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14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17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1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85400" y="152280"/>
            <a:ext cx="25610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98440" y="598320"/>
                <a:ext cx="36194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ind the voltage across the inducto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04920" y="1219320"/>
                <a:ext cx="15746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380880" y="1523880"/>
                <a:ext cx="9399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jω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33520" y="1905120"/>
                <a:ext cx="32004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1295280" y="2209680"/>
                <a:ext cx="1270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π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838080" y="2743200"/>
                <a:ext cx="24638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4876920" y="228600"/>
                <a:ext cx="3606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μ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5</m:t>
                        </m:r>
                        <m:r>
                          <m:t xml:space="preserve">°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ind the voltage across the inducto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4952880" y="990720"/>
                <a:ext cx="15750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4876920" y="1371600"/>
                <a:ext cx="21589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jω</m:t>
                    </m:r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5410080" y="2057400"/>
                <a:ext cx="2743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5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5943600" y="2666880"/>
                <a:ext cx="16257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3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5257800" y="3429000"/>
                <a:ext cx="26798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35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33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3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28680" y="3487680"/>
            <a:ext cx="3486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w an example with capac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56960" y="76320"/>
            <a:ext cx="32896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AND ADMIT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49560" y="515880"/>
            <a:ext cx="84956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each of the passive components the relationship between the voltage phas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the current phasor is algebraic. We now generalize for an arbitrary 2-term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F07.009_W0737" descr=""/>
          <p:cNvPicPr/>
          <p:nvPr/>
        </p:nvPicPr>
        <p:blipFill>
          <a:blip r:embed="rId1"/>
          <a:stretch/>
        </p:blipFill>
        <p:spPr>
          <a:xfrm>
            <a:off x="152280" y="1459080"/>
            <a:ext cx="4191120" cy="1969920"/>
          </a:xfrm>
          <a:prstGeom prst="rect">
            <a:avLst/>
          </a:prstGeom>
          <a:ln w="0">
            <a:noFill/>
          </a:ln>
        </p:spPr>
      </p:pic>
      <p:grpSp>
        <p:nvGrpSpPr>
          <p:cNvPr id="340" name=""/>
          <p:cNvGrpSpPr/>
          <p:nvPr/>
        </p:nvGrpSpPr>
        <p:grpSpPr>
          <a:xfrm>
            <a:off x="222120" y="3809880"/>
            <a:ext cx="4013280" cy="1497960"/>
            <a:chOff x="222120" y="3809880"/>
            <a:chExt cx="4013280" cy="1497960"/>
          </a:xfrm>
        </p:grpSpPr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222120" y="4267080"/>
                  <a:ext cx="401328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I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∠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∠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den>
                      </m:f>
                      <m:r>
                        <m:t xml:space="preserve">∠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|</m:t>
                      </m:r>
                      <m:r>
                        <m:t xml:space="preserve">Z</m:t>
                      </m:r>
                      <m:r>
                        <m:t xml:space="preserve">|</m:t>
                      </m:r>
                      <m:r>
                        <m:t xml:space="preserve">∠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42" name=""/>
            <p:cNvSpPr/>
            <p:nvPr/>
          </p:nvSpPr>
          <p:spPr>
            <a:xfrm>
              <a:off x="326160" y="3809880"/>
              <a:ext cx="2221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INPUT) IMPED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36240" y="4970520"/>
              <a:ext cx="3166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DRIVING POINT IMPEDANC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444240" y="5410080"/>
            <a:ext cx="36068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units of impedance are OH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4800600" y="4114800"/>
                <a:ext cx="3987720" cy="16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Element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hasor Eq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Impedance</m:t>
                          </m:r>
                        </m:e>
                      </m:mr>
                      <m:mr>
                        <m:e>
                          <m:r>
                            <m:t xml:space="preserve">R</m:t>
                          </m:r>
                        </m:e>
                        <m:e>
                          <m:r>
                            <m:t xml:space="preserve">V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RI</m:t>
                          </m:r>
                        </m:e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</m:e>
                      </m:mr>
                      <m:mr>
                        <m:e>
                          <m:m>
                            <m:mr>
                              <m:e>
                                <m:r>
                                  <m:t xml:space="preserve">L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C</m:t>
                                </m:r>
                              </m:e>
                            </m:mr>
                          </m:m>
                        </m:e>
                        <m:e>
                          <m:m>
                            <m:m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jω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I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jωC</m:t>
                                    </m:r>
                                  </m:den>
                                </m:f>
                                <m:r>
                                  <m:t xml:space="preserve">I</m:t>
                                </m:r>
                              </m:e>
                            </m:mr>
                          </m:m>
                        </m:e>
                        <m:e>
                          <m:m>
                            <m:m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jωL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jωC</m:t>
                                    </m:r>
                                  </m:den>
                                </m:f>
                              </m:e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70560" y="5791320"/>
            <a:ext cx="467352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is NOT a phasor but a compl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umber that can be written in polar 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rtesian form. In general its value depe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 the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5181480" y="1447920"/>
                <a:ext cx="27813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sistive component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active componen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5791320" y="2451240"/>
                <a:ext cx="149832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r>
                          <m:t xml:space="preserve">Z</m:t>
                        </m:r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49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5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02760" y="166680"/>
            <a:ext cx="61059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KVL AND KCL HOLD FOR PHASOR REPRES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838080" y="609480"/>
          <a:ext cx="777240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609480"/>
                    <a:ext cx="77724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304920" y="3544920"/>
                <a:ext cx="40892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VL: 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θ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θ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p>
                    </m:sSup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609480" y="4038480"/>
                <a:ext cx="3073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990720" y="4419720"/>
                <a:ext cx="2450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Phasors!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58" name=""/>
          <p:cNvGraphicFramePr/>
          <p:nvPr/>
        </p:nvGraphicFramePr>
        <p:xfrm>
          <a:off x="1676520" y="4648320"/>
          <a:ext cx="6029280" cy="147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648320"/>
                    <a:ext cx="60292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5410080" y="4572000"/>
                <a:ext cx="1981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1" name=""/>
          <p:cNvSpPr/>
          <p:nvPr/>
        </p:nvSpPr>
        <p:spPr>
          <a:xfrm>
            <a:off x="356040" y="6124680"/>
            <a:ext cx="8201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mponents will be represented by their impedances and the relationshi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ll be entirely algebraic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6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364000" y="3411360"/>
            <a:ext cx="31892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a similar way, one shows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1203480" y="152280"/>
            <a:ext cx="71254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PECIAL APPLICA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S CAN BE COMBINED USING THE SAME RULES DEVELO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RESIS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209520" y="1295280"/>
          <a:ext cx="4362480" cy="8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295280"/>
                    <a:ext cx="4362480" cy="87660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4724280" y="990720"/>
          <a:ext cx="4245120" cy="131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990720"/>
                    <a:ext cx="4245120" cy="131580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1460520" y="2209680"/>
                <a:ext cx="116856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/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6286680" y="2338560"/>
                <a:ext cx="125712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/>
                          <m:sub>
                            <m:r>
                              <m:t xml:space="preserve">k</m:t>
                            </m:r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373" name=""/>
          <p:cNvGrpSpPr/>
          <p:nvPr/>
        </p:nvGrpSpPr>
        <p:grpSpPr>
          <a:xfrm>
            <a:off x="0" y="2971800"/>
            <a:ext cx="6858000" cy="3657600"/>
            <a:chOff x="0" y="2971800"/>
            <a:chExt cx="6858000" cy="3657600"/>
          </a:xfrm>
        </p:grpSpPr>
        <p:pic>
          <p:nvPicPr>
            <p:cNvPr id="374" name="F07.010_W0738" descr=""/>
            <p:cNvPicPr/>
            <p:nvPr/>
          </p:nvPicPr>
          <p:blipFill>
            <a:blip r:embed="rId5"/>
            <a:stretch/>
          </p:blipFill>
          <p:spPr>
            <a:xfrm>
              <a:off x="0" y="3643200"/>
              <a:ext cx="4267080" cy="2986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5" name=""/>
            <p:cNvGrpSpPr/>
            <p:nvPr/>
          </p:nvGrpSpPr>
          <p:grpSpPr>
            <a:xfrm>
              <a:off x="106200" y="2971800"/>
              <a:ext cx="6751800" cy="620640"/>
              <a:chOff x="106200" y="2971800"/>
              <a:chExt cx="6751800" cy="620640"/>
            </a:xfrm>
          </p:grpSpPr>
          <p:sp>
            <p:nvSpPr>
              <p:cNvPr id="376" name=""/>
              <p:cNvSpPr/>
              <p:nvPr/>
            </p:nvSpPr>
            <p:spPr>
              <a:xfrm>
                <a:off x="106200" y="3048120"/>
                <a:ext cx="2224440" cy="337320"/>
              </a:xfrm>
              <a:prstGeom prst="rect">
                <a:avLst/>
              </a:prstGeom>
              <a:solidFill>
                <a:srgbClr val="ccccff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LEARNING EXAMP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77" name=""/>
                  <p:cNvSpPr txBox="1"/>
                  <p:nvPr/>
                </p:nvSpPr>
                <p:spPr>
                  <a:xfrm>
                    <a:off x="2438280" y="2971800"/>
                    <a:ext cx="441972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f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z</m:t>
                            </m:r>
                            <m:r>
                              <m:t xml:space="preserve">,</m:t>
                            </m:r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  <m:r>
                              <m:t xml:space="preserve">)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mpute equivalent impedance and current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4419720" y="3657600"/>
                <a:ext cx="45464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π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π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5410080" y="4648320"/>
                <a:ext cx="2857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5423040" y="5043600"/>
                <a:ext cx="3263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4572000" y="5410080"/>
                <a:ext cx="23115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6858000" y="5410080"/>
                <a:ext cx="20700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3803760" y="6197760"/>
                <a:ext cx="53337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2158920" y="4267080"/>
                <a:ext cx="736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2057400" y="5257800"/>
                <a:ext cx="952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ω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1905120" y="5791320"/>
                <a:ext cx="1028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87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F07.002_W0730" descr=""/>
          <p:cNvPicPr/>
          <p:nvPr/>
        </p:nvPicPr>
        <p:blipFill>
          <a:blip r:embed="rId1"/>
          <a:stretch/>
        </p:blipFill>
        <p:spPr>
          <a:xfrm>
            <a:off x="4572000" y="3733920"/>
            <a:ext cx="4267080" cy="2651040"/>
          </a:xfrm>
          <a:prstGeom prst="rect">
            <a:avLst/>
          </a:prstGeom>
          <a:ln w="0">
            <a:noFill/>
          </a:ln>
        </p:spPr>
      </p:pic>
      <p:pic>
        <p:nvPicPr>
          <p:cNvPr id="53" name="F07.001B_W0729" descr=""/>
          <p:cNvPicPr/>
          <p:nvPr/>
        </p:nvPicPr>
        <p:blipFill>
          <a:blip r:embed="rId2"/>
          <a:stretch/>
        </p:blipFill>
        <p:spPr>
          <a:xfrm>
            <a:off x="4343400" y="609480"/>
            <a:ext cx="3429000" cy="2419560"/>
          </a:xfrm>
          <a:prstGeom prst="rect">
            <a:avLst/>
          </a:prstGeom>
          <a:ln w="0">
            <a:noFill/>
          </a:ln>
        </p:spPr>
      </p:pic>
      <p:pic>
        <p:nvPicPr>
          <p:cNvPr id="54" name="F07.001A_W0729" descr=""/>
          <p:cNvPicPr/>
          <p:nvPr/>
        </p:nvPicPr>
        <p:blipFill>
          <a:blip r:embed="rId3"/>
          <a:stretch/>
        </p:blipFill>
        <p:spPr>
          <a:xfrm>
            <a:off x="152280" y="609480"/>
            <a:ext cx="3505320" cy="2333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96640" y="76320"/>
            <a:ext cx="14457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SINUSO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752480" y="609480"/>
                <a:ext cx="1613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28600" y="3429000"/>
                <a:ext cx="37720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amplitude  or maximum  value</m:t>
                        </m:r>
                      </m:e>
                      <m:e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angular  frequency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ads/sec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argumen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adian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856080" y="2801880"/>
            <a:ext cx="2026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dimensional p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65800" y="2725560"/>
            <a:ext cx="2163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  function of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228600" y="4572000"/>
                <a:ext cx="3632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Period </m:t>
                    </m:r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∀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1" name=""/>
          <p:cNvGrpSpPr/>
          <p:nvPr/>
        </p:nvGrpSpPr>
        <p:grpSpPr>
          <a:xfrm>
            <a:off x="228600" y="5257800"/>
            <a:ext cx="4343400" cy="888840"/>
            <a:chOff x="228600" y="5257800"/>
            <a:chExt cx="4343400" cy="888840"/>
          </a:xfrm>
        </p:grpSpPr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228600" y="5257800"/>
                  <a:ext cx="434340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ω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 frequency in Hertz 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cycle/sec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228600" y="5867280"/>
                  <a:ext cx="88884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4" name=""/>
          <p:cNvGrpSpPr/>
          <p:nvPr/>
        </p:nvGrpSpPr>
        <p:grpSpPr>
          <a:xfrm>
            <a:off x="5334120" y="3809880"/>
            <a:ext cx="1536120" cy="609480"/>
            <a:chOff x="5334120" y="3809880"/>
            <a:chExt cx="1536120" cy="609480"/>
          </a:xfrm>
        </p:grpSpPr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5562360" y="3809880"/>
                  <a:ext cx="130788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/>
                      </m:r>
                      <m:r>
                        <m:t xml:space="preserve">leads</m:t>
                      </m:r>
                      <m:r>
                        <m:t xml:space="preserve">by</m:t>
                      </m:r>
                      <m:r>
                        <m:rPr>
                          <m:lit/>
                          <m:nor/>
                        </m:rP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6" name=""/>
            <p:cNvSpPr/>
            <p:nvPr/>
          </p:nvSpPr>
          <p:spPr>
            <a:xfrm flipH="1">
              <a:off x="5334120" y="4038480"/>
              <a:ext cx="22824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7620120" y="5486040"/>
            <a:ext cx="1193760" cy="584640"/>
            <a:chOff x="7620120" y="5486040"/>
            <a:chExt cx="1193760" cy="584640"/>
          </a:xfrm>
        </p:grpSpPr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7620120" y="5791320"/>
                  <a:ext cx="119376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/>
                      </m:r>
                      <m:r>
                        <m:t xml:space="preserve">lags</m:t>
                      </m:r>
                      <m:r>
                        <m:t xml:space="preserve">by</m:t>
                      </m:r>
                      <m:r>
                        <m:rPr>
                          <m:lit/>
                          <m:nor/>
                        </m:rP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9" name=""/>
            <p:cNvSpPr/>
            <p:nvPr/>
          </p:nvSpPr>
          <p:spPr>
            <a:xfrm flipH="1" flipV="1">
              <a:off x="7772400" y="5486040"/>
              <a:ext cx="45720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0692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E07.008_W0739" descr=""/>
          <p:cNvPicPr/>
          <p:nvPr/>
        </p:nvPicPr>
        <p:blipFill>
          <a:blip r:embed="rId1"/>
          <a:stretch/>
        </p:blipFill>
        <p:spPr>
          <a:xfrm>
            <a:off x="0" y="533520"/>
            <a:ext cx="4572000" cy="2309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2666880" y="76320"/>
                <a:ext cx="9907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304920" y="838080"/>
                <a:ext cx="761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0" y="2133720"/>
                <a:ext cx="18288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)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4572000" y="1219320"/>
                <a:ext cx="977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4603680" y="1944720"/>
                <a:ext cx="29973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4572000" y="2362320"/>
                <a:ext cx="28954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98" name=""/>
          <p:cNvGrpSpPr/>
          <p:nvPr/>
        </p:nvGrpSpPr>
        <p:grpSpPr>
          <a:xfrm>
            <a:off x="1219320" y="2111400"/>
            <a:ext cx="2006640" cy="1314360"/>
            <a:chOff x="1219320" y="2111400"/>
            <a:chExt cx="2006640" cy="1314360"/>
          </a:xfrm>
        </p:grpSpPr>
        <p:sp>
          <p:nvSpPr>
            <p:cNvPr id="399" name=""/>
            <p:cNvSpPr/>
            <p:nvPr/>
          </p:nvSpPr>
          <p:spPr>
            <a:xfrm>
              <a:off x="2065320" y="2111400"/>
              <a:ext cx="458640" cy="1314360"/>
            </a:xfrm>
            <a:custGeom>
              <a:avLst/>
              <a:gdLst/>
              <a:ahLst/>
              <a:rect l="l" t="t" r="r" b="b"/>
              <a:pathLst>
                <a:path w="289" h="828">
                  <a:moveTo>
                    <a:pt x="0" y="828"/>
                  </a:moveTo>
                  <a:cubicBezTo>
                    <a:pt x="10" y="546"/>
                    <a:pt x="0" y="307"/>
                    <a:pt x="0" y="9"/>
                  </a:cubicBezTo>
                  <a:cubicBezTo>
                    <a:pt x="190" y="0"/>
                    <a:pt x="94" y="2"/>
                    <a:pt x="289" y="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0" name=""/>
                <p:cNvSpPr txBox="1"/>
                <p:nvPr/>
              </p:nvSpPr>
              <p:spPr>
                <a:xfrm>
                  <a:off x="1219320" y="3048120"/>
                  <a:ext cx="200664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4152960" y="3124080"/>
                <a:ext cx="38862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16</m:t>
                    </m:r>
                    <m:r>
                      <m:rPr>
                        <m:lit/>
                        <m:nor/>
                      </m:rPr>
                      <m:t xml:space="preserve"> + j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1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3</m:t>
                    </m:r>
                    <m:r>
                      <m:t xml:space="preserve">∠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2266920" y="3809880"/>
                <a:ext cx="453384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3</m:t>
                        </m:r>
                        <m:r>
                          <m:t xml:space="preserve">∠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39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4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3" name=""/>
          <p:cNvSpPr/>
          <p:nvPr/>
        </p:nvSpPr>
        <p:spPr>
          <a:xfrm>
            <a:off x="934920" y="1522440"/>
            <a:ext cx="1101960" cy="952560"/>
          </a:xfrm>
          <a:custGeom>
            <a:avLst/>
            <a:gdLst/>
            <a:ahLst/>
            <a:rect l="l" t="t" r="r" b="b"/>
            <a:pathLst>
              <a:path w="694" h="600">
                <a:moveTo>
                  <a:pt x="198" y="7"/>
                </a:moveTo>
                <a:cubicBezTo>
                  <a:pt x="187" y="70"/>
                  <a:pt x="198" y="130"/>
                  <a:pt x="128" y="148"/>
                </a:cubicBezTo>
                <a:cubicBezTo>
                  <a:pt x="82" y="140"/>
                  <a:pt x="44" y="129"/>
                  <a:pt x="3" y="109"/>
                </a:cubicBezTo>
                <a:cubicBezTo>
                  <a:pt x="8" y="83"/>
                  <a:pt x="0" y="50"/>
                  <a:pt x="19" y="31"/>
                </a:cubicBezTo>
                <a:cubicBezTo>
                  <a:pt x="44" y="6"/>
                  <a:pt x="91" y="19"/>
                  <a:pt x="120" y="0"/>
                </a:cubicBezTo>
                <a:cubicBezTo>
                  <a:pt x="183" y="14"/>
                  <a:pt x="232" y="25"/>
                  <a:pt x="299" y="31"/>
                </a:cubicBezTo>
                <a:cubicBezTo>
                  <a:pt x="373" y="50"/>
                  <a:pt x="440" y="50"/>
                  <a:pt x="518" y="70"/>
                </a:cubicBezTo>
                <a:cubicBezTo>
                  <a:pt x="550" y="78"/>
                  <a:pt x="611" y="101"/>
                  <a:pt x="611" y="101"/>
                </a:cubicBezTo>
                <a:cubicBezTo>
                  <a:pt x="633" y="184"/>
                  <a:pt x="655" y="264"/>
                  <a:pt x="666" y="350"/>
                </a:cubicBezTo>
                <a:cubicBezTo>
                  <a:pt x="652" y="525"/>
                  <a:pt x="694" y="564"/>
                  <a:pt x="549" y="592"/>
                </a:cubicBezTo>
                <a:cubicBezTo>
                  <a:pt x="528" y="596"/>
                  <a:pt x="507" y="597"/>
                  <a:pt x="486" y="600"/>
                </a:cubicBezTo>
                <a:cubicBezTo>
                  <a:pt x="445" y="597"/>
                  <a:pt x="403" y="600"/>
                  <a:pt x="362" y="592"/>
                </a:cubicBezTo>
                <a:cubicBezTo>
                  <a:pt x="338" y="587"/>
                  <a:pt x="305" y="543"/>
                  <a:pt x="284" y="529"/>
                </a:cubicBezTo>
                <a:cubicBezTo>
                  <a:pt x="281" y="501"/>
                  <a:pt x="276" y="472"/>
                  <a:pt x="276" y="444"/>
                </a:cubicBezTo>
                <a:cubicBezTo>
                  <a:pt x="276" y="267"/>
                  <a:pt x="488" y="358"/>
                  <a:pt x="634" y="358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0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424440" y="287280"/>
            <a:ext cx="2684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(COMPLEX) ADMIT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685800" y="679320"/>
                <a:ext cx="2666880" cy="12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B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iemens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onductance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Suceptanc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380880" y="2133720"/>
                <a:ext cx="1155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1676520" y="2133720"/>
                <a:ext cx="1917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1219320" y="2895480"/>
                <a:ext cx="12445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76320" y="4343400"/>
                <a:ext cx="564516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Element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hasor Eq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mpedance</m:t>
                                </m:r>
                              </m:e>
                              <m:e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dmittance</m:t>
                                </m:r>
                              </m:e>
                            </m:mr>
                          </m:m>
                        </m:e>
                      </m:mr>
                      <m:mr>
                        <m:e>
                          <m:r>
                            <m:t xml:space="preserve">R</m:t>
                          </m:r>
                        </m:e>
                        <m:e>
                          <m:r>
                            <m:t xml:space="preserve">V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RI</m:t>
                          </m:r>
                        </m:e>
                        <m:e>
                          <m:m>
                            <m:m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R</m:t>
                                </m:r>
                              </m:e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R</m:t>
                                    </m:r>
                                  </m:den>
                                </m:f>
                                <m:r>
                                  <m:t xml:space="preserve">=</m:t>
                                </m:r>
                                <m:r>
                                  <m:t xml:space="preserve">G</m:t>
                                </m:r>
                              </m:e>
                            </m:mr>
                          </m:m>
                        </m:e>
                      </m:mr>
                      <m:mr>
                        <m:e>
                          <m:m>
                            <m:mr>
                              <m:e>
                                <m:r>
                                  <m:t xml:space="preserve">L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C</m:t>
                                </m:r>
                              </m:e>
                            </m:mr>
                          </m:m>
                        </m:e>
                        <m:e>
                          <m:m>
                            <m:m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jω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I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jωC</m:t>
                                    </m:r>
                                  </m:den>
                                </m:f>
                                <m:r>
                                  <m:t xml:space="preserve">I</m:t>
                                </m:r>
                              </m:e>
                            </m:mr>
                          </m:m>
                        </m:e>
                        <m:e>
                          <m:m>
                            <m:mr>
                              <m:e>
                                <m:m>
                                  <m:mr>
                                    <m:e>
                                      <m:r>
                                        <m:t xml:space="preserve">Z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jωL</m:t>
                                      </m:r>
                                    </m:e>
                                    <m:e>
                                      <m:r>
                                        <m:t xml:space="preserve"> </m:t>
                                      </m:r>
                                      <m:r>
                                        <m:t xml:space="preserve">Y</m:t>
                                      </m:r>
                                      <m:r>
                                        <m:t xml:space="preserve">=</m:t>
                                      </m:r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>
                                            <m:t xml:space="preserve">jωL</m:t>
                                          </m:r>
                                        </m:den>
                                      </m:f>
                                    </m:e>
                                  </m:mr>
                                </m:m>
                              </m:e>
                            </m:mr>
                            <m:mr>
                              <m:e>
                                <m:m>
                                  <m:mr>
                                    <m:e>
                                      <m:r>
                                        <m:t xml:space="preserve">Z</m:t>
                                      </m:r>
                                      <m:r>
                                        <m:t xml:space="preserve">=</m:t>
                                      </m:r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>
                                            <m:t xml:space="preserve">jωC</m:t>
                                          </m:r>
                                        </m:den>
                                      </m:f>
                                    </m:e>
                                    <m:e>
                                      <m:r>
                                        <m:t xml:space="preserve"> </m:t>
                                      </m:r>
                                      <m:r>
                                        <m:t xml:space="preserve">Y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jωC</m:t>
                                      </m:r>
                                    </m:e>
                                  </m:mr>
                                </m:m>
                              </m:e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4876920" y="304920"/>
                <a:ext cx="36446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arallel Combination of Admittances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5181480" y="2514600"/>
                <a:ext cx="35434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ries Combination of Admittances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15" name="D07.002_W0740" descr=""/>
          <p:cNvPicPr/>
          <p:nvPr/>
        </p:nvPicPr>
        <p:blipFill>
          <a:blip r:embed="rId1"/>
          <a:stretch/>
        </p:blipFill>
        <p:spPr>
          <a:xfrm>
            <a:off x="4876920" y="1523880"/>
            <a:ext cx="1714320" cy="876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4876920" y="1219320"/>
                <a:ext cx="939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6553080" y="1143000"/>
                <a:ext cx="1638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6705720" y="1828800"/>
                <a:ext cx="15112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19" name="D07.003_W0741" descr=""/>
          <p:cNvPicPr/>
          <p:nvPr/>
        </p:nvPicPr>
        <p:blipFill>
          <a:blip r:embed="rId2"/>
          <a:stretch/>
        </p:blipFill>
        <p:spPr>
          <a:xfrm>
            <a:off x="5791320" y="3581280"/>
            <a:ext cx="1600200" cy="1467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7467480" y="3733920"/>
                <a:ext cx="15750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6019920" y="5003640"/>
                <a:ext cx="2654280" cy="161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6324480" y="3886200"/>
                <a:ext cx="4701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6095880" y="4419720"/>
                <a:ext cx="7495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24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2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10620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F07.011_W0742" descr=""/>
          <p:cNvPicPr/>
          <p:nvPr/>
        </p:nvPicPr>
        <p:blipFill>
          <a:blip r:embed="rId1"/>
          <a:stretch/>
        </p:blipFill>
        <p:spPr>
          <a:xfrm>
            <a:off x="0" y="533520"/>
            <a:ext cx="3809880" cy="1501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2438280" y="76320"/>
                <a:ext cx="15624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76320" y="2724120"/>
                <a:ext cx="1130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1219320" y="2736720"/>
                <a:ext cx="2628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520560" y="3486240"/>
                <a:ext cx="33912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596880" y="4230720"/>
                <a:ext cx="32385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9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5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1206360" y="4764240"/>
                <a:ext cx="20955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5" name=""/>
          <p:cNvGrpSpPr/>
          <p:nvPr/>
        </p:nvGrpSpPr>
        <p:grpSpPr>
          <a:xfrm>
            <a:off x="3809880" y="0"/>
            <a:ext cx="5305680" cy="1523880"/>
            <a:chOff x="3809880" y="0"/>
            <a:chExt cx="5305680" cy="1523880"/>
          </a:xfrm>
        </p:grpSpPr>
        <p:pic>
          <p:nvPicPr>
            <p:cNvPr id="436" name="E07.009_W0743" descr=""/>
            <p:cNvPicPr/>
            <p:nvPr/>
          </p:nvPicPr>
          <p:blipFill>
            <a:blip r:embed="rId2"/>
            <a:stretch/>
          </p:blipFill>
          <p:spPr>
            <a:xfrm>
              <a:off x="3809880" y="276120"/>
              <a:ext cx="5305680" cy="12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5577480" y="0"/>
              <a:ext cx="2449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4851360" y="1828800"/>
                <a:ext cx="39243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5784840" y="2286000"/>
                <a:ext cx="2222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1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5003640" y="3048120"/>
                <a:ext cx="32893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1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°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1143000" y="1995480"/>
                <a:ext cx="14860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42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4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59240" y="58680"/>
            <a:ext cx="3272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RIES-PARALLEL REDU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F07.012A_W0744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4496040" cy="3774960"/>
          </a:xfrm>
          <a:prstGeom prst="rect">
            <a:avLst/>
          </a:prstGeom>
          <a:ln w="0">
            <a:noFill/>
          </a:ln>
        </p:spPr>
      </p:pic>
      <p:grpSp>
        <p:nvGrpSpPr>
          <p:cNvPr id="448" name=""/>
          <p:cNvGrpSpPr/>
          <p:nvPr/>
        </p:nvGrpSpPr>
        <p:grpSpPr>
          <a:xfrm>
            <a:off x="2666880" y="609480"/>
            <a:ext cx="1524240" cy="914400"/>
            <a:chOff x="2666880" y="609480"/>
            <a:chExt cx="1524240" cy="914400"/>
          </a:xfrm>
        </p:grpSpPr>
        <p:sp>
          <p:nvSpPr>
            <p:cNvPr id="449" name=""/>
            <p:cNvSpPr/>
            <p:nvPr/>
          </p:nvSpPr>
          <p:spPr>
            <a:xfrm>
              <a:off x="2666880" y="609480"/>
              <a:ext cx="1524240" cy="9144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0" name=""/>
                <p:cNvSpPr txBox="1"/>
                <p:nvPr/>
              </p:nvSpPr>
              <p:spPr>
                <a:xfrm>
                  <a:off x="2743200" y="609480"/>
                  <a:ext cx="1079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4927680" y="1828800"/>
                <a:ext cx="24638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52" name=""/>
          <p:cNvGrpSpPr/>
          <p:nvPr/>
        </p:nvGrpSpPr>
        <p:grpSpPr>
          <a:xfrm>
            <a:off x="3352680" y="1828800"/>
            <a:ext cx="4038840" cy="1600200"/>
            <a:chOff x="3352680" y="1828800"/>
            <a:chExt cx="4038840" cy="1600200"/>
          </a:xfrm>
        </p:grpSpPr>
        <p:sp>
          <p:nvSpPr>
            <p:cNvPr id="453" name=""/>
            <p:cNvSpPr/>
            <p:nvPr/>
          </p:nvSpPr>
          <p:spPr>
            <a:xfrm>
              <a:off x="3352680" y="1828800"/>
              <a:ext cx="4038840" cy="1600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4" name=""/>
                <p:cNvSpPr txBox="1"/>
                <p:nvPr/>
              </p:nvSpPr>
              <p:spPr>
                <a:xfrm>
                  <a:off x="5410080" y="2832120"/>
                  <a:ext cx="19684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r>
                            <m:t xml:space="preserve">×</m:t>
                          </m:r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55" name=""/>
          <p:cNvSpPr/>
          <p:nvPr/>
        </p:nvSpPr>
        <p:spPr>
          <a:xfrm>
            <a:off x="2286000" y="1066680"/>
            <a:ext cx="457200" cy="34290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2736720" y="4205160"/>
                <a:ext cx="2298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7" name=""/>
          <p:cNvGrpSpPr/>
          <p:nvPr/>
        </p:nvGrpSpPr>
        <p:grpSpPr>
          <a:xfrm>
            <a:off x="990720" y="457200"/>
            <a:ext cx="1307880" cy="2819520"/>
            <a:chOff x="990720" y="457200"/>
            <a:chExt cx="1307880" cy="2819520"/>
          </a:xfrm>
        </p:grpSpPr>
        <p:sp>
          <p:nvSpPr>
            <p:cNvPr id="458" name=""/>
            <p:cNvSpPr/>
            <p:nvPr/>
          </p:nvSpPr>
          <p:spPr>
            <a:xfrm>
              <a:off x="990720" y="457200"/>
              <a:ext cx="1295280" cy="2819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9" name=""/>
                <p:cNvSpPr txBox="1"/>
                <p:nvPr/>
              </p:nvSpPr>
              <p:spPr>
                <a:xfrm>
                  <a:off x="990720" y="2666880"/>
                  <a:ext cx="13078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×</m:t>
                          </m:r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990720" y="3276720"/>
                <a:ext cx="1206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61" name="F07.012B_W0744" descr=""/>
          <p:cNvPicPr/>
          <p:nvPr/>
        </p:nvPicPr>
        <p:blipFill>
          <a:blip r:embed="rId2"/>
          <a:stretch/>
        </p:blipFill>
        <p:spPr>
          <a:xfrm>
            <a:off x="533520" y="4883040"/>
            <a:ext cx="3066840" cy="197496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2362320" y="4572000"/>
            <a:ext cx="1904760" cy="13716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4267080" y="4572000"/>
                <a:ext cx="1155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4267080" y="5334120"/>
                <a:ext cx="1511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5867280" y="5486400"/>
                <a:ext cx="7113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6248520" y="3505320"/>
                <a:ext cx="181584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533520" y="3962520"/>
                <a:ext cx="17143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3733920" y="6095880"/>
                <a:ext cx="42415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7</m:t>
                    </m:r>
                    <m:r>
                      <m:t xml:space="preserve">∠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6324480" y="228600"/>
                <a:ext cx="2273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6324480" y="838080"/>
                <a:ext cx="1930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5791320" y="4572000"/>
                <a:ext cx="3301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4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72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E07.010_W0745" descr=""/>
          <p:cNvPicPr/>
          <p:nvPr/>
        </p:nvPicPr>
        <p:blipFill>
          <a:blip r:embed="rId1"/>
          <a:stretch/>
        </p:blipFill>
        <p:spPr>
          <a:xfrm>
            <a:off x="76320" y="685800"/>
            <a:ext cx="4190760" cy="239400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2590920" y="90360"/>
                <a:ext cx="2762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IMPEDANCE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8" name=""/>
          <p:cNvSpPr/>
          <p:nvPr/>
        </p:nvSpPr>
        <p:spPr>
          <a:xfrm>
            <a:off x="2743200" y="420840"/>
            <a:ext cx="1989000" cy="3933720"/>
          </a:xfrm>
          <a:custGeom>
            <a:avLst/>
            <a:gdLst/>
            <a:ahLst/>
            <a:rect l="l" t="t" r="r" b="b"/>
            <a:pathLst>
              <a:path w="1253" h="2478">
                <a:moveTo>
                  <a:pt x="52" y="0"/>
                </a:moveTo>
                <a:cubicBezTo>
                  <a:pt x="36" y="64"/>
                  <a:pt x="37" y="50"/>
                  <a:pt x="37" y="156"/>
                </a:cubicBezTo>
                <a:cubicBezTo>
                  <a:pt x="37" y="248"/>
                  <a:pt x="0" y="553"/>
                  <a:pt x="169" y="584"/>
                </a:cubicBezTo>
                <a:cubicBezTo>
                  <a:pt x="223" y="594"/>
                  <a:pt x="278" y="596"/>
                  <a:pt x="333" y="600"/>
                </a:cubicBezTo>
                <a:cubicBezTo>
                  <a:pt x="377" y="604"/>
                  <a:pt x="421" y="605"/>
                  <a:pt x="465" y="608"/>
                </a:cubicBezTo>
                <a:cubicBezTo>
                  <a:pt x="483" y="748"/>
                  <a:pt x="490" y="889"/>
                  <a:pt x="496" y="1029"/>
                </a:cubicBezTo>
                <a:cubicBezTo>
                  <a:pt x="499" y="1299"/>
                  <a:pt x="333" y="1630"/>
                  <a:pt x="504" y="1839"/>
                </a:cubicBezTo>
                <a:cubicBezTo>
                  <a:pt x="1026" y="2478"/>
                  <a:pt x="1118" y="1812"/>
                  <a:pt x="1151" y="1621"/>
                </a:cubicBezTo>
                <a:cubicBezTo>
                  <a:pt x="1165" y="1460"/>
                  <a:pt x="1182" y="1300"/>
                  <a:pt x="1190" y="1138"/>
                </a:cubicBezTo>
                <a:cubicBezTo>
                  <a:pt x="1183" y="439"/>
                  <a:pt x="1253" y="565"/>
                  <a:pt x="1135" y="226"/>
                </a:cubicBezTo>
                <a:cubicBezTo>
                  <a:pt x="1133" y="210"/>
                  <a:pt x="1132" y="194"/>
                  <a:pt x="1128" y="179"/>
                </a:cubicBezTo>
                <a:cubicBezTo>
                  <a:pt x="1122" y="155"/>
                  <a:pt x="1112" y="132"/>
                  <a:pt x="1104" y="109"/>
                </a:cubicBezTo>
                <a:cubicBezTo>
                  <a:pt x="1091" y="71"/>
                  <a:pt x="1025" y="97"/>
                  <a:pt x="987" y="86"/>
                </a:cubicBezTo>
                <a:cubicBezTo>
                  <a:pt x="490" y="90"/>
                  <a:pt x="363" y="101"/>
                  <a:pt x="44" y="101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4114800" y="609480"/>
                <a:ext cx="14860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80" name=""/>
          <p:cNvGrpSpPr/>
          <p:nvPr/>
        </p:nvGrpSpPr>
        <p:grpSpPr>
          <a:xfrm>
            <a:off x="2273400" y="990720"/>
            <a:ext cx="1079280" cy="2819160"/>
            <a:chOff x="2273400" y="990720"/>
            <a:chExt cx="1079280" cy="2819160"/>
          </a:xfrm>
        </p:grpSpPr>
        <p:sp>
          <p:nvSpPr>
            <p:cNvPr id="481" name=""/>
            <p:cNvSpPr/>
            <p:nvPr/>
          </p:nvSpPr>
          <p:spPr>
            <a:xfrm>
              <a:off x="2349360" y="990720"/>
              <a:ext cx="761760" cy="28191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2" name=""/>
                <p:cNvSpPr txBox="1"/>
                <p:nvPr/>
              </p:nvSpPr>
              <p:spPr>
                <a:xfrm>
                  <a:off x="2273400" y="3429000"/>
                  <a:ext cx="1079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5715000" y="990720"/>
                <a:ext cx="2730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→</m:t>
                    </m:r>
                    <m:r>
                      <m:t xml:space="preserve">P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5791320" y="1295280"/>
                <a:ext cx="2057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3397320" y="3443400"/>
                <a:ext cx="234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→</m:t>
                    </m:r>
                    <m:r>
                      <m:t xml:space="preserve">P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3429000" y="3747960"/>
                <a:ext cx="1689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5715000" y="1600200"/>
                <a:ext cx="2616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→</m:t>
                    </m:r>
                    <m:r>
                      <m:t xml:space="preserve">R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3359160" y="4038480"/>
                <a:ext cx="2641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→</m:t>
                    </m:r>
                    <m:r>
                      <m:t xml:space="preserve">R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6292800" y="2819520"/>
                <a:ext cx="2489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6032520" y="3124080"/>
                <a:ext cx="2959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→</m:t>
                    </m:r>
                    <m:r>
                      <m:t xml:space="preserve">P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0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6477120" y="3429000"/>
                <a:ext cx="1968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6222960" y="3733920"/>
                <a:ext cx="2705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→</m:t>
                    </m:r>
                    <m:r>
                      <m:t xml:space="preserve">R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4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533520" y="4952880"/>
                <a:ext cx="22730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5105520" y="4343400"/>
                <a:ext cx="3835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4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077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533520" y="4343400"/>
                <a:ext cx="2247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533520" y="5562720"/>
                <a:ext cx="3606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97" name=""/>
          <p:cNvGrpSpPr/>
          <p:nvPr/>
        </p:nvGrpSpPr>
        <p:grpSpPr>
          <a:xfrm>
            <a:off x="990720" y="1731960"/>
            <a:ext cx="1309680" cy="2344680"/>
            <a:chOff x="990720" y="1731960"/>
            <a:chExt cx="1309680" cy="2344680"/>
          </a:xfrm>
        </p:grpSpPr>
        <p:sp>
          <p:nvSpPr>
            <p:cNvPr id="498" name=""/>
            <p:cNvSpPr/>
            <p:nvPr/>
          </p:nvSpPr>
          <p:spPr>
            <a:xfrm>
              <a:off x="1347840" y="1731960"/>
              <a:ext cx="952560" cy="1546200"/>
            </a:xfrm>
            <a:custGeom>
              <a:avLst/>
              <a:gdLst/>
              <a:ahLst/>
              <a:rect l="l" t="t" r="r" b="b"/>
              <a:pathLst>
                <a:path w="600" h="974">
                  <a:moveTo>
                    <a:pt x="24" y="974"/>
                  </a:moveTo>
                  <a:cubicBezTo>
                    <a:pt x="17" y="649"/>
                    <a:pt x="0" y="325"/>
                    <a:pt x="0" y="0"/>
                  </a:cubicBezTo>
                  <a:cubicBezTo>
                    <a:pt x="212" y="11"/>
                    <a:pt x="377" y="31"/>
                    <a:pt x="600" y="3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9" name=""/>
                <p:cNvSpPr txBox="1"/>
                <p:nvPr/>
              </p:nvSpPr>
              <p:spPr>
                <a:xfrm>
                  <a:off x="990720" y="3124080"/>
                  <a:ext cx="1130040" cy="95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00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0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123480" y="76320"/>
            <a:ext cx="24087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PHASOR DIA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94800" y="533520"/>
            <a:ext cx="6103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splay all relevant phasors on a common referenc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424880" y="914400"/>
            <a:ext cx="63529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ery useful to visualize phase relationships among variab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specially if some variable, like the frequency, can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31320" y="1676520"/>
            <a:ext cx="7554240" cy="2445840"/>
            <a:chOff x="31320" y="1676520"/>
            <a:chExt cx="7554240" cy="2445840"/>
          </a:xfrm>
        </p:grpSpPr>
        <p:pic>
          <p:nvPicPr>
            <p:cNvPr id="507" name="F07.013_W0746" descr=""/>
            <p:cNvPicPr/>
            <p:nvPr/>
          </p:nvPicPr>
          <p:blipFill>
            <a:blip r:embed="rId1"/>
            <a:stretch/>
          </p:blipFill>
          <p:spPr>
            <a:xfrm>
              <a:off x="76320" y="2151000"/>
              <a:ext cx="3838320" cy="19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31320" y="167652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2800" y="1693800"/>
              <a:ext cx="5072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KETCH THE PHASOR DIAGRAM FOR THE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4254840" y="2085840"/>
            <a:ext cx="47253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y one variable can be chosen as refere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is case select the voltage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4807080" y="2832120"/>
                <a:ext cx="2743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CL: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jωL</m:t>
                        </m:r>
                      </m:den>
                    </m:f>
                    <m:r>
                      <m:t xml:space="preserve">+</m:t>
                    </m:r>
                    <m:r>
                      <m:t xml:space="preserve">jω</m:t>
                    </m:r>
                    <m:r>
                      <m:rPr>
                        <m:lit/>
                        <m:nor/>
                      </m:rPr>
                      <m:t xml:space="preserve">C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12" name=""/>
          <p:cNvGrpSpPr/>
          <p:nvPr/>
        </p:nvGrpSpPr>
        <p:grpSpPr>
          <a:xfrm>
            <a:off x="2362320" y="4191120"/>
            <a:ext cx="2099520" cy="2515320"/>
            <a:chOff x="2362320" y="4191120"/>
            <a:chExt cx="2099520" cy="2515320"/>
          </a:xfrm>
        </p:grpSpPr>
        <p:pic>
          <p:nvPicPr>
            <p:cNvPr id="513" name="F07.014B_W0747" descr=""/>
            <p:cNvPicPr/>
            <p:nvPr/>
          </p:nvPicPr>
          <p:blipFill>
            <a:blip r:embed="rId2"/>
            <a:stretch/>
          </p:blipFill>
          <p:spPr>
            <a:xfrm>
              <a:off x="2362320" y="4343400"/>
              <a:ext cx="2057400" cy="22096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514" name=""/>
                <p:cNvSpPr txBox="1"/>
                <p:nvPr/>
              </p:nvSpPr>
              <p:spPr>
                <a:xfrm>
                  <a:off x="3048120" y="4191120"/>
                  <a:ext cx="952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&gt;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|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5" name=""/>
            <p:cNvSpPr/>
            <p:nvPr/>
          </p:nvSpPr>
          <p:spPr>
            <a:xfrm>
              <a:off x="2616840" y="6369120"/>
              <a:ext cx="18450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IVE C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4191120"/>
            <a:ext cx="2201400" cy="2453400"/>
            <a:chOff x="4572000" y="4191120"/>
            <a:chExt cx="2201400" cy="2453400"/>
          </a:xfrm>
        </p:grpSpPr>
        <p:pic>
          <p:nvPicPr>
            <p:cNvPr id="517" name="F07.014C_W0747" descr=""/>
            <p:cNvPicPr/>
            <p:nvPr/>
          </p:nvPicPr>
          <p:blipFill>
            <a:blip r:embed="rId3"/>
            <a:stretch/>
          </p:blipFill>
          <p:spPr>
            <a:xfrm>
              <a:off x="4572000" y="4419720"/>
              <a:ext cx="2028960" cy="21142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518" name=""/>
                <p:cNvSpPr txBox="1"/>
                <p:nvPr/>
              </p:nvSpPr>
              <p:spPr>
                <a:xfrm>
                  <a:off x="5181480" y="4191120"/>
                  <a:ext cx="952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&lt;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|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9" name=""/>
            <p:cNvSpPr/>
            <p:nvPr/>
          </p:nvSpPr>
          <p:spPr>
            <a:xfrm>
              <a:off x="4858200" y="6307200"/>
              <a:ext cx="1915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IVE C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6553080" y="3809880"/>
            <a:ext cx="2210040" cy="2602080"/>
            <a:chOff x="6553080" y="3809880"/>
            <a:chExt cx="2210040" cy="2602080"/>
          </a:xfrm>
        </p:grpSpPr>
        <p:pic>
          <p:nvPicPr>
            <p:cNvPr id="521" name="F07.014D_W0747" descr=""/>
            <p:cNvPicPr/>
            <p:nvPr/>
          </p:nvPicPr>
          <p:blipFill>
            <a:blip r:embed="rId4"/>
            <a:stretch/>
          </p:blipFill>
          <p:spPr>
            <a:xfrm>
              <a:off x="6858000" y="4038480"/>
              <a:ext cx="1876320" cy="22957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522" name=""/>
                <p:cNvSpPr txBox="1"/>
                <p:nvPr/>
              </p:nvSpPr>
              <p:spPr>
                <a:xfrm>
                  <a:off x="6553080" y="3809880"/>
                  <a:ext cx="157500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↑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capacitive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3" name=""/>
                <p:cNvSpPr txBox="1"/>
                <p:nvPr/>
              </p:nvSpPr>
              <p:spPr>
                <a:xfrm>
                  <a:off x="7086600" y="6095880"/>
                  <a:ext cx="152388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↑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inductive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24" name=""/>
            <p:cNvSpPr/>
            <p:nvPr/>
          </p:nvSpPr>
          <p:spPr>
            <a:xfrm>
              <a:off x="8686800" y="5562720"/>
              <a:ext cx="0" cy="7617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8763120" y="3809880"/>
              <a:ext cx="0" cy="9907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76320" y="4343400"/>
            <a:ext cx="1952640" cy="2295360"/>
            <a:chOff x="76320" y="4343400"/>
            <a:chExt cx="1952640" cy="2295360"/>
          </a:xfrm>
        </p:grpSpPr>
        <p:pic>
          <p:nvPicPr>
            <p:cNvPr id="527" name="F07.014A_W0747" descr=""/>
            <p:cNvPicPr/>
            <p:nvPr/>
          </p:nvPicPr>
          <p:blipFill>
            <a:blip r:embed="rId5"/>
            <a:stretch/>
          </p:blipFill>
          <p:spPr>
            <a:xfrm>
              <a:off x="76320" y="4343400"/>
              <a:ext cx="1952640" cy="22953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528" name=""/>
                <p:cNvSpPr txBox="1"/>
                <p:nvPr/>
              </p:nvSpPr>
              <p:spPr>
                <a:xfrm>
                  <a:off x="635040" y="4876920"/>
                  <a:ext cx="1117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jω</m:t>
                      </m:r>
                      <m:r>
                        <m:rPr>
                          <m:lit/>
                          <m:nor/>
                        </m:rPr>
                        <m:t xml:space="preserve">C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9" name=""/>
                <p:cNvSpPr txBox="1"/>
                <p:nvPr/>
              </p:nvSpPr>
              <p:spPr>
                <a:xfrm>
                  <a:off x="838080" y="5943600"/>
                  <a:ext cx="8766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jωl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30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3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31320" y="190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549160" y="58680"/>
            <a:ext cx="4623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O THE PHASOR DIAGRAM FOR TH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380880" y="533520"/>
          <a:ext cx="3519720" cy="233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33520"/>
                    <a:ext cx="3519720" cy="23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31680" y="2959200"/>
                <a:ext cx="167652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  <m:r>
                          <m:t xml:space="preserve">I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8" name=""/>
          <p:cNvSpPr/>
          <p:nvPr/>
        </p:nvSpPr>
        <p:spPr>
          <a:xfrm>
            <a:off x="1789920" y="3457440"/>
            <a:ext cx="26679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t is convenient to sel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urrent as 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7480" y="4616280"/>
            <a:ext cx="2884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DRAW ALL THE PHA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1905120" y="4229280"/>
            <a:ext cx="2552760" cy="2628720"/>
            <a:chOff x="1905120" y="4229280"/>
            <a:chExt cx="2552760" cy="2628720"/>
          </a:xfrm>
        </p:grpSpPr>
        <p:pic>
          <p:nvPicPr>
            <p:cNvPr id="541" name="F07.015B_W0749" descr=""/>
            <p:cNvPicPr/>
            <p:nvPr/>
          </p:nvPicPr>
          <p:blipFill>
            <a:blip r:embed="rId3"/>
            <a:stretch/>
          </p:blipFill>
          <p:spPr>
            <a:xfrm>
              <a:off x="2819520" y="4229280"/>
              <a:ext cx="1638360" cy="26287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542" name=""/>
                <p:cNvSpPr txBox="1"/>
                <p:nvPr/>
              </p:nvSpPr>
              <p:spPr>
                <a:xfrm>
                  <a:off x="1905120" y="5486400"/>
                  <a:ext cx="977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&gt;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|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2819520" y="457200"/>
                <a:ext cx="11937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4" name=""/>
          <p:cNvSpPr/>
          <p:nvPr/>
        </p:nvSpPr>
        <p:spPr>
          <a:xfrm>
            <a:off x="4637160" y="425520"/>
            <a:ext cx="3771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PUT KNOWN NUMERICAL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F07.015C_W0749" descr=""/>
          <p:cNvPicPr/>
          <p:nvPr/>
        </p:nvPicPr>
        <p:blipFill>
          <a:blip r:embed="rId4"/>
          <a:stretch/>
        </p:blipFill>
        <p:spPr>
          <a:xfrm>
            <a:off x="4724280" y="838080"/>
            <a:ext cx="2210040" cy="2667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6705720" y="1066680"/>
                <a:ext cx="1434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7" name=""/>
          <p:cNvGrpSpPr/>
          <p:nvPr/>
        </p:nvGrpSpPr>
        <p:grpSpPr>
          <a:xfrm>
            <a:off x="4610160" y="3251160"/>
            <a:ext cx="4381560" cy="2987640"/>
            <a:chOff x="4610160" y="3251160"/>
            <a:chExt cx="4381560" cy="2987640"/>
          </a:xfrm>
        </p:grpSpPr>
        <mc:AlternateContent>
          <mc:Choice xmlns:a14="http://schemas.microsoft.com/office/drawing/2010/main" Requires="a14">
            <p:sp>
              <p:nvSpPr>
                <p:cNvPr id="548" name=""/>
                <p:cNvSpPr txBox="1"/>
                <p:nvPr/>
              </p:nvSpPr>
              <p:spPr>
                <a:xfrm>
                  <a:off x="4610160" y="3251160"/>
                  <a:ext cx="438156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IAGRAM WITH REFERENCE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549" name="F07.015D_W0749" descr=""/>
            <p:cNvPicPr/>
            <p:nvPr/>
          </p:nvPicPr>
          <p:blipFill>
            <a:blip r:embed="rId5"/>
            <a:stretch/>
          </p:blipFill>
          <p:spPr>
            <a:xfrm>
              <a:off x="5029200" y="3809880"/>
              <a:ext cx="2038320" cy="242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0" name=""/>
          <p:cNvSpPr/>
          <p:nvPr/>
        </p:nvSpPr>
        <p:spPr>
          <a:xfrm>
            <a:off x="7026480" y="3639960"/>
            <a:ext cx="19393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ad values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agram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7061040" y="4560840"/>
                <a:ext cx="15494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ythagora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7086600" y="4267080"/>
                <a:ext cx="14986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6934320" y="5500800"/>
                <a:ext cx="1333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4622760" y="3747960"/>
                <a:ext cx="1625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3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55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5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D07.004_W0748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3276720" cy="239544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106200" y="135000"/>
            <a:ext cx="23068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O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728800" y="13500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2819520" y="152280"/>
                <a:ext cx="47624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THE FREQUENCY AT WHICH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E IN PHA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1523880" y="1523880"/>
                <a:ext cx="39240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3124080" y="762120"/>
                <a:ext cx="4140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, the phasors for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re co-linea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4038480" y="1066680"/>
                <a:ext cx="2248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jω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2133720" y="1295280"/>
                <a:ext cx="2142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2438280" y="1828800"/>
                <a:ext cx="19080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1905120" y="2362320"/>
                <a:ext cx="21420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68" name=""/>
          <p:cNvGrpSpPr/>
          <p:nvPr/>
        </p:nvGrpSpPr>
        <p:grpSpPr>
          <a:xfrm>
            <a:off x="3733920" y="2089080"/>
            <a:ext cx="4006800" cy="2102040"/>
            <a:chOff x="3733920" y="2089080"/>
            <a:chExt cx="4006800" cy="2102040"/>
          </a:xfrm>
        </p:grpSpPr>
        <p:graphicFrame>
          <p:nvGraphicFramePr>
            <p:cNvPr id="569" name=""/>
            <p:cNvGraphicFramePr/>
            <p:nvPr/>
          </p:nvGraphicFramePr>
          <p:xfrm>
            <a:off x="3733920" y="2411280"/>
            <a:ext cx="4006800" cy="1779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7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733920" y="2411280"/>
                      <a:ext cx="4006800" cy="177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1" name=""/>
            <p:cNvSpPr/>
            <p:nvPr/>
          </p:nvSpPr>
          <p:spPr>
            <a:xfrm>
              <a:off x="4739400" y="2089080"/>
              <a:ext cx="2044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DIA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590920" y="4419720"/>
                <a:ext cx="3886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 are co-lineal iff </m:t>
                    </m:r>
                    <m:r>
                      <m:t xml:space="preserve">jωL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6553080" y="4419720"/>
                <a:ext cx="1155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2590920" y="5029200"/>
                <a:ext cx="4483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3492360" y="5715000"/>
                <a:ext cx="2222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6" name=""/>
          <p:cNvSpPr/>
          <p:nvPr/>
        </p:nvSpPr>
        <p:spPr>
          <a:xfrm>
            <a:off x="6968520" y="1811160"/>
            <a:ext cx="22032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tice that I w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hosen as 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7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0" name=""/>
          <p:cNvGraphicFramePr/>
          <p:nvPr/>
        </p:nvGraphicFramePr>
        <p:xfrm>
          <a:off x="3475080" y="3809880"/>
          <a:ext cx="5668920" cy="24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5080" y="3809880"/>
                    <a:ext cx="5668920" cy="24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2" name=""/>
          <p:cNvSpPr/>
          <p:nvPr/>
        </p:nvSpPr>
        <p:spPr>
          <a:xfrm>
            <a:off x="30600" y="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679480" y="58680"/>
            <a:ext cx="6305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a phasor diagram illustrating all voltages and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76320" y="506520"/>
          <a:ext cx="6215040" cy="231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506520"/>
                    <a:ext cx="621504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152280" y="2666880"/>
                <a:ext cx="3670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2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152280" y="3290760"/>
                <a:ext cx="2159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8" name=""/>
          <p:cNvSpPr/>
          <p:nvPr/>
        </p:nvSpPr>
        <p:spPr>
          <a:xfrm>
            <a:off x="3953520" y="2695680"/>
            <a:ext cx="9669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114480" y="3657600"/>
                <a:ext cx="3695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2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152280" y="434340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9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2209680" y="4343400"/>
                <a:ext cx="2298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pler than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152280" y="4800600"/>
                <a:ext cx="2667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3" name=""/>
          <p:cNvSpPr/>
          <p:nvPr/>
        </p:nvSpPr>
        <p:spPr>
          <a:xfrm>
            <a:off x="287640" y="5316480"/>
            <a:ext cx="31694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PHASORS. ALL 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KNOWN. NO NEED TO SELEC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REFEREN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9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138600" y="34920"/>
            <a:ext cx="50803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BASIC ANALYSIS USING KIRCHHOFF’S LA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06880" y="592200"/>
            <a:ext cx="3178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BLEM SOLVING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922320" y="973080"/>
            <a:ext cx="34556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relatively simple circuits 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2362320" y="1523880"/>
                <a:ext cx="391140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hm's law for AC analysis; 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  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Z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rules for combining </m:t>
                        </m:r>
                        <m:r>
                          <m:t xml:space="preserve">Z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CL AND KV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urrent and voltage divide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1" name=""/>
          <p:cNvSpPr/>
          <p:nvPr/>
        </p:nvSpPr>
        <p:spPr>
          <a:xfrm>
            <a:off x="915840" y="2954160"/>
            <a:ext cx="32133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more complex circuits 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2362320" y="3505320"/>
                <a:ext cx="3504960" cy="22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de analys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op analys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perposi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urce transform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venin's and Norton's theorem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TLA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SPI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03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200" y="44280"/>
            <a:ext cx="2475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TRIGON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76320" y="2133720"/>
                <a:ext cx="3746520" cy="21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ME  DERIVED  IDENTITI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3360" y="406440"/>
                <a:ext cx="3365640" cy="16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SSENTIAL  IDENTITI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533520" y="4495680"/>
                <a:ext cx="2095560" cy="21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PPLICATION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257800" y="1981080"/>
                <a:ext cx="30225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CCEPTED  EE  CONVEN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3" name=""/>
          <p:cNvGrpSpPr/>
          <p:nvPr/>
        </p:nvGrpSpPr>
        <p:grpSpPr>
          <a:xfrm>
            <a:off x="5222880" y="210960"/>
            <a:ext cx="2778120" cy="1376640"/>
            <a:chOff x="5222880" y="210960"/>
            <a:chExt cx="2778120" cy="1376640"/>
          </a:xfrm>
        </p:grpSpPr>
        <p:sp>
          <p:nvSpPr>
            <p:cNvPr id="84" name=""/>
            <p:cNvSpPr/>
            <p:nvPr/>
          </p:nvSpPr>
          <p:spPr>
            <a:xfrm>
              <a:off x="5222880" y="210960"/>
              <a:ext cx="2539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ADIANS AND DEGRE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5257800" y="685800"/>
                  <a:ext cx="2743200" cy="90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 radians  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  360 degrees</m:t>
                          </m:r>
                        </m:e>
                        <m:e>
                          <m:r>
                            <m:t xml:space="preserve">θ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rads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80</m:t>
                              </m:r>
                            </m:num>
                            <m:den>
                              <m:r>
                                <m:t xml:space="preserve">π</m:t>
                              </m:r>
                            </m:den>
                          </m:f>
                          <m:r>
                            <m:t xml:space="preserve">θ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degrees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715480" y="58680"/>
            <a:ext cx="4741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ALL THE VOLTAGES AND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0" y="533520"/>
          <a:ext cx="4854600" cy="18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4854600" cy="18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0" name=""/>
          <p:cNvGrpSpPr/>
          <p:nvPr/>
        </p:nvGrpSpPr>
        <p:grpSpPr>
          <a:xfrm>
            <a:off x="1752480" y="1828800"/>
            <a:ext cx="2006640" cy="968400"/>
            <a:chOff x="1752480" y="1828800"/>
            <a:chExt cx="2006640" cy="968400"/>
          </a:xfrm>
        </p:grpSpPr>
        <p:sp>
          <p:nvSpPr>
            <p:cNvPr id="611" name=""/>
            <p:cNvSpPr/>
            <p:nvPr/>
          </p:nvSpPr>
          <p:spPr>
            <a:xfrm>
              <a:off x="1768320" y="1828800"/>
              <a:ext cx="495360" cy="608040"/>
            </a:xfrm>
            <a:custGeom>
              <a:avLst/>
              <a:gdLst/>
              <a:ahLst/>
              <a:rect l="l" t="t" r="r" b="b"/>
              <a:pathLst>
                <a:path w="312" h="383">
                  <a:moveTo>
                    <a:pt x="16" y="383"/>
                  </a:moveTo>
                  <a:cubicBezTo>
                    <a:pt x="27" y="284"/>
                    <a:pt x="13" y="193"/>
                    <a:pt x="0" y="95"/>
                  </a:cubicBezTo>
                  <a:cubicBezTo>
                    <a:pt x="26" y="66"/>
                    <a:pt x="45" y="29"/>
                    <a:pt x="78" y="9"/>
                  </a:cubicBezTo>
                  <a:cubicBezTo>
                    <a:pt x="94" y="0"/>
                    <a:pt x="115" y="16"/>
                    <a:pt x="133" y="17"/>
                  </a:cubicBezTo>
                  <a:cubicBezTo>
                    <a:pt x="246" y="25"/>
                    <a:pt x="247" y="25"/>
                    <a:pt x="312" y="2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2" name=""/>
                <p:cNvSpPr txBox="1"/>
                <p:nvPr/>
              </p:nvSpPr>
              <p:spPr>
                <a:xfrm>
                  <a:off x="1752480" y="2467080"/>
                  <a:ext cx="200664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j</m:t>
                      </m:r>
                      <m:r>
                        <m:t xml:space="preserve">6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8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-25560" y="2895480"/>
                <a:ext cx="3606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-25560" y="3581280"/>
                <a:ext cx="49784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9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6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4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-25560" y="4191120"/>
                <a:ext cx="441972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4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-25560" y="4876920"/>
                <a:ext cx="4445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6</m:t>
                        </m:r>
                      </m:den>
                    </m:f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6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7" name=""/>
              <p:cNvSpPr txBox="1"/>
              <p:nvPr/>
            </p:nvSpPr>
            <p:spPr>
              <a:xfrm>
                <a:off x="-25560" y="5486400"/>
                <a:ext cx="48643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5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6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5257800" y="2324160"/>
                <a:ext cx="31370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 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619" name="F07.016B_W0751" descr=""/>
          <p:cNvPicPr/>
          <p:nvPr/>
        </p:nvPicPr>
        <p:blipFill>
          <a:blip r:embed="rId3"/>
          <a:stretch/>
        </p:blipFill>
        <p:spPr>
          <a:xfrm>
            <a:off x="5410080" y="4038480"/>
            <a:ext cx="2867040" cy="2200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76320" y="6172200"/>
                <a:ext cx="556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r>
                      <m:t xml:space="preserve">°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8</m:t>
                    </m:r>
                    <m:r>
                      <m:t xml:space="preserve">°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0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5867280" y="2705040"/>
                <a:ext cx="2057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5105520" y="762120"/>
                <a:ext cx="279396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mpute 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se current divider for 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m's law for 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23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338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E07.012_W0752" descr=""/>
          <p:cNvPicPr/>
          <p:nvPr/>
        </p:nvPicPr>
        <p:blipFill>
          <a:blip r:embed="rId1"/>
          <a:stretch/>
        </p:blipFill>
        <p:spPr>
          <a:xfrm>
            <a:off x="0" y="762120"/>
            <a:ext cx="4191120" cy="1784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2590920" y="152280"/>
                <a:ext cx="2869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, COMPUT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4952880" y="1143000"/>
                <a:ext cx="15368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MPUTE  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MPUTE 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MPUTE 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MPUTE 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0" name=""/>
          <p:cNvSpPr/>
          <p:nvPr/>
        </p:nvSpPr>
        <p:spPr>
          <a:xfrm>
            <a:off x="4951800" y="668160"/>
            <a:ext cx="1340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PLAN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374760" y="2579760"/>
                <a:ext cx="22730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374760" y="3124080"/>
                <a:ext cx="334008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374760" y="3505320"/>
                <a:ext cx="1765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374760" y="3886200"/>
                <a:ext cx="3720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374760" y="4572000"/>
                <a:ext cx="3314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374760" y="4952880"/>
                <a:ext cx="3251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8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8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374760" y="5334120"/>
                <a:ext cx="2133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8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9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4673520" y="3505320"/>
                <a:ext cx="4267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8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9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5467320" y="3962520"/>
                <a:ext cx="2158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8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5486400" y="4419720"/>
                <a:ext cx="2197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8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41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4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132120" y="76320"/>
            <a:ext cx="28216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ANALYSIS TECHN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75640" y="515880"/>
            <a:ext cx="81115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URPOSE: TO REVIEW ALL CIRCUIT ANALYSIS TOOLS DEVELOPED F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STIVE CIRCUITS; I.E., NODE AND LOOP ANALYSIS, SOURCE SUPERPOSITIO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 TRANSFORMATION, THEVENIN’S AND NORTON’S THEOR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228600" y="1523880"/>
            <a:ext cx="4232160" cy="2566800"/>
            <a:chOff x="228600" y="1523880"/>
            <a:chExt cx="4232160" cy="2566800"/>
          </a:xfrm>
        </p:grpSpPr>
        <p:graphicFrame>
          <p:nvGraphicFramePr>
            <p:cNvPr id="647" name=""/>
            <p:cNvGraphicFramePr/>
            <p:nvPr/>
          </p:nvGraphicFramePr>
          <p:xfrm>
            <a:off x="228600" y="1828440"/>
            <a:ext cx="4232160" cy="2262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4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828440"/>
                      <a:ext cx="4232160" cy="226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649" name=""/>
                <p:cNvSpPr txBox="1"/>
                <p:nvPr/>
              </p:nvSpPr>
              <p:spPr>
                <a:xfrm>
                  <a:off x="1412640" y="1523880"/>
                  <a:ext cx="1270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COMPUTE I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50" name=""/>
          <p:cNvSpPr/>
          <p:nvPr/>
        </p:nvSpPr>
        <p:spPr>
          <a:xfrm>
            <a:off x="402120" y="4173480"/>
            <a:ext cx="2036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NODE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914400" y="1828800"/>
            <a:ext cx="2971800" cy="1295280"/>
            <a:chOff x="914400" y="1828800"/>
            <a:chExt cx="2971800" cy="1295280"/>
          </a:xfrm>
        </p:grpSpPr>
        <p:sp>
          <p:nvSpPr>
            <p:cNvPr id="652" name=""/>
            <p:cNvSpPr/>
            <p:nvPr/>
          </p:nvSpPr>
          <p:spPr>
            <a:xfrm flipH="1">
              <a:off x="914400" y="25146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371600" y="2590920"/>
              <a:ext cx="0" cy="5331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371600" y="1828800"/>
              <a:ext cx="1828800" cy="838080"/>
            </a:xfrm>
            <a:prstGeom prst="ellipse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124080" y="2514600"/>
              <a:ext cx="0" cy="533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76720" y="251460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324000" y="4648320"/>
                <a:ext cx="2730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380880" y="5410080"/>
                <a:ext cx="1511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533520" y="5932440"/>
                <a:ext cx="10792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5200560" y="1600200"/>
                <a:ext cx="31496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5276880" y="2286000"/>
                <a:ext cx="2984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4552920" y="3124080"/>
                <a:ext cx="4546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6172200" y="3809880"/>
                <a:ext cx="1473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6095880" y="4484520"/>
                <a:ext cx="16639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5" name=""/>
          <p:cNvSpPr/>
          <p:nvPr/>
        </p:nvSpPr>
        <p:spPr>
          <a:xfrm>
            <a:off x="4822200" y="5925960"/>
            <a:ext cx="2428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: LOOP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5105520" y="5257800"/>
            <a:ext cx="3682800" cy="596880"/>
            <a:chOff x="5105520" y="5257800"/>
            <a:chExt cx="3682800" cy="596880"/>
          </a:xfrm>
        </p:grpSpPr>
        <mc:AlternateContent>
          <mc:Choice xmlns:a14="http://schemas.microsoft.com/office/drawing/2010/main" Requires="a14">
            <p:sp>
              <p:nvSpPr>
                <p:cNvPr id="667" name=""/>
                <p:cNvSpPr txBox="1"/>
                <p:nvPr/>
              </p:nvSpPr>
              <p:spPr>
                <a:xfrm>
                  <a:off x="5105520" y="5257800"/>
                  <a:ext cx="16383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5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8" name=""/>
                <p:cNvSpPr txBox="1"/>
                <p:nvPr/>
              </p:nvSpPr>
              <p:spPr>
                <a:xfrm>
                  <a:off x="6934320" y="5410080"/>
                  <a:ext cx="1854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2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6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669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322560" y="135000"/>
            <a:ext cx="2014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LOOP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3" name=""/>
          <p:cNvGraphicFramePr/>
          <p:nvPr/>
        </p:nvGraphicFramePr>
        <p:xfrm>
          <a:off x="0" y="609480"/>
          <a:ext cx="4778280" cy="223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4778280" cy="22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"/>
          <p:cNvSpPr/>
          <p:nvPr/>
        </p:nvSpPr>
        <p:spPr>
          <a:xfrm>
            <a:off x="315000" y="2819520"/>
            <a:ext cx="36432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 IS NOT SHARED AND Io 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FINED BY ONE LOOP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139680" y="3505320"/>
                <a:ext cx="1994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OP 1: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133200" y="3962520"/>
                <a:ext cx="4800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OP 2: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1219320" y="4724280"/>
                <a:ext cx="1473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UST FIND  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3251160" y="3352680"/>
                <a:ext cx="787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152280" y="4343400"/>
                <a:ext cx="3060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OP 3: 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81" name=""/>
          <p:cNvGrpSpPr/>
          <p:nvPr/>
        </p:nvGrpSpPr>
        <p:grpSpPr>
          <a:xfrm>
            <a:off x="76320" y="3962520"/>
            <a:ext cx="3101760" cy="1476360"/>
            <a:chOff x="76320" y="3962520"/>
            <a:chExt cx="3101760" cy="1476360"/>
          </a:xfrm>
        </p:grpSpPr>
        <mc:AlternateContent>
          <mc:Choice xmlns:a14="http://schemas.microsoft.com/office/drawing/2010/main" Requires="a14">
            <p:sp>
              <p:nvSpPr>
                <p:cNvPr id="682" name=""/>
                <p:cNvSpPr txBox="1"/>
                <p:nvPr/>
              </p:nvSpPr>
              <p:spPr>
                <a:xfrm>
                  <a:off x="358920" y="5148360"/>
                  <a:ext cx="2819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83" name=""/>
            <p:cNvSpPr/>
            <p:nvPr/>
          </p:nvSpPr>
          <p:spPr>
            <a:xfrm>
              <a:off x="76320" y="3962520"/>
              <a:ext cx="234720" cy="1361880"/>
            </a:xfrm>
            <a:custGeom>
              <a:avLst/>
              <a:gdLst/>
              <a:ahLst/>
              <a:rect l="l" t="t" r="r" b="b"/>
              <a:pathLst>
                <a:path w="148" h="858">
                  <a:moveTo>
                    <a:pt x="0" y="0"/>
                  </a:moveTo>
                  <a:cubicBezTo>
                    <a:pt x="3" y="229"/>
                    <a:pt x="3" y="457"/>
                    <a:pt x="8" y="686"/>
                  </a:cubicBezTo>
                  <a:cubicBezTo>
                    <a:pt x="9" y="728"/>
                    <a:pt x="12" y="769"/>
                    <a:pt x="16" y="811"/>
                  </a:cubicBezTo>
                  <a:cubicBezTo>
                    <a:pt x="17" y="822"/>
                    <a:pt x="14" y="838"/>
                    <a:pt x="24" y="842"/>
                  </a:cubicBezTo>
                  <a:cubicBezTo>
                    <a:pt x="62" y="858"/>
                    <a:pt x="107" y="857"/>
                    <a:pt x="148" y="85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838080" y="4576680"/>
            <a:ext cx="2613240" cy="1276560"/>
            <a:chOff x="838080" y="4576680"/>
            <a:chExt cx="2613240" cy="1276560"/>
          </a:xfrm>
        </p:grpSpPr>
        <p:sp>
          <p:nvSpPr>
            <p:cNvPr id="685" name=""/>
            <p:cNvSpPr/>
            <p:nvPr/>
          </p:nvSpPr>
          <p:spPr>
            <a:xfrm>
              <a:off x="3252960" y="4576680"/>
              <a:ext cx="198360" cy="1203480"/>
            </a:xfrm>
            <a:custGeom>
              <a:avLst/>
              <a:gdLst/>
              <a:ahLst/>
              <a:rect l="l" t="t" r="r" b="b"/>
              <a:pathLst>
                <a:path w="125" h="758">
                  <a:moveTo>
                    <a:pt x="32" y="0"/>
                  </a:moveTo>
                  <a:cubicBezTo>
                    <a:pt x="120" y="8"/>
                    <a:pt x="89" y="8"/>
                    <a:pt x="125" y="8"/>
                  </a:cubicBezTo>
                  <a:cubicBezTo>
                    <a:pt x="111" y="141"/>
                    <a:pt x="93" y="273"/>
                    <a:pt x="78" y="406"/>
                  </a:cubicBezTo>
                  <a:cubicBezTo>
                    <a:pt x="76" y="515"/>
                    <a:pt x="88" y="625"/>
                    <a:pt x="71" y="733"/>
                  </a:cubicBezTo>
                  <a:cubicBezTo>
                    <a:pt x="67" y="758"/>
                    <a:pt x="0" y="756"/>
                    <a:pt x="0" y="75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6" name=""/>
                <p:cNvSpPr txBox="1"/>
                <p:nvPr/>
              </p:nvSpPr>
              <p:spPr>
                <a:xfrm>
                  <a:off x="838080" y="5562720"/>
                  <a:ext cx="21463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3505320" y="5181480"/>
                <a:ext cx="7999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/*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/*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8" name=""/>
              <p:cNvSpPr txBox="1"/>
              <p:nvPr/>
            </p:nvSpPr>
            <p:spPr>
              <a:xfrm>
                <a:off x="393840" y="5867280"/>
                <a:ext cx="3403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j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425520" y="6273720"/>
                <a:ext cx="1130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2209680" y="6248520"/>
                <a:ext cx="15876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1" name=""/>
          <p:cNvSpPr/>
          <p:nvPr/>
        </p:nvSpPr>
        <p:spPr>
          <a:xfrm>
            <a:off x="4824360" y="762120"/>
            <a:ext cx="41493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OULD ALSO USE THE  SUPERME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ECHN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4343400" y="2057400"/>
            <a:ext cx="4778280" cy="2236680"/>
            <a:chOff x="4343400" y="2057400"/>
            <a:chExt cx="4778280" cy="2236680"/>
          </a:xfrm>
        </p:grpSpPr>
        <p:graphicFrame>
          <p:nvGraphicFramePr>
            <p:cNvPr id="693" name=""/>
            <p:cNvGraphicFramePr/>
            <p:nvPr/>
          </p:nvGraphicFramePr>
          <p:xfrm>
            <a:off x="4343400" y="2057400"/>
            <a:ext cx="4778280" cy="2236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43400" y="2057400"/>
                      <a:ext cx="4778280" cy="223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95" name=""/>
            <p:cNvSpPr/>
            <p:nvPr/>
          </p:nvSpPr>
          <p:spPr>
            <a:xfrm>
              <a:off x="6159600" y="2968560"/>
              <a:ext cx="657000" cy="854280"/>
            </a:xfrm>
            <a:custGeom>
              <a:avLst/>
              <a:gdLst/>
              <a:ahLst/>
              <a:rect l="l" t="t" r="r" b="b"/>
              <a:pathLst>
                <a:path w="414" h="538">
                  <a:moveTo>
                    <a:pt x="8" y="258"/>
                  </a:moveTo>
                  <a:cubicBezTo>
                    <a:pt x="0" y="52"/>
                    <a:pt x="1" y="138"/>
                    <a:pt x="1" y="0"/>
                  </a:cubicBezTo>
                  <a:cubicBezTo>
                    <a:pt x="115" y="5"/>
                    <a:pt x="223" y="15"/>
                    <a:pt x="336" y="24"/>
                  </a:cubicBezTo>
                  <a:cubicBezTo>
                    <a:pt x="377" y="35"/>
                    <a:pt x="356" y="32"/>
                    <a:pt x="398" y="32"/>
                  </a:cubicBezTo>
                  <a:cubicBezTo>
                    <a:pt x="403" y="131"/>
                    <a:pt x="414" y="229"/>
                    <a:pt x="414" y="328"/>
                  </a:cubicBezTo>
                  <a:cubicBezTo>
                    <a:pt x="414" y="399"/>
                    <a:pt x="398" y="468"/>
                    <a:pt x="398" y="538"/>
                  </a:cubicBezTo>
                  <a:cubicBezTo>
                    <a:pt x="237" y="522"/>
                    <a:pt x="346" y="530"/>
                    <a:pt x="71" y="53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6" name=""/>
                <p:cNvSpPr txBox="1"/>
                <p:nvPr/>
              </p:nvSpPr>
              <p:spPr>
                <a:xfrm>
                  <a:off x="6553080" y="304812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97" name=""/>
              <p:cNvSpPr txBox="1"/>
              <p:nvPr/>
            </p:nvSpPr>
            <p:spPr>
              <a:xfrm>
                <a:off x="4718160" y="4343400"/>
                <a:ext cx="419076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STRAINT: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PERMESH: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ESH 3: 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5638680" y="5410080"/>
                <a:ext cx="1079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99" name=""/>
          <p:cNvSpPr/>
          <p:nvPr/>
        </p:nvSpPr>
        <p:spPr>
          <a:xfrm>
            <a:off x="4845240" y="5925960"/>
            <a:ext cx="33217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: SOURCE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0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3" name=""/>
          <p:cNvGrpSpPr/>
          <p:nvPr/>
        </p:nvGrpSpPr>
        <p:grpSpPr>
          <a:xfrm>
            <a:off x="2990520" y="762120"/>
            <a:ext cx="2800800" cy="3498120"/>
            <a:chOff x="2990520" y="762120"/>
            <a:chExt cx="2800800" cy="3498120"/>
          </a:xfrm>
        </p:grpSpPr>
        <p:graphicFrame>
          <p:nvGraphicFramePr>
            <p:cNvPr id="704" name=""/>
            <p:cNvGraphicFramePr/>
            <p:nvPr/>
          </p:nvGraphicFramePr>
          <p:xfrm>
            <a:off x="3048120" y="762120"/>
            <a:ext cx="2638440" cy="2971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8120" y="762120"/>
                      <a:ext cx="2638440" cy="297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6" name=""/>
            <p:cNvSpPr/>
            <p:nvPr/>
          </p:nvSpPr>
          <p:spPr>
            <a:xfrm>
              <a:off x="2990520" y="3740040"/>
              <a:ext cx="237240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ircuit with 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urce set to zero(OPE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7" name=""/>
                <p:cNvSpPr txBox="1"/>
                <p:nvPr/>
              </p:nvSpPr>
              <p:spPr>
                <a:xfrm>
                  <a:off x="4724280" y="1371600"/>
                  <a:ext cx="30024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8" name=""/>
                <p:cNvSpPr txBox="1"/>
                <p:nvPr/>
              </p:nvSpPr>
              <p:spPr>
                <a:xfrm>
                  <a:off x="5442120" y="2057400"/>
                  <a:ext cx="34920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9" name=""/>
          <p:cNvGrpSpPr/>
          <p:nvPr/>
        </p:nvGrpSpPr>
        <p:grpSpPr>
          <a:xfrm>
            <a:off x="6111720" y="82440"/>
            <a:ext cx="3043440" cy="4203720"/>
            <a:chOff x="6111720" y="82440"/>
            <a:chExt cx="3043440" cy="4203720"/>
          </a:xfrm>
        </p:grpSpPr>
        <p:graphicFrame>
          <p:nvGraphicFramePr>
            <p:cNvPr id="710" name=""/>
            <p:cNvGraphicFramePr/>
            <p:nvPr/>
          </p:nvGraphicFramePr>
          <p:xfrm>
            <a:off x="6111720" y="609480"/>
            <a:ext cx="3032280" cy="3676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11720" y="609480"/>
                      <a:ext cx="3032280" cy="367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2" name=""/>
            <p:cNvSpPr/>
            <p:nvPr/>
          </p:nvSpPr>
          <p:spPr>
            <a:xfrm>
              <a:off x="6705720" y="838080"/>
              <a:ext cx="990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163560" y="82440"/>
              <a:ext cx="288108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ircuit with voltage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et to zero (SHORT CIRCUITE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4" name=""/>
                <p:cNvSpPr txBox="1"/>
                <p:nvPr/>
              </p:nvSpPr>
              <p:spPr>
                <a:xfrm>
                  <a:off x="8142120" y="1219320"/>
                  <a:ext cx="32400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5" name=""/>
                <p:cNvSpPr txBox="1"/>
                <p:nvPr/>
              </p:nvSpPr>
              <p:spPr>
                <a:xfrm>
                  <a:off x="8785080" y="1981080"/>
                  <a:ext cx="370080" cy="41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16" name=""/>
          <p:cNvGrpSpPr/>
          <p:nvPr/>
        </p:nvGrpSpPr>
        <p:grpSpPr>
          <a:xfrm>
            <a:off x="152280" y="235080"/>
            <a:ext cx="3261960" cy="3727440"/>
            <a:chOff x="152280" y="235080"/>
            <a:chExt cx="3261960" cy="3727440"/>
          </a:xfrm>
        </p:grpSpPr>
        <p:sp>
          <p:nvSpPr>
            <p:cNvPr id="717" name=""/>
            <p:cNvSpPr/>
            <p:nvPr/>
          </p:nvSpPr>
          <p:spPr>
            <a:xfrm>
              <a:off x="1040400" y="235080"/>
              <a:ext cx="237384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URCE SUPERPO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18" name=""/>
            <p:cNvGraphicFramePr/>
            <p:nvPr/>
          </p:nvGraphicFramePr>
          <p:xfrm>
            <a:off x="152280" y="762120"/>
            <a:ext cx="2562480" cy="3200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1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2280" y="762120"/>
                      <a:ext cx="2562480" cy="32004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720" name=""/>
            <p:cNvSpPr/>
            <p:nvPr/>
          </p:nvSpPr>
          <p:spPr>
            <a:xfrm>
              <a:off x="2759760" y="1987560"/>
              <a:ext cx="326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5906520" y="1905120"/>
            <a:ext cx="3546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99320" y="5492880"/>
            <a:ext cx="8222760" cy="52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approach will be useful if solving the two circuits is simpler, or more convenient, tha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ving a circuit with two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1299600" y="4502160"/>
            <a:ext cx="6949440" cy="708120"/>
            <a:chOff x="1299600" y="4502160"/>
            <a:chExt cx="6949440" cy="708120"/>
          </a:xfrm>
        </p:grpSpPr>
        <p:sp>
          <p:nvSpPr>
            <p:cNvPr id="724" name=""/>
            <p:cNvSpPr/>
            <p:nvPr/>
          </p:nvSpPr>
          <p:spPr>
            <a:xfrm>
              <a:off x="1299600" y="4502160"/>
              <a:ext cx="446472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ue to the linearity of the models we must ha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5" name=""/>
            <p:cNvGrpSpPr/>
            <p:nvPr/>
          </p:nvGrpSpPr>
          <p:grpSpPr>
            <a:xfrm>
              <a:off x="1752480" y="4800600"/>
              <a:ext cx="6496560" cy="409680"/>
              <a:chOff x="1752480" y="4800600"/>
              <a:chExt cx="6496560" cy="409680"/>
            </a:xfrm>
          </p:grpSpPr>
          <mc:AlternateContent>
            <mc:Choice xmlns:a14="http://schemas.microsoft.com/office/drawing/2010/main" Requires="a14">
              <p:sp>
                <p:nvSpPr>
                  <p:cNvPr id="726" name=""/>
                  <p:cNvSpPr txBox="1"/>
                  <p:nvPr/>
                </p:nvSpPr>
                <p:spPr>
                  <a:xfrm>
                    <a:off x="1752480" y="4800600"/>
                    <a:ext cx="3276720" cy="409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27" name=""/>
              <p:cNvSpPr/>
              <p:nvPr/>
            </p:nvSpPr>
            <p:spPr>
              <a:xfrm>
                <a:off x="5128560" y="4867200"/>
                <a:ext cx="3120480" cy="307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Principle of Source Superposi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8" name=""/>
          <p:cNvSpPr/>
          <p:nvPr/>
        </p:nvSpPr>
        <p:spPr>
          <a:xfrm>
            <a:off x="421200" y="6086520"/>
            <a:ext cx="828216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e can have any combination of sources. And we can partition any way we find conven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9" name="geaux" descr=""/>
          <p:cNvPicPr/>
          <p:nvPr/>
        </p:nvPicPr>
        <p:blipFill>
          <a:blip r:embed="rId7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730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2" name=""/>
          <p:cNvGraphicFramePr/>
          <p:nvPr/>
        </p:nvGraphicFramePr>
        <p:xfrm>
          <a:off x="0" y="4633920"/>
          <a:ext cx="4168800" cy="22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33920"/>
                    <a:ext cx="416880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4" name=""/>
          <p:cNvSpPr/>
          <p:nvPr/>
        </p:nvSpPr>
        <p:spPr>
          <a:xfrm>
            <a:off x="177480" y="58680"/>
            <a:ext cx="2907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SOURCE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152280" y="457200"/>
          <a:ext cx="4232520" cy="22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57200"/>
                    <a:ext cx="4232520" cy="22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7" name=""/>
          <p:cNvGraphicFramePr/>
          <p:nvPr/>
        </p:nvGraphicFramePr>
        <p:xfrm>
          <a:off x="0" y="2666880"/>
          <a:ext cx="4245120" cy="2059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666880"/>
                    <a:ext cx="4245120" cy="20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9" name=""/>
          <p:cNvSpPr/>
          <p:nvPr/>
        </p:nvSpPr>
        <p:spPr>
          <a:xfrm>
            <a:off x="3124080" y="2590920"/>
            <a:ext cx="1067040" cy="19810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0" y="2514600"/>
            <a:ext cx="1066680" cy="21337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1" name=""/>
          <p:cNvCxnSpPr>
            <a:stCxn id="740" idx="0"/>
          </p:cNvCxnSpPr>
          <p:nvPr/>
        </p:nvCxnSpPr>
        <p:spPr>
          <a:xfrm>
            <a:off x="533160" y="2502000"/>
            <a:ext cx="2580120" cy="317880"/>
          </a:xfrm>
          <a:prstGeom prst="straightConnector1">
            <a:avLst/>
          </a:prstGeom>
          <a:ln w="25560">
            <a:solidFill>
              <a:srgbClr val="3333cc"/>
            </a:solidFill>
            <a:miter/>
          </a:ln>
        </p:spPr>
      </p:cxnSp>
      <p:grpSp>
        <p:nvGrpSpPr>
          <p:cNvPr id="742" name=""/>
          <p:cNvGrpSpPr/>
          <p:nvPr/>
        </p:nvGrpSpPr>
        <p:grpSpPr>
          <a:xfrm>
            <a:off x="4114800" y="76320"/>
            <a:ext cx="3887640" cy="3200400"/>
            <a:chOff x="4114800" y="76320"/>
            <a:chExt cx="3887640" cy="3200400"/>
          </a:xfrm>
        </p:grpSpPr>
        <p:graphicFrame>
          <p:nvGraphicFramePr>
            <p:cNvPr id="743" name=""/>
            <p:cNvGraphicFramePr/>
            <p:nvPr/>
          </p:nvGraphicFramePr>
          <p:xfrm>
            <a:off x="4952880" y="76320"/>
            <a:ext cx="3049560" cy="1790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4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952880" y="76320"/>
                      <a:ext cx="3049560" cy="179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5" name=""/>
            <p:cNvSpPr/>
            <p:nvPr/>
          </p:nvSpPr>
          <p:spPr>
            <a:xfrm>
              <a:off x="4114800" y="381240"/>
              <a:ext cx="838080" cy="2895480"/>
            </a:xfrm>
            <a:custGeom>
              <a:avLst/>
              <a:gdLst/>
              <a:ahLst/>
              <a:rect l="l" t="t" r="r" b="b"/>
              <a:pathLst>
                <a:path w="528" h="1824">
                  <a:moveTo>
                    <a:pt x="0" y="1824"/>
                  </a:moveTo>
                  <a:cubicBezTo>
                    <a:pt x="220" y="1064"/>
                    <a:pt x="440" y="304"/>
                    <a:pt x="528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5105520" y="1841400"/>
                <a:ext cx="3568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7848720" y="1143000"/>
                <a:ext cx="12571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48" name=""/>
          <p:cNvGrpSpPr/>
          <p:nvPr/>
        </p:nvGrpSpPr>
        <p:grpSpPr>
          <a:xfrm>
            <a:off x="914400" y="4876920"/>
            <a:ext cx="3657600" cy="1752480"/>
            <a:chOff x="914400" y="4876920"/>
            <a:chExt cx="3657600" cy="1752480"/>
          </a:xfrm>
        </p:grpSpPr>
        <p:sp>
          <p:nvSpPr>
            <p:cNvPr id="749" name=""/>
            <p:cNvSpPr/>
            <p:nvPr/>
          </p:nvSpPr>
          <p:spPr>
            <a:xfrm>
              <a:off x="2209680" y="4876920"/>
              <a:ext cx="2362320" cy="1752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0" name=""/>
                <p:cNvSpPr txBox="1"/>
                <p:nvPr/>
              </p:nvSpPr>
              <p:spPr>
                <a:xfrm>
                  <a:off x="914400" y="5943600"/>
                  <a:ext cx="12700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rPr>
                          <m:lit/>
                          <m:nor/>
                        </m:rPr>
                        <m:t xml:space="preserve">=1 \lline  \lline  \( 1 - j \) } {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4406760" y="3505320"/>
                <a:ext cx="22226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= {  {Z rSup { size 8{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+1+j} } 6∠0° \( V \) } {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6718320" y="3505320"/>
                <a:ext cx="2197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= {  {Z rSup { size 8{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+1+j} } 6∠0° \( A \) } {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4508640" y="4343400"/>
                <a:ext cx="20444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 {  { {  {1 - j}  over  {2 - j} } }  over  { {  {1 - j}  over  {2 - j} } +1+j} } 6` \( A \)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6705720" y="4343400"/>
                <a:ext cx="1815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 {  {1 - j}  over  { \( 1 - j \) +3+j} } 6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6781680" y="5029200"/>
                <a:ext cx="14223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 {  {6}  over  {4} }  -  {  {6}  over  {4} } j \( A \)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5257800" y="5562720"/>
                <a:ext cx="2489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 left ( {  {5}  over  {2} }  -  {  {3}  over  {2} } j right ) \( A \)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57" name=""/>
          <p:cNvSpPr/>
          <p:nvPr/>
        </p:nvSpPr>
        <p:spPr>
          <a:xfrm>
            <a:off x="4867920" y="6248520"/>
            <a:ext cx="36068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: SOURCE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4419720" y="4292640"/>
            <a:ext cx="1485720" cy="536400"/>
            <a:chOff x="4419720" y="4292640"/>
            <a:chExt cx="1485720" cy="536400"/>
          </a:xfrm>
        </p:grpSpPr>
        <p:sp>
          <p:nvSpPr>
            <p:cNvPr id="759" name=""/>
            <p:cNvSpPr/>
            <p:nvPr/>
          </p:nvSpPr>
          <p:spPr>
            <a:xfrm>
              <a:off x="4478400" y="4292640"/>
              <a:ext cx="1427040" cy="536400"/>
            </a:xfrm>
            <a:custGeom>
              <a:avLst/>
              <a:gdLst/>
              <a:ahLst/>
              <a:rect l="l" t="t" r="r" b="b"/>
              <a:pathLst>
                <a:path w="899" h="338">
                  <a:moveTo>
                    <a:pt x="873" y="335"/>
                  </a:moveTo>
                  <a:cubicBezTo>
                    <a:pt x="875" y="327"/>
                    <a:pt x="899" y="247"/>
                    <a:pt x="896" y="234"/>
                  </a:cubicBezTo>
                  <a:cubicBezTo>
                    <a:pt x="882" y="177"/>
                    <a:pt x="869" y="117"/>
                    <a:pt x="834" y="70"/>
                  </a:cubicBezTo>
                  <a:cubicBezTo>
                    <a:pt x="816" y="46"/>
                    <a:pt x="776" y="50"/>
                    <a:pt x="748" y="39"/>
                  </a:cubicBezTo>
                  <a:cubicBezTo>
                    <a:pt x="668" y="8"/>
                    <a:pt x="577" y="6"/>
                    <a:pt x="491" y="0"/>
                  </a:cubicBezTo>
                  <a:cubicBezTo>
                    <a:pt x="434" y="38"/>
                    <a:pt x="434" y="96"/>
                    <a:pt x="413" y="156"/>
                  </a:cubicBezTo>
                  <a:cubicBezTo>
                    <a:pt x="416" y="211"/>
                    <a:pt x="403" y="268"/>
                    <a:pt x="421" y="320"/>
                  </a:cubicBezTo>
                  <a:cubicBezTo>
                    <a:pt x="427" y="338"/>
                    <a:pt x="494" y="335"/>
                    <a:pt x="475" y="335"/>
                  </a:cubicBezTo>
                  <a:cubicBezTo>
                    <a:pt x="454" y="335"/>
                    <a:pt x="434" y="325"/>
                    <a:pt x="413" y="320"/>
                  </a:cubicBezTo>
                  <a:cubicBezTo>
                    <a:pt x="362" y="278"/>
                    <a:pt x="265" y="198"/>
                    <a:pt x="203" y="172"/>
                  </a:cubicBezTo>
                  <a:cubicBezTo>
                    <a:pt x="161" y="154"/>
                    <a:pt x="70" y="140"/>
                    <a:pt x="70" y="140"/>
                  </a:cubicBezTo>
                  <a:cubicBezTo>
                    <a:pt x="45" y="124"/>
                    <a:pt x="30" y="117"/>
                    <a:pt x="0" y="11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0" name=""/>
                <p:cNvSpPr txBox="1"/>
                <p:nvPr/>
              </p:nvSpPr>
              <p:spPr>
                <a:xfrm>
                  <a:off x="4419720" y="4343400"/>
                  <a:ext cx="2905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rPr>
                          <m:lit/>
                          <m:nor/>
                        </m:rPr>
                        <m:t xml:space="preserve">} {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4800600" y="2590920"/>
                <a:ext cx="41274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ULD USE SOURCE TRANSFORMATION</m:t>
                        </m:r>
                      </m:e>
                      <m:e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O COMPUTE  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}  {} 
} } {</m:t>
                            </m:r>
                          </m:sup>
                        </m:sSub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62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6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975600" y="287280"/>
            <a:ext cx="7424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 transformation is a good tool to reduce complexity in a circuit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159720" y="668160"/>
            <a:ext cx="2870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IT CAN BE APPLIED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193680" y="4800600"/>
            <a:ext cx="8821800" cy="794520"/>
            <a:chOff x="193680" y="4800600"/>
            <a:chExt cx="8821800" cy="794520"/>
          </a:xfrm>
        </p:grpSpPr>
        <p:sp>
          <p:nvSpPr>
            <p:cNvPr id="768" name=""/>
            <p:cNvSpPr/>
            <p:nvPr/>
          </p:nvSpPr>
          <p:spPr>
            <a:xfrm>
              <a:off x="193680" y="4800600"/>
              <a:ext cx="8821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Transformationcan be used to determine the Thevenin or Norton Equivalent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447920" y="5257800"/>
              <a:ext cx="5867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UT THERE MAY BE MORE EFFICIENT TECHNIQU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1761840" y="1219320"/>
            <a:ext cx="6650280" cy="33732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deal sources” are not good models for real behavior of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755720" y="1625760"/>
            <a:ext cx="6311880" cy="3070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 real battery does not produce infinite current when short-circui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482760" y="2386080"/>
          <a:ext cx="3985920" cy="22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2386080"/>
                    <a:ext cx="398592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4572000" y="2690640"/>
                <a:ext cx="43308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 MODELS  ARE  EQUIVALENTS  WHEN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75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7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838080" y="2286000"/>
            <a:ext cx="838440" cy="762120"/>
            <a:chOff x="838080" y="2286000"/>
            <a:chExt cx="838440" cy="762120"/>
          </a:xfrm>
        </p:grpSpPr>
        <mc:AlternateContent>
          <mc:Choice xmlns:a14="http://schemas.microsoft.com/office/drawing/2010/main" Requires="a14">
            <p:sp>
              <p:nvSpPr>
                <p:cNvPr id="779" name=""/>
                <p:cNvSpPr txBox="1"/>
                <p:nvPr/>
              </p:nvSpPr>
              <p:spPr>
                <a:xfrm>
                  <a:off x="838080" y="2286000"/>
                  <a:ext cx="316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80" name=""/>
            <p:cNvSpPr/>
            <p:nvPr/>
          </p:nvSpPr>
          <p:spPr>
            <a:xfrm>
              <a:off x="914400" y="2590920"/>
              <a:ext cx="76212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3200400" y="2362320"/>
            <a:ext cx="290520" cy="914400"/>
            <a:chOff x="3200400" y="2362320"/>
            <a:chExt cx="290520" cy="914400"/>
          </a:xfrm>
        </p:grpSpPr>
        <mc:AlternateContent>
          <mc:Choice xmlns:a14="http://schemas.microsoft.com/office/drawing/2010/main" Requires="a14">
            <p:sp>
              <p:nvSpPr>
                <p:cNvPr id="782" name=""/>
                <p:cNvSpPr txBox="1"/>
                <p:nvPr/>
              </p:nvSpPr>
              <p:spPr>
                <a:xfrm>
                  <a:off x="3200400" y="2362320"/>
                  <a:ext cx="2905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83" name=""/>
            <p:cNvSpPr/>
            <p:nvPr/>
          </p:nvSpPr>
          <p:spPr>
            <a:xfrm flipV="1">
              <a:off x="3352680" y="2666880"/>
              <a:ext cx="0" cy="6098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4552920" y="3006720"/>
            <a:ext cx="2603160" cy="689040"/>
            <a:chOff x="4552920" y="3006720"/>
            <a:chExt cx="2603160" cy="689040"/>
          </a:xfrm>
        </p:grpSpPr>
        <mc:AlternateContent>
          <mc:Choice xmlns:a14="http://schemas.microsoft.com/office/drawing/2010/main" Requires="a14">
            <p:sp>
              <p:nvSpPr>
                <p:cNvPr id="785" name=""/>
                <p:cNvSpPr txBox="1"/>
                <p:nvPr/>
              </p:nvSpPr>
              <p:spPr>
                <a:xfrm>
                  <a:off x="6324120" y="3048120"/>
                  <a:ext cx="8319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Z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Z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86" name=""/>
            <p:cNvSpPr/>
            <p:nvPr/>
          </p:nvSpPr>
          <p:spPr>
            <a:xfrm>
              <a:off x="4552920" y="3006720"/>
              <a:ext cx="1731960" cy="619200"/>
            </a:xfrm>
            <a:custGeom>
              <a:avLst/>
              <a:gdLst/>
              <a:ahLst/>
              <a:rect l="l" t="t" r="r" b="b"/>
              <a:pathLst>
                <a:path w="1091" h="390">
                  <a:moveTo>
                    <a:pt x="0" y="0"/>
                  </a:moveTo>
                  <a:cubicBezTo>
                    <a:pt x="34" y="16"/>
                    <a:pt x="49" y="32"/>
                    <a:pt x="70" y="62"/>
                  </a:cubicBezTo>
                  <a:cubicBezTo>
                    <a:pt x="93" y="145"/>
                    <a:pt x="116" y="224"/>
                    <a:pt x="148" y="304"/>
                  </a:cubicBezTo>
                  <a:cubicBezTo>
                    <a:pt x="167" y="353"/>
                    <a:pt x="163" y="366"/>
                    <a:pt x="210" y="389"/>
                  </a:cubicBezTo>
                  <a:cubicBezTo>
                    <a:pt x="252" y="387"/>
                    <a:pt x="294" y="390"/>
                    <a:pt x="335" y="382"/>
                  </a:cubicBezTo>
                  <a:cubicBezTo>
                    <a:pt x="367" y="376"/>
                    <a:pt x="374" y="334"/>
                    <a:pt x="389" y="311"/>
                  </a:cubicBezTo>
                  <a:cubicBezTo>
                    <a:pt x="413" y="274"/>
                    <a:pt x="456" y="223"/>
                    <a:pt x="467" y="179"/>
                  </a:cubicBezTo>
                  <a:cubicBezTo>
                    <a:pt x="474" y="153"/>
                    <a:pt x="472" y="125"/>
                    <a:pt x="483" y="101"/>
                  </a:cubicBezTo>
                  <a:cubicBezTo>
                    <a:pt x="495" y="73"/>
                    <a:pt x="536" y="62"/>
                    <a:pt x="561" y="54"/>
                  </a:cubicBezTo>
                  <a:cubicBezTo>
                    <a:pt x="587" y="57"/>
                    <a:pt x="619" y="45"/>
                    <a:pt x="639" y="62"/>
                  </a:cubicBezTo>
                  <a:cubicBezTo>
                    <a:pt x="655" y="75"/>
                    <a:pt x="643" y="103"/>
                    <a:pt x="646" y="124"/>
                  </a:cubicBezTo>
                  <a:cubicBezTo>
                    <a:pt x="662" y="235"/>
                    <a:pt x="655" y="248"/>
                    <a:pt x="763" y="272"/>
                  </a:cubicBezTo>
                  <a:cubicBezTo>
                    <a:pt x="841" y="270"/>
                    <a:pt x="919" y="271"/>
                    <a:pt x="997" y="265"/>
                  </a:cubicBezTo>
                  <a:cubicBezTo>
                    <a:pt x="1033" y="262"/>
                    <a:pt x="1055" y="241"/>
                    <a:pt x="1091" y="24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200160" y="135000"/>
            <a:ext cx="3192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SOURCE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8" name=""/>
          <p:cNvGraphicFramePr/>
          <p:nvPr/>
        </p:nvGraphicFramePr>
        <p:xfrm>
          <a:off x="152280" y="533520"/>
          <a:ext cx="4232520" cy="22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4232520" cy="22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0" name=""/>
          <p:cNvSpPr/>
          <p:nvPr/>
        </p:nvSpPr>
        <p:spPr>
          <a:xfrm>
            <a:off x="0" y="685800"/>
            <a:ext cx="1905120" cy="18288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1" name=""/>
          <p:cNvGraphicFramePr/>
          <p:nvPr/>
        </p:nvGraphicFramePr>
        <p:xfrm>
          <a:off x="7920" y="2690640"/>
          <a:ext cx="5935680" cy="188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0" y="2690640"/>
                    <a:ext cx="5935680" cy="18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3" name=""/>
          <p:cNvSpPr/>
          <p:nvPr/>
        </p:nvSpPr>
        <p:spPr>
          <a:xfrm>
            <a:off x="6480" y="3154320"/>
            <a:ext cx="1670040" cy="854280"/>
          </a:xfrm>
          <a:custGeom>
            <a:avLst/>
            <a:gdLst/>
            <a:ahLst/>
            <a:rect l="l" t="t" r="r" b="b"/>
            <a:pathLst>
              <a:path w="1052" h="538">
                <a:moveTo>
                  <a:pt x="19" y="0"/>
                </a:moveTo>
                <a:cubicBezTo>
                  <a:pt x="216" y="131"/>
                  <a:pt x="502" y="96"/>
                  <a:pt x="721" y="102"/>
                </a:cubicBezTo>
                <a:cubicBezTo>
                  <a:pt x="806" y="112"/>
                  <a:pt x="863" y="143"/>
                  <a:pt x="939" y="156"/>
                </a:cubicBezTo>
                <a:cubicBezTo>
                  <a:pt x="989" y="206"/>
                  <a:pt x="1012" y="178"/>
                  <a:pt x="1048" y="250"/>
                </a:cubicBezTo>
                <a:cubicBezTo>
                  <a:pt x="1045" y="284"/>
                  <a:pt x="1052" y="319"/>
                  <a:pt x="1040" y="351"/>
                </a:cubicBezTo>
                <a:cubicBezTo>
                  <a:pt x="1023" y="397"/>
                  <a:pt x="956" y="422"/>
                  <a:pt x="916" y="429"/>
                </a:cubicBezTo>
                <a:cubicBezTo>
                  <a:pt x="758" y="487"/>
                  <a:pt x="597" y="510"/>
                  <a:pt x="432" y="538"/>
                </a:cubicBezTo>
                <a:cubicBezTo>
                  <a:pt x="297" y="535"/>
                  <a:pt x="162" y="537"/>
                  <a:pt x="27" y="530"/>
                </a:cubicBezTo>
                <a:cubicBezTo>
                  <a:pt x="0" y="529"/>
                  <a:pt x="4" y="515"/>
                  <a:pt x="4" y="499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1676520" y="2573280"/>
            <a:ext cx="2117520" cy="1425600"/>
            <a:chOff x="1676520" y="2573280"/>
            <a:chExt cx="2117520" cy="1425600"/>
          </a:xfrm>
        </p:grpSpPr>
        <p:sp>
          <p:nvSpPr>
            <p:cNvPr id="795" name=""/>
            <p:cNvSpPr/>
            <p:nvPr/>
          </p:nvSpPr>
          <p:spPr>
            <a:xfrm>
              <a:off x="1731960" y="2573280"/>
              <a:ext cx="2062080" cy="1125720"/>
            </a:xfrm>
            <a:custGeom>
              <a:avLst/>
              <a:gdLst/>
              <a:ahLst/>
              <a:rect l="l" t="t" r="r" b="b"/>
              <a:pathLst>
                <a:path w="1299" h="709">
                  <a:moveTo>
                    <a:pt x="693" y="483"/>
                  </a:moveTo>
                  <a:cubicBezTo>
                    <a:pt x="700" y="640"/>
                    <a:pt x="656" y="684"/>
                    <a:pt x="779" y="709"/>
                  </a:cubicBezTo>
                  <a:cubicBezTo>
                    <a:pt x="937" y="704"/>
                    <a:pt x="990" y="704"/>
                    <a:pt x="1114" y="686"/>
                  </a:cubicBezTo>
                  <a:cubicBezTo>
                    <a:pt x="1124" y="681"/>
                    <a:pt x="1134" y="673"/>
                    <a:pt x="1145" y="670"/>
                  </a:cubicBezTo>
                  <a:cubicBezTo>
                    <a:pt x="1160" y="665"/>
                    <a:pt x="1178" y="670"/>
                    <a:pt x="1192" y="662"/>
                  </a:cubicBezTo>
                  <a:cubicBezTo>
                    <a:pt x="1214" y="650"/>
                    <a:pt x="1236" y="598"/>
                    <a:pt x="1247" y="577"/>
                  </a:cubicBezTo>
                  <a:cubicBezTo>
                    <a:pt x="1277" y="453"/>
                    <a:pt x="1299" y="312"/>
                    <a:pt x="1239" y="195"/>
                  </a:cubicBezTo>
                  <a:cubicBezTo>
                    <a:pt x="1231" y="147"/>
                    <a:pt x="1237" y="41"/>
                    <a:pt x="1177" y="16"/>
                  </a:cubicBezTo>
                  <a:cubicBezTo>
                    <a:pt x="1159" y="9"/>
                    <a:pt x="1140" y="6"/>
                    <a:pt x="1122" y="0"/>
                  </a:cubicBezTo>
                  <a:cubicBezTo>
                    <a:pt x="1078" y="3"/>
                    <a:pt x="1034" y="4"/>
                    <a:pt x="990" y="8"/>
                  </a:cubicBezTo>
                  <a:cubicBezTo>
                    <a:pt x="943" y="12"/>
                    <a:pt x="849" y="23"/>
                    <a:pt x="849" y="23"/>
                  </a:cubicBezTo>
                  <a:cubicBezTo>
                    <a:pt x="785" y="45"/>
                    <a:pt x="719" y="56"/>
                    <a:pt x="655" y="78"/>
                  </a:cubicBezTo>
                  <a:cubicBezTo>
                    <a:pt x="586" y="145"/>
                    <a:pt x="617" y="164"/>
                    <a:pt x="608" y="288"/>
                  </a:cubicBezTo>
                  <a:cubicBezTo>
                    <a:pt x="604" y="347"/>
                    <a:pt x="581" y="403"/>
                    <a:pt x="569" y="460"/>
                  </a:cubicBezTo>
                  <a:cubicBezTo>
                    <a:pt x="555" y="527"/>
                    <a:pt x="546" y="573"/>
                    <a:pt x="475" y="600"/>
                  </a:cubicBezTo>
                  <a:cubicBezTo>
                    <a:pt x="419" y="622"/>
                    <a:pt x="347" y="623"/>
                    <a:pt x="288" y="631"/>
                  </a:cubicBezTo>
                  <a:cubicBezTo>
                    <a:pt x="222" y="648"/>
                    <a:pt x="153" y="644"/>
                    <a:pt x="86" y="662"/>
                  </a:cubicBezTo>
                  <a:cubicBezTo>
                    <a:pt x="52" y="671"/>
                    <a:pt x="31" y="693"/>
                    <a:pt x="0" y="67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6" name=""/>
                <p:cNvSpPr txBox="1"/>
                <p:nvPr/>
              </p:nvSpPr>
              <p:spPr>
                <a:xfrm>
                  <a:off x="1676520" y="3733920"/>
                  <a:ext cx="9777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'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797" name=""/>
          <p:cNvGraphicFramePr/>
          <p:nvPr/>
        </p:nvGraphicFramePr>
        <p:xfrm>
          <a:off x="4648320" y="76320"/>
          <a:ext cx="4473360" cy="2639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76320"/>
                    <a:ext cx="4473360" cy="26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5016600" y="1371600"/>
                <a:ext cx="1079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00" name=""/>
          <p:cNvGrpSpPr/>
          <p:nvPr/>
        </p:nvGrpSpPr>
        <p:grpSpPr>
          <a:xfrm>
            <a:off x="5867280" y="-95400"/>
            <a:ext cx="3225960" cy="3238560"/>
            <a:chOff x="5867280" y="-95400"/>
            <a:chExt cx="3225960" cy="3238560"/>
          </a:xfrm>
        </p:grpSpPr>
        <p:sp>
          <p:nvSpPr>
            <p:cNvPr id="801" name=""/>
            <p:cNvSpPr/>
            <p:nvPr/>
          </p:nvSpPr>
          <p:spPr>
            <a:xfrm>
              <a:off x="5867280" y="0"/>
              <a:ext cx="990720" cy="2666880"/>
            </a:xfrm>
            <a:custGeom>
              <a:avLst/>
              <a:gdLst/>
              <a:ahLst/>
              <a:rect l="l" t="t" r="r" b="b"/>
              <a:pathLst>
                <a:path w="624" h="1680">
                  <a:moveTo>
                    <a:pt x="48" y="768"/>
                  </a:moveTo>
                  <a:lnTo>
                    <a:pt x="96" y="0"/>
                  </a:lnTo>
                  <a:lnTo>
                    <a:pt x="576" y="48"/>
                  </a:lnTo>
                  <a:lnTo>
                    <a:pt x="624" y="1632"/>
                  </a:lnTo>
                  <a:lnTo>
                    <a:pt x="0" y="1680"/>
                  </a:lnTo>
                  <a:lnTo>
                    <a:pt x="0" y="1536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966080" y="-95400"/>
              <a:ext cx="1127160" cy="2743200"/>
            </a:xfrm>
            <a:custGeom>
              <a:avLst/>
              <a:gdLst/>
              <a:ahLst/>
              <a:rect l="l" t="t" r="r" b="b"/>
              <a:pathLst>
                <a:path w="710" h="1728">
                  <a:moveTo>
                    <a:pt x="678" y="107"/>
                  </a:moveTo>
                  <a:cubicBezTo>
                    <a:pt x="618" y="65"/>
                    <a:pt x="530" y="67"/>
                    <a:pt x="460" y="60"/>
                  </a:cubicBezTo>
                  <a:cubicBezTo>
                    <a:pt x="324" y="64"/>
                    <a:pt x="196" y="0"/>
                    <a:pt x="125" y="107"/>
                  </a:cubicBezTo>
                  <a:cubicBezTo>
                    <a:pt x="67" y="289"/>
                    <a:pt x="79" y="488"/>
                    <a:pt x="47" y="676"/>
                  </a:cubicBezTo>
                  <a:cubicBezTo>
                    <a:pt x="39" y="837"/>
                    <a:pt x="26" y="998"/>
                    <a:pt x="16" y="1159"/>
                  </a:cubicBezTo>
                  <a:cubicBezTo>
                    <a:pt x="10" y="1342"/>
                    <a:pt x="0" y="1498"/>
                    <a:pt x="16" y="1681"/>
                  </a:cubicBezTo>
                  <a:cubicBezTo>
                    <a:pt x="20" y="1725"/>
                    <a:pt x="141" y="1728"/>
                    <a:pt x="141" y="1728"/>
                  </a:cubicBezTo>
                  <a:cubicBezTo>
                    <a:pt x="443" y="1722"/>
                    <a:pt x="423" y="1725"/>
                    <a:pt x="608" y="1697"/>
                  </a:cubicBezTo>
                  <a:cubicBezTo>
                    <a:pt x="636" y="1655"/>
                    <a:pt x="617" y="1680"/>
                    <a:pt x="671" y="1626"/>
                  </a:cubicBezTo>
                  <a:cubicBezTo>
                    <a:pt x="704" y="1593"/>
                    <a:pt x="710" y="1538"/>
                    <a:pt x="710" y="149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593040" y="2585880"/>
              <a:ext cx="1757160" cy="557280"/>
            </a:xfrm>
            <a:custGeom>
              <a:avLst/>
              <a:gdLst/>
              <a:ahLst/>
              <a:rect l="l" t="t" r="r" b="b"/>
              <a:pathLst>
                <a:path w="1107" h="351">
                  <a:moveTo>
                    <a:pt x="0" y="0"/>
                  </a:moveTo>
                  <a:cubicBezTo>
                    <a:pt x="17" y="97"/>
                    <a:pt x="119" y="150"/>
                    <a:pt x="203" y="187"/>
                  </a:cubicBezTo>
                  <a:cubicBezTo>
                    <a:pt x="262" y="213"/>
                    <a:pt x="312" y="262"/>
                    <a:pt x="374" y="280"/>
                  </a:cubicBezTo>
                  <a:cubicBezTo>
                    <a:pt x="423" y="294"/>
                    <a:pt x="552" y="310"/>
                    <a:pt x="624" y="319"/>
                  </a:cubicBezTo>
                  <a:cubicBezTo>
                    <a:pt x="715" y="351"/>
                    <a:pt x="814" y="321"/>
                    <a:pt x="904" y="296"/>
                  </a:cubicBezTo>
                  <a:cubicBezTo>
                    <a:pt x="915" y="288"/>
                    <a:pt x="924" y="278"/>
                    <a:pt x="936" y="273"/>
                  </a:cubicBezTo>
                  <a:cubicBezTo>
                    <a:pt x="953" y="265"/>
                    <a:pt x="974" y="266"/>
                    <a:pt x="990" y="257"/>
                  </a:cubicBezTo>
                  <a:cubicBezTo>
                    <a:pt x="998" y="252"/>
                    <a:pt x="1000" y="241"/>
                    <a:pt x="1006" y="234"/>
                  </a:cubicBezTo>
                  <a:cubicBezTo>
                    <a:pt x="1098" y="131"/>
                    <a:pt x="1017" y="232"/>
                    <a:pt x="1076" y="156"/>
                  </a:cubicBezTo>
                  <a:cubicBezTo>
                    <a:pt x="1090" y="115"/>
                    <a:pt x="1107" y="85"/>
                    <a:pt x="1107" y="3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6267600" y="3137040"/>
                <a:ext cx="21841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5" name=""/>
              <p:cNvSpPr txBox="1"/>
              <p:nvPr/>
            </p:nvSpPr>
            <p:spPr>
              <a:xfrm>
                <a:off x="5486400" y="5943600"/>
                <a:ext cx="1600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6" name=""/>
          <p:cNvSpPr/>
          <p:nvPr/>
        </p:nvSpPr>
        <p:spPr>
          <a:xfrm>
            <a:off x="193680" y="4692600"/>
            <a:ext cx="4327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w a voltage to current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7" name=""/>
              <p:cNvSpPr txBox="1"/>
              <p:nvPr/>
            </p:nvSpPr>
            <p:spPr>
              <a:xfrm>
                <a:off x="7086600" y="5943600"/>
                <a:ext cx="1981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808" name=""/>
          <p:cNvGraphicFramePr/>
          <p:nvPr/>
        </p:nvGraphicFramePr>
        <p:xfrm>
          <a:off x="5029200" y="4267080"/>
          <a:ext cx="4041720" cy="1486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29200" y="4267080"/>
                    <a:ext cx="404172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0" name=""/>
          <p:cNvSpPr/>
          <p:nvPr/>
        </p:nvSpPr>
        <p:spPr>
          <a:xfrm>
            <a:off x="925560" y="5392800"/>
            <a:ext cx="18601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: 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1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1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15" name="">
            <a:hlinkClick r:id="" action="ppaction://hlinkshowjump?jump=nextslide"/>
          </p:cNvPr>
          <p:cNvSpPr/>
          <p:nvPr/>
        </p:nvSpPr>
        <p:spPr>
          <a:xfrm>
            <a:off x="464832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7" name=""/>
          <p:cNvGraphicFramePr/>
          <p:nvPr/>
        </p:nvGraphicFramePr>
        <p:xfrm>
          <a:off x="1219320" y="685800"/>
          <a:ext cx="6019560" cy="222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685800"/>
                    <a:ext cx="601956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9" name=""/>
          <p:cNvSpPr/>
          <p:nvPr/>
        </p:nvSpPr>
        <p:spPr>
          <a:xfrm>
            <a:off x="1484280" y="33480"/>
            <a:ext cx="574632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VENIN’S EQUIVALENCE THEO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1219320" y="3200400"/>
            <a:ext cx="6019560" cy="2841480"/>
            <a:chOff x="1219320" y="3200400"/>
            <a:chExt cx="6019560" cy="2841480"/>
          </a:xfrm>
        </p:grpSpPr>
        <p:graphicFrame>
          <p:nvGraphicFramePr>
            <p:cNvPr id="821" name=""/>
            <p:cNvGraphicFramePr/>
            <p:nvPr/>
          </p:nvGraphicFramePr>
          <p:xfrm>
            <a:off x="1219320" y="3200400"/>
            <a:ext cx="6019560" cy="22240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2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219320" y="3200400"/>
                      <a:ext cx="6019560" cy="22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23" name=""/>
            <p:cNvSpPr/>
            <p:nvPr/>
          </p:nvSpPr>
          <p:spPr>
            <a:xfrm>
              <a:off x="1234080" y="5334120"/>
              <a:ext cx="3022920" cy="707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hevenin Equivalent Circu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or PART 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228600" y="6134040"/>
                <a:ext cx="3873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Thevenin Equivalent Source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Thevenin Equivalent Resistan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25" name=""/>
          <p:cNvGrpSpPr/>
          <p:nvPr/>
        </p:nvGrpSpPr>
        <p:grpSpPr>
          <a:xfrm>
            <a:off x="228600" y="3276720"/>
            <a:ext cx="5638680" cy="3554280"/>
            <a:chOff x="228600" y="3276720"/>
            <a:chExt cx="5638680" cy="3554280"/>
          </a:xfrm>
        </p:grpSpPr>
        <p:grpSp>
          <p:nvGrpSpPr>
            <p:cNvPr id="826" name=""/>
            <p:cNvGrpSpPr/>
            <p:nvPr/>
          </p:nvGrpSpPr>
          <p:grpSpPr>
            <a:xfrm>
              <a:off x="3048120" y="6095880"/>
              <a:ext cx="2819160" cy="609840"/>
              <a:chOff x="3048120" y="6095880"/>
              <a:chExt cx="2819160" cy="609840"/>
            </a:xfrm>
          </p:grpSpPr>
          <p:sp>
            <p:nvSpPr>
              <p:cNvPr id="827" name=""/>
              <p:cNvSpPr/>
              <p:nvPr/>
            </p:nvSpPr>
            <p:spPr>
              <a:xfrm flipV="1">
                <a:off x="3048120" y="6172200"/>
                <a:ext cx="1676160" cy="53352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28" name=""/>
                  <p:cNvSpPr txBox="1"/>
                  <p:nvPr/>
                </p:nvSpPr>
                <p:spPr>
                  <a:xfrm>
                    <a:off x="4699080" y="6095880"/>
                    <a:ext cx="1168200" cy="279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Impedance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829" name=""/>
            <p:cNvGrpSpPr/>
            <p:nvPr/>
          </p:nvGrpSpPr>
          <p:grpSpPr>
            <a:xfrm>
              <a:off x="228600" y="3276720"/>
              <a:ext cx="2685960" cy="3554280"/>
              <a:chOff x="228600" y="3276720"/>
              <a:chExt cx="2685960" cy="3554280"/>
            </a:xfrm>
          </p:grpSpPr>
          <p:grpSp>
            <p:nvGrpSpPr>
              <p:cNvPr id="830" name=""/>
              <p:cNvGrpSpPr/>
              <p:nvPr/>
            </p:nvGrpSpPr>
            <p:grpSpPr>
              <a:xfrm>
                <a:off x="1390680" y="3276720"/>
                <a:ext cx="1523880" cy="290520"/>
                <a:chOff x="1390680" y="3276720"/>
                <a:chExt cx="1523880" cy="29052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831" name=""/>
                    <p:cNvSpPr txBox="1"/>
                    <p:nvPr/>
                  </p:nvSpPr>
                  <p:spPr>
                    <a:xfrm>
                      <a:off x="1390680" y="3276720"/>
                      <a:ext cx="43020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832" name=""/>
                <p:cNvSpPr/>
                <p:nvPr/>
              </p:nvSpPr>
              <p:spPr>
                <a:xfrm>
                  <a:off x="1847880" y="3352680"/>
                  <a:ext cx="1066680" cy="177840"/>
                </a:xfrm>
                <a:custGeom>
                  <a:avLst/>
                  <a:gdLst/>
                  <a:ahLst/>
                  <a:rect l="l" t="t" r="r" b="b"/>
                  <a:pathLst>
                    <a:path w="672" h="112">
                      <a:moveTo>
                        <a:pt x="672" y="48"/>
                      </a:moveTo>
                      <a:cubicBezTo>
                        <a:pt x="484" y="68"/>
                        <a:pt x="296" y="88"/>
                        <a:pt x="192" y="96"/>
                      </a:cubicBezTo>
                      <a:cubicBezTo>
                        <a:pt x="88" y="104"/>
                        <a:pt x="80" y="112"/>
                        <a:pt x="48" y="96"/>
                      </a:cubicBezTo>
                      <a:cubicBezTo>
                        <a:pt x="16" y="80"/>
                        <a:pt x="8" y="40"/>
                        <a:pt x="0" y="0"/>
                      </a:cubicBezTo>
                    </a:path>
                  </a:pathLst>
                </a:custGeom>
                <a:noFill/>
                <a:ln w="255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3" name=""/>
              <p:cNvSpPr/>
              <p:nvPr/>
            </p:nvSpPr>
            <p:spPr>
              <a:xfrm>
                <a:off x="228600" y="3378240"/>
                <a:ext cx="1138320" cy="3452760"/>
              </a:xfrm>
              <a:custGeom>
                <a:avLst/>
                <a:gdLst/>
                <a:ahLst/>
                <a:rect l="l" t="t" r="r" b="b"/>
                <a:pathLst>
                  <a:path w="717" h="2175">
                    <a:moveTo>
                      <a:pt x="304" y="2034"/>
                    </a:moveTo>
                    <a:cubicBezTo>
                      <a:pt x="282" y="1960"/>
                      <a:pt x="132" y="1956"/>
                      <a:pt x="71" y="1948"/>
                    </a:cubicBezTo>
                    <a:cubicBezTo>
                      <a:pt x="50" y="1953"/>
                      <a:pt x="27" y="1953"/>
                      <a:pt x="8" y="1963"/>
                    </a:cubicBezTo>
                    <a:cubicBezTo>
                      <a:pt x="1" y="1967"/>
                      <a:pt x="0" y="1979"/>
                      <a:pt x="0" y="1987"/>
                    </a:cubicBezTo>
                    <a:cubicBezTo>
                      <a:pt x="0" y="2016"/>
                      <a:pt x="2" y="2045"/>
                      <a:pt x="8" y="2073"/>
                    </a:cubicBezTo>
                    <a:cubicBezTo>
                      <a:pt x="18" y="2120"/>
                      <a:pt x="90" y="2135"/>
                      <a:pt x="125" y="2158"/>
                    </a:cubicBezTo>
                    <a:cubicBezTo>
                      <a:pt x="234" y="2152"/>
                      <a:pt x="272" y="2175"/>
                      <a:pt x="336" y="2111"/>
                    </a:cubicBezTo>
                    <a:cubicBezTo>
                      <a:pt x="340" y="2086"/>
                      <a:pt x="344" y="2039"/>
                      <a:pt x="359" y="2018"/>
                    </a:cubicBezTo>
                    <a:cubicBezTo>
                      <a:pt x="375" y="1995"/>
                      <a:pt x="380" y="1991"/>
                      <a:pt x="390" y="1963"/>
                    </a:cubicBezTo>
                    <a:cubicBezTo>
                      <a:pt x="414" y="1898"/>
                      <a:pt x="421" y="1830"/>
                      <a:pt x="429" y="1761"/>
                    </a:cubicBezTo>
                    <a:cubicBezTo>
                      <a:pt x="432" y="1680"/>
                      <a:pt x="421" y="1561"/>
                      <a:pt x="460" y="1480"/>
                    </a:cubicBezTo>
                    <a:cubicBezTo>
                      <a:pt x="466" y="1445"/>
                      <a:pt x="472" y="1413"/>
                      <a:pt x="484" y="1379"/>
                    </a:cubicBezTo>
                    <a:cubicBezTo>
                      <a:pt x="515" y="1108"/>
                      <a:pt x="503" y="885"/>
                      <a:pt x="507" y="584"/>
                    </a:cubicBezTo>
                    <a:cubicBezTo>
                      <a:pt x="509" y="410"/>
                      <a:pt x="450" y="223"/>
                      <a:pt x="515" y="62"/>
                    </a:cubicBezTo>
                    <a:cubicBezTo>
                      <a:pt x="540" y="0"/>
                      <a:pt x="650" y="62"/>
                      <a:pt x="717" y="62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4" name=""/>
          <p:cNvGrpSpPr/>
          <p:nvPr/>
        </p:nvGrpSpPr>
        <p:grpSpPr>
          <a:xfrm>
            <a:off x="46080" y="828720"/>
            <a:ext cx="4335480" cy="5678280"/>
            <a:chOff x="46080" y="828720"/>
            <a:chExt cx="4335480" cy="5678280"/>
          </a:xfrm>
        </p:grpSpPr>
        <p:grpSp>
          <p:nvGrpSpPr>
            <p:cNvPr id="835" name=""/>
            <p:cNvGrpSpPr/>
            <p:nvPr/>
          </p:nvGrpSpPr>
          <p:grpSpPr>
            <a:xfrm>
              <a:off x="76320" y="5562720"/>
              <a:ext cx="723960" cy="944280"/>
              <a:chOff x="76320" y="5562720"/>
              <a:chExt cx="723960" cy="944280"/>
            </a:xfrm>
          </p:grpSpPr>
          <p:sp>
            <p:nvSpPr>
              <p:cNvPr id="836" name=""/>
              <p:cNvSpPr/>
              <p:nvPr/>
            </p:nvSpPr>
            <p:spPr>
              <a:xfrm>
                <a:off x="76320" y="5864400"/>
                <a:ext cx="615960" cy="642600"/>
              </a:xfrm>
              <a:custGeom>
                <a:avLst/>
                <a:gdLst/>
                <a:ahLst/>
                <a:rect l="l" t="t" r="r" b="b"/>
                <a:pathLst>
                  <a:path w="388" h="405">
                    <a:moveTo>
                      <a:pt x="0" y="0"/>
                    </a:moveTo>
                    <a:cubicBezTo>
                      <a:pt x="8" y="93"/>
                      <a:pt x="25" y="169"/>
                      <a:pt x="54" y="257"/>
                    </a:cubicBezTo>
                    <a:cubicBezTo>
                      <a:pt x="55" y="260"/>
                      <a:pt x="71" y="319"/>
                      <a:pt x="85" y="327"/>
                    </a:cubicBezTo>
                    <a:cubicBezTo>
                      <a:pt x="102" y="336"/>
                      <a:pt x="122" y="338"/>
                      <a:pt x="140" y="343"/>
                    </a:cubicBezTo>
                    <a:cubicBezTo>
                      <a:pt x="161" y="359"/>
                      <a:pt x="178" y="380"/>
                      <a:pt x="202" y="390"/>
                    </a:cubicBezTo>
                    <a:cubicBezTo>
                      <a:pt x="229" y="402"/>
                      <a:pt x="261" y="395"/>
                      <a:pt x="288" y="405"/>
                    </a:cubicBezTo>
                    <a:cubicBezTo>
                      <a:pt x="388" y="392"/>
                      <a:pt x="357" y="381"/>
                      <a:pt x="366" y="265"/>
                    </a:cubicBezTo>
                    <a:cubicBezTo>
                      <a:pt x="363" y="218"/>
                      <a:pt x="367" y="171"/>
                      <a:pt x="358" y="125"/>
                    </a:cubicBezTo>
                    <a:cubicBezTo>
                      <a:pt x="354" y="105"/>
                      <a:pt x="290" y="101"/>
                      <a:pt x="288" y="101"/>
                    </a:cubicBezTo>
                    <a:cubicBezTo>
                      <a:pt x="228" y="85"/>
                      <a:pt x="169" y="64"/>
                      <a:pt x="109" y="47"/>
                    </a:cubicBezTo>
                    <a:cubicBezTo>
                      <a:pt x="71" y="17"/>
                      <a:pt x="48" y="14"/>
                      <a:pt x="0" y="0"/>
                    </a:cubicBezTo>
                    <a:close/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37" name=""/>
                  <p:cNvSpPr txBox="1"/>
                  <p:nvPr/>
                </p:nvSpPr>
                <p:spPr>
                  <a:xfrm>
                    <a:off x="78120" y="5562720"/>
                    <a:ext cx="722160" cy="239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Phasor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838" name=""/>
            <p:cNvSpPr/>
            <p:nvPr/>
          </p:nvSpPr>
          <p:spPr>
            <a:xfrm>
              <a:off x="3733920" y="1447920"/>
              <a:ext cx="457200" cy="6858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733920" y="3962520"/>
              <a:ext cx="380880" cy="609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986280" y="2127240"/>
              <a:ext cx="158760" cy="1893960"/>
            </a:xfrm>
            <a:custGeom>
              <a:avLst/>
              <a:gdLst/>
              <a:ahLst/>
              <a:rect l="l" t="t" r="r" b="b"/>
              <a:pathLst>
                <a:path w="100" h="1193">
                  <a:moveTo>
                    <a:pt x="100" y="0"/>
                  </a:moveTo>
                  <a:cubicBezTo>
                    <a:pt x="94" y="133"/>
                    <a:pt x="82" y="300"/>
                    <a:pt x="37" y="429"/>
                  </a:cubicBezTo>
                  <a:cubicBezTo>
                    <a:pt x="29" y="494"/>
                    <a:pt x="25" y="559"/>
                    <a:pt x="14" y="624"/>
                  </a:cubicBezTo>
                  <a:cubicBezTo>
                    <a:pt x="15" y="657"/>
                    <a:pt x="0" y="961"/>
                    <a:pt x="37" y="1068"/>
                  </a:cubicBezTo>
                  <a:cubicBezTo>
                    <a:pt x="40" y="1084"/>
                    <a:pt x="37" y="1101"/>
                    <a:pt x="45" y="1115"/>
                  </a:cubicBezTo>
                  <a:cubicBezTo>
                    <a:pt x="49" y="1122"/>
                    <a:pt x="65" y="1115"/>
                    <a:pt x="68" y="1123"/>
                  </a:cubicBezTo>
                  <a:cubicBezTo>
                    <a:pt x="72" y="1133"/>
                    <a:pt x="55" y="1145"/>
                    <a:pt x="61" y="1154"/>
                  </a:cubicBezTo>
                  <a:cubicBezTo>
                    <a:pt x="88" y="1193"/>
                    <a:pt x="84" y="1132"/>
                    <a:pt x="84" y="113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6080" y="2817720"/>
              <a:ext cx="3986280" cy="2779920"/>
            </a:xfrm>
            <a:custGeom>
              <a:avLst/>
              <a:gdLst/>
              <a:ahLst/>
              <a:rect l="l" t="t" r="r" b="b"/>
              <a:pathLst>
                <a:path w="2511" h="1751">
                  <a:moveTo>
                    <a:pt x="2511" y="127"/>
                  </a:moveTo>
                  <a:cubicBezTo>
                    <a:pt x="2222" y="96"/>
                    <a:pt x="1930" y="97"/>
                    <a:pt x="1639" y="88"/>
                  </a:cubicBezTo>
                  <a:cubicBezTo>
                    <a:pt x="1368" y="80"/>
                    <a:pt x="1098" y="61"/>
                    <a:pt x="828" y="49"/>
                  </a:cubicBezTo>
                  <a:cubicBezTo>
                    <a:pt x="336" y="69"/>
                    <a:pt x="574" y="0"/>
                    <a:pt x="337" y="173"/>
                  </a:cubicBezTo>
                  <a:cubicBezTo>
                    <a:pt x="303" y="279"/>
                    <a:pt x="205" y="333"/>
                    <a:pt x="166" y="423"/>
                  </a:cubicBezTo>
                  <a:cubicBezTo>
                    <a:pt x="121" y="528"/>
                    <a:pt x="70" y="629"/>
                    <a:pt x="26" y="734"/>
                  </a:cubicBezTo>
                  <a:cubicBezTo>
                    <a:pt x="8" y="947"/>
                    <a:pt x="0" y="1158"/>
                    <a:pt x="26" y="1373"/>
                  </a:cubicBezTo>
                  <a:cubicBezTo>
                    <a:pt x="37" y="1467"/>
                    <a:pt x="59" y="1562"/>
                    <a:pt x="80" y="1654"/>
                  </a:cubicBezTo>
                  <a:cubicBezTo>
                    <a:pt x="100" y="1740"/>
                    <a:pt x="84" y="1751"/>
                    <a:pt x="111" y="172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006800" y="828720"/>
              <a:ext cx="374760" cy="396720"/>
            </a:xfrm>
            <a:custGeom>
              <a:avLst/>
              <a:gdLst/>
              <a:ahLst/>
              <a:rect l="l" t="t" r="r" b="b"/>
              <a:pathLst>
                <a:path w="236" h="250">
                  <a:moveTo>
                    <a:pt x="203" y="31"/>
                  </a:moveTo>
                  <a:cubicBezTo>
                    <a:pt x="157" y="24"/>
                    <a:pt x="79" y="0"/>
                    <a:pt x="32" y="31"/>
                  </a:cubicBezTo>
                  <a:cubicBezTo>
                    <a:pt x="20" y="39"/>
                    <a:pt x="5" y="116"/>
                    <a:pt x="1" y="133"/>
                  </a:cubicBezTo>
                  <a:cubicBezTo>
                    <a:pt x="4" y="159"/>
                    <a:pt x="0" y="186"/>
                    <a:pt x="9" y="211"/>
                  </a:cubicBezTo>
                  <a:cubicBezTo>
                    <a:pt x="12" y="219"/>
                    <a:pt x="25" y="214"/>
                    <a:pt x="32" y="218"/>
                  </a:cubicBezTo>
                  <a:cubicBezTo>
                    <a:pt x="76" y="240"/>
                    <a:pt x="96" y="243"/>
                    <a:pt x="149" y="250"/>
                  </a:cubicBezTo>
                  <a:cubicBezTo>
                    <a:pt x="236" y="163"/>
                    <a:pt x="211" y="188"/>
                    <a:pt x="203" y="31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897360" y="3303720"/>
              <a:ext cx="407880" cy="498240"/>
            </a:xfrm>
            <a:custGeom>
              <a:avLst/>
              <a:gdLst/>
              <a:ahLst/>
              <a:rect l="l" t="t" r="r" b="b"/>
              <a:pathLst>
                <a:path w="257" h="314">
                  <a:moveTo>
                    <a:pt x="257" y="47"/>
                  </a:moveTo>
                  <a:cubicBezTo>
                    <a:pt x="233" y="23"/>
                    <a:pt x="214" y="18"/>
                    <a:pt x="187" y="0"/>
                  </a:cubicBezTo>
                  <a:cubicBezTo>
                    <a:pt x="164" y="5"/>
                    <a:pt x="139" y="5"/>
                    <a:pt x="117" y="15"/>
                  </a:cubicBezTo>
                  <a:cubicBezTo>
                    <a:pt x="108" y="19"/>
                    <a:pt x="107" y="31"/>
                    <a:pt x="101" y="39"/>
                  </a:cubicBezTo>
                  <a:cubicBezTo>
                    <a:pt x="75" y="76"/>
                    <a:pt x="50" y="115"/>
                    <a:pt x="31" y="156"/>
                  </a:cubicBezTo>
                  <a:cubicBezTo>
                    <a:pt x="23" y="204"/>
                    <a:pt x="0" y="255"/>
                    <a:pt x="23" y="304"/>
                  </a:cubicBezTo>
                  <a:cubicBezTo>
                    <a:pt x="27" y="314"/>
                    <a:pt x="44" y="309"/>
                    <a:pt x="54" y="311"/>
                  </a:cubicBezTo>
                  <a:cubicBezTo>
                    <a:pt x="80" y="309"/>
                    <a:pt x="106" y="308"/>
                    <a:pt x="132" y="304"/>
                  </a:cubicBezTo>
                  <a:cubicBezTo>
                    <a:pt x="180" y="297"/>
                    <a:pt x="197" y="250"/>
                    <a:pt x="233" y="226"/>
                  </a:cubicBezTo>
                  <a:cubicBezTo>
                    <a:pt x="257" y="156"/>
                    <a:pt x="257" y="132"/>
                    <a:pt x="257" y="47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176760" y="58680"/>
            <a:ext cx="2486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5. THEVENIN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5" name=""/>
          <p:cNvGraphicFramePr/>
          <p:nvPr/>
        </p:nvGraphicFramePr>
        <p:xfrm>
          <a:off x="152280" y="404640"/>
          <a:ext cx="4232520" cy="22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640"/>
                    <a:ext cx="4232520" cy="22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7" name=""/>
          <p:cNvGraphicFramePr/>
          <p:nvPr/>
        </p:nvGraphicFramePr>
        <p:xfrm>
          <a:off x="0" y="2514600"/>
          <a:ext cx="5172120" cy="212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514600"/>
                    <a:ext cx="5172120" cy="21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9" name=""/>
          <p:cNvSpPr/>
          <p:nvPr/>
        </p:nvSpPr>
        <p:spPr>
          <a:xfrm>
            <a:off x="2362320" y="1219320"/>
            <a:ext cx="914400" cy="9144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0" y="2819520"/>
            <a:ext cx="2133720" cy="17524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0" y="4722840"/>
            <a:ext cx="6100920" cy="2135160"/>
            <a:chOff x="0" y="4722840"/>
            <a:chExt cx="6100920" cy="2135160"/>
          </a:xfrm>
        </p:grpSpPr>
        <p:graphicFrame>
          <p:nvGraphicFramePr>
            <p:cNvPr id="852" name=""/>
            <p:cNvGraphicFramePr/>
            <p:nvPr/>
          </p:nvGraphicFramePr>
          <p:xfrm>
            <a:off x="76320" y="4722840"/>
            <a:ext cx="6024600" cy="2135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5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6320" y="4722840"/>
                      <a:ext cx="6024600" cy="213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4" name=""/>
            <p:cNvSpPr/>
            <p:nvPr/>
          </p:nvSpPr>
          <p:spPr>
            <a:xfrm>
              <a:off x="0" y="4876920"/>
              <a:ext cx="2514600" cy="18288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7467480" y="393840"/>
                <a:ext cx="7113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856" name=""/>
          <p:cNvGraphicFramePr/>
          <p:nvPr/>
        </p:nvGraphicFramePr>
        <p:xfrm>
          <a:off x="4800600" y="1371600"/>
          <a:ext cx="3902040" cy="185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1371600"/>
                    <a:ext cx="3902040" cy="18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6730920" y="2895480"/>
                <a:ext cx="2413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59" name=""/>
          <p:cNvGraphicFramePr/>
          <p:nvPr/>
        </p:nvGraphicFramePr>
        <p:xfrm>
          <a:off x="5410080" y="3505320"/>
          <a:ext cx="3443400" cy="1866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10080" y="3505320"/>
                    <a:ext cx="344340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7238880" y="5410080"/>
                <a:ext cx="13716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62" name=""/>
          <p:cNvGrpSpPr/>
          <p:nvPr/>
        </p:nvGrpSpPr>
        <p:grpSpPr>
          <a:xfrm>
            <a:off x="4559400" y="58680"/>
            <a:ext cx="2870280" cy="932040"/>
            <a:chOff x="4559400" y="58680"/>
            <a:chExt cx="2870280" cy="932040"/>
          </a:xfrm>
        </p:grpSpPr>
        <mc:AlternateContent>
          <mc:Choice xmlns:a14="http://schemas.microsoft.com/office/drawing/2010/main" Requires="a14">
            <p:sp>
              <p:nvSpPr>
                <p:cNvPr id="863" name=""/>
                <p:cNvSpPr txBox="1"/>
                <p:nvPr/>
              </p:nvSpPr>
              <p:spPr>
                <a:xfrm>
                  <a:off x="4559400" y="393840"/>
                  <a:ext cx="28702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j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8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64" name=""/>
            <p:cNvSpPr/>
            <p:nvPr/>
          </p:nvSpPr>
          <p:spPr>
            <a:xfrm>
              <a:off x="4602960" y="58680"/>
              <a:ext cx="1741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Divi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71280" y="4638600"/>
            <a:ext cx="3826080" cy="1603440"/>
            <a:chOff x="71280" y="4638600"/>
            <a:chExt cx="3826080" cy="1603440"/>
          </a:xfrm>
        </p:grpSpPr>
        <p:sp>
          <p:nvSpPr>
            <p:cNvPr id="866" name=""/>
            <p:cNvSpPr/>
            <p:nvPr/>
          </p:nvSpPr>
          <p:spPr>
            <a:xfrm>
              <a:off x="71280" y="4638600"/>
              <a:ext cx="3826080" cy="1603440"/>
            </a:xfrm>
            <a:custGeom>
              <a:avLst/>
              <a:gdLst/>
              <a:ahLst/>
              <a:rect l="l" t="t" r="r" b="b"/>
              <a:pathLst>
                <a:path w="2410" h="1010">
                  <a:moveTo>
                    <a:pt x="1810" y="437"/>
                  </a:moveTo>
                  <a:cubicBezTo>
                    <a:pt x="1812" y="471"/>
                    <a:pt x="1804" y="507"/>
                    <a:pt x="1817" y="538"/>
                  </a:cubicBezTo>
                  <a:cubicBezTo>
                    <a:pt x="1824" y="555"/>
                    <a:pt x="1848" y="559"/>
                    <a:pt x="1864" y="569"/>
                  </a:cubicBezTo>
                  <a:cubicBezTo>
                    <a:pt x="1913" y="602"/>
                    <a:pt x="1978" y="606"/>
                    <a:pt x="2036" y="616"/>
                  </a:cubicBezTo>
                  <a:cubicBezTo>
                    <a:pt x="2124" y="613"/>
                    <a:pt x="2215" y="629"/>
                    <a:pt x="2301" y="608"/>
                  </a:cubicBezTo>
                  <a:cubicBezTo>
                    <a:pt x="2307" y="606"/>
                    <a:pt x="2317" y="509"/>
                    <a:pt x="2340" y="476"/>
                  </a:cubicBezTo>
                  <a:cubicBezTo>
                    <a:pt x="2354" y="427"/>
                    <a:pt x="2368" y="397"/>
                    <a:pt x="2378" y="343"/>
                  </a:cubicBezTo>
                  <a:cubicBezTo>
                    <a:pt x="2385" y="258"/>
                    <a:pt x="2396" y="178"/>
                    <a:pt x="2410" y="94"/>
                  </a:cubicBezTo>
                  <a:cubicBezTo>
                    <a:pt x="2342" y="14"/>
                    <a:pt x="2337" y="11"/>
                    <a:pt x="2230" y="0"/>
                  </a:cubicBezTo>
                  <a:cubicBezTo>
                    <a:pt x="2096" y="6"/>
                    <a:pt x="1985" y="20"/>
                    <a:pt x="1856" y="39"/>
                  </a:cubicBezTo>
                  <a:cubicBezTo>
                    <a:pt x="1805" y="99"/>
                    <a:pt x="1782" y="123"/>
                    <a:pt x="1755" y="195"/>
                  </a:cubicBezTo>
                  <a:cubicBezTo>
                    <a:pt x="1746" y="265"/>
                    <a:pt x="1725" y="327"/>
                    <a:pt x="1716" y="398"/>
                  </a:cubicBezTo>
                  <a:cubicBezTo>
                    <a:pt x="1713" y="419"/>
                    <a:pt x="1720" y="443"/>
                    <a:pt x="1708" y="460"/>
                  </a:cubicBezTo>
                  <a:cubicBezTo>
                    <a:pt x="1684" y="493"/>
                    <a:pt x="1645" y="511"/>
                    <a:pt x="1615" y="538"/>
                  </a:cubicBezTo>
                  <a:cubicBezTo>
                    <a:pt x="1528" y="616"/>
                    <a:pt x="1587" y="590"/>
                    <a:pt x="1506" y="616"/>
                  </a:cubicBezTo>
                  <a:cubicBezTo>
                    <a:pt x="1465" y="655"/>
                    <a:pt x="1423" y="701"/>
                    <a:pt x="1373" y="725"/>
                  </a:cubicBezTo>
                  <a:cubicBezTo>
                    <a:pt x="1235" y="863"/>
                    <a:pt x="1036" y="893"/>
                    <a:pt x="851" y="920"/>
                  </a:cubicBezTo>
                  <a:cubicBezTo>
                    <a:pt x="751" y="935"/>
                    <a:pt x="655" y="962"/>
                    <a:pt x="555" y="975"/>
                  </a:cubicBezTo>
                  <a:cubicBezTo>
                    <a:pt x="486" y="996"/>
                    <a:pt x="417" y="1000"/>
                    <a:pt x="345" y="1006"/>
                  </a:cubicBezTo>
                  <a:cubicBezTo>
                    <a:pt x="246" y="1001"/>
                    <a:pt x="146" y="1010"/>
                    <a:pt x="49" y="990"/>
                  </a:cubicBezTo>
                  <a:cubicBezTo>
                    <a:pt x="33" y="987"/>
                    <a:pt x="38" y="959"/>
                    <a:pt x="33" y="943"/>
                  </a:cubicBezTo>
                  <a:cubicBezTo>
                    <a:pt x="17" y="889"/>
                    <a:pt x="11" y="836"/>
                    <a:pt x="2" y="780"/>
                  </a:cubicBezTo>
                  <a:cubicBezTo>
                    <a:pt x="5" y="744"/>
                    <a:pt x="0" y="706"/>
                    <a:pt x="10" y="671"/>
                  </a:cubicBezTo>
                  <a:cubicBezTo>
                    <a:pt x="20" y="636"/>
                    <a:pt x="103" y="627"/>
                    <a:pt x="126" y="624"/>
                  </a:cubicBezTo>
                  <a:cubicBezTo>
                    <a:pt x="318" y="627"/>
                    <a:pt x="511" y="627"/>
                    <a:pt x="703" y="632"/>
                  </a:cubicBezTo>
                  <a:cubicBezTo>
                    <a:pt x="728" y="633"/>
                    <a:pt x="816" y="653"/>
                    <a:pt x="828" y="655"/>
                  </a:cubicBezTo>
                  <a:cubicBezTo>
                    <a:pt x="929" y="671"/>
                    <a:pt x="1038" y="675"/>
                    <a:pt x="1139" y="694"/>
                  </a:cubicBezTo>
                  <a:cubicBezTo>
                    <a:pt x="1202" y="706"/>
                    <a:pt x="1254" y="733"/>
                    <a:pt x="1319" y="73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7" name=""/>
                <p:cNvSpPr txBox="1"/>
                <p:nvPr/>
              </p:nvSpPr>
              <p:spPr>
                <a:xfrm>
                  <a:off x="2743200" y="5638680"/>
                  <a:ext cx="58248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68" name=""/>
          <p:cNvSpPr/>
          <p:nvPr/>
        </p:nvSpPr>
        <p:spPr>
          <a:xfrm>
            <a:off x="6181200" y="6078600"/>
            <a:ext cx="17262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: NOR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9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7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F07.003C_W0731" descr=""/>
          <p:cNvPicPr/>
          <p:nvPr/>
        </p:nvPicPr>
        <p:blipFill>
          <a:blip r:embed="rId1"/>
          <a:stretch/>
        </p:blipFill>
        <p:spPr>
          <a:xfrm>
            <a:off x="2971800" y="4743360"/>
            <a:ext cx="5486400" cy="2114640"/>
          </a:xfrm>
          <a:prstGeom prst="rect">
            <a:avLst/>
          </a:prstGeom>
          <a:ln w="0">
            <a:noFill/>
          </a:ln>
        </p:spPr>
      </p:pic>
      <p:pic>
        <p:nvPicPr>
          <p:cNvPr id="87" name="F07.003B_W0731" descr=""/>
          <p:cNvPicPr/>
          <p:nvPr/>
        </p:nvPicPr>
        <p:blipFill>
          <a:blip r:embed="rId2"/>
          <a:stretch/>
        </p:blipFill>
        <p:spPr>
          <a:xfrm>
            <a:off x="2971800" y="2286000"/>
            <a:ext cx="5334120" cy="2209680"/>
          </a:xfrm>
          <a:prstGeom prst="rect">
            <a:avLst/>
          </a:prstGeom>
          <a:ln w="0">
            <a:noFill/>
          </a:ln>
        </p:spPr>
      </p:pic>
      <p:pic>
        <p:nvPicPr>
          <p:cNvPr id="88" name="F07.003A_W0731" descr=""/>
          <p:cNvPicPr/>
          <p:nvPr/>
        </p:nvPicPr>
        <p:blipFill>
          <a:blip r:embed="rId3"/>
          <a:stretch/>
        </p:blipFill>
        <p:spPr>
          <a:xfrm>
            <a:off x="2971800" y="152280"/>
            <a:ext cx="5486400" cy="2210040"/>
          </a:xfrm>
          <a:prstGeom prst="rect">
            <a:avLst/>
          </a:prstGeom>
          <a:ln w="0">
            <a:noFill/>
          </a:ln>
        </p:spPr>
      </p:pic>
      <p:pic>
        <p:nvPicPr>
          <p:cNvPr id="89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3760" y="135000"/>
            <a:ext cx="2224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914400" y="2438280"/>
                <a:ext cx="1295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756320" y="304920"/>
                <a:ext cx="772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4022280" y="2116080"/>
            <a:ext cx="2210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ds by 45 degre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685800" y="4343400"/>
                <a:ext cx="14605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762120" y="4648320"/>
                <a:ext cx="1726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5050080" y="4325760"/>
            <a:ext cx="2898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ds by 225 or lags by 1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685800" y="2743200"/>
                <a:ext cx="17398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6586920" y="1963800"/>
            <a:ext cx="1343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ags by 3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7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5" name=""/>
          <p:cNvGraphicFramePr/>
          <p:nvPr/>
        </p:nvGraphicFramePr>
        <p:xfrm>
          <a:off x="1219320" y="685800"/>
          <a:ext cx="6019560" cy="222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685800"/>
                    <a:ext cx="601956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7" name=""/>
          <p:cNvSpPr/>
          <p:nvPr/>
        </p:nvSpPr>
        <p:spPr>
          <a:xfrm>
            <a:off x="1451520" y="33480"/>
            <a:ext cx="554076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RTON’S EQUIVALENCE THEO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8" name=""/>
              <p:cNvSpPr txBox="1"/>
              <p:nvPr/>
            </p:nvSpPr>
            <p:spPr>
              <a:xfrm>
                <a:off x="266760" y="6095880"/>
                <a:ext cx="3797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Thevenin Equivalent Source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Thevenin Equivalent Resistan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79" name=""/>
          <p:cNvGrpSpPr/>
          <p:nvPr/>
        </p:nvGrpSpPr>
        <p:grpSpPr>
          <a:xfrm>
            <a:off x="1195560" y="3200400"/>
            <a:ext cx="6067080" cy="2841480"/>
            <a:chOff x="1195560" y="3200400"/>
            <a:chExt cx="6067080" cy="2841480"/>
          </a:xfrm>
        </p:grpSpPr>
        <p:graphicFrame>
          <p:nvGraphicFramePr>
            <p:cNvPr id="880" name=""/>
            <p:cNvGraphicFramePr/>
            <p:nvPr/>
          </p:nvGraphicFramePr>
          <p:xfrm>
            <a:off x="1195560" y="3200400"/>
            <a:ext cx="6067080" cy="22240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8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195560" y="3200400"/>
                      <a:ext cx="6067080" cy="22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2" name=""/>
            <p:cNvSpPr/>
            <p:nvPr/>
          </p:nvSpPr>
          <p:spPr>
            <a:xfrm>
              <a:off x="1225800" y="5334120"/>
              <a:ext cx="2815560" cy="707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Norton Equivalent Circu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or PART 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147600" y="954000"/>
            <a:ext cx="4348080" cy="5483160"/>
            <a:chOff x="147600" y="954000"/>
            <a:chExt cx="4348080" cy="5483160"/>
          </a:xfrm>
        </p:grpSpPr>
        <p:sp>
          <p:nvSpPr>
            <p:cNvPr id="884" name=""/>
            <p:cNvSpPr/>
            <p:nvPr/>
          </p:nvSpPr>
          <p:spPr>
            <a:xfrm>
              <a:off x="3951360" y="954000"/>
              <a:ext cx="544320" cy="493920"/>
            </a:xfrm>
            <a:custGeom>
              <a:avLst/>
              <a:gdLst/>
              <a:ahLst/>
              <a:rect l="l" t="t" r="r" b="b"/>
              <a:pathLst>
                <a:path w="343" h="311">
                  <a:moveTo>
                    <a:pt x="343" y="124"/>
                  </a:moveTo>
                  <a:cubicBezTo>
                    <a:pt x="326" y="74"/>
                    <a:pt x="285" y="18"/>
                    <a:pt x="234" y="0"/>
                  </a:cubicBezTo>
                  <a:cubicBezTo>
                    <a:pt x="203" y="3"/>
                    <a:pt x="171" y="5"/>
                    <a:pt x="140" y="8"/>
                  </a:cubicBezTo>
                  <a:cubicBezTo>
                    <a:pt x="124" y="10"/>
                    <a:pt x="103" y="2"/>
                    <a:pt x="93" y="15"/>
                  </a:cubicBezTo>
                  <a:cubicBezTo>
                    <a:pt x="73" y="41"/>
                    <a:pt x="72" y="78"/>
                    <a:pt x="62" y="109"/>
                  </a:cubicBezTo>
                  <a:cubicBezTo>
                    <a:pt x="59" y="117"/>
                    <a:pt x="54" y="132"/>
                    <a:pt x="54" y="132"/>
                  </a:cubicBezTo>
                  <a:cubicBezTo>
                    <a:pt x="44" y="197"/>
                    <a:pt x="0" y="292"/>
                    <a:pt x="86" y="311"/>
                  </a:cubicBezTo>
                  <a:cubicBezTo>
                    <a:pt x="150" y="304"/>
                    <a:pt x="219" y="309"/>
                    <a:pt x="280" y="288"/>
                  </a:cubicBezTo>
                  <a:cubicBezTo>
                    <a:pt x="285" y="270"/>
                    <a:pt x="290" y="252"/>
                    <a:pt x="296" y="234"/>
                  </a:cubicBezTo>
                  <a:cubicBezTo>
                    <a:pt x="298" y="226"/>
                    <a:pt x="297" y="215"/>
                    <a:pt x="304" y="210"/>
                  </a:cubicBezTo>
                  <a:cubicBezTo>
                    <a:pt x="310" y="205"/>
                    <a:pt x="319" y="210"/>
                    <a:pt x="327" y="21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657600" y="1523880"/>
              <a:ext cx="544680" cy="493920"/>
            </a:xfrm>
            <a:custGeom>
              <a:avLst/>
              <a:gdLst/>
              <a:ahLst/>
              <a:rect l="l" t="t" r="r" b="b"/>
              <a:pathLst>
                <a:path w="343" h="311">
                  <a:moveTo>
                    <a:pt x="343" y="124"/>
                  </a:moveTo>
                  <a:cubicBezTo>
                    <a:pt x="326" y="74"/>
                    <a:pt x="285" y="18"/>
                    <a:pt x="234" y="0"/>
                  </a:cubicBezTo>
                  <a:cubicBezTo>
                    <a:pt x="203" y="3"/>
                    <a:pt x="171" y="5"/>
                    <a:pt x="140" y="8"/>
                  </a:cubicBezTo>
                  <a:cubicBezTo>
                    <a:pt x="124" y="10"/>
                    <a:pt x="103" y="2"/>
                    <a:pt x="93" y="15"/>
                  </a:cubicBezTo>
                  <a:cubicBezTo>
                    <a:pt x="73" y="41"/>
                    <a:pt x="72" y="78"/>
                    <a:pt x="62" y="109"/>
                  </a:cubicBezTo>
                  <a:cubicBezTo>
                    <a:pt x="59" y="117"/>
                    <a:pt x="54" y="132"/>
                    <a:pt x="54" y="132"/>
                  </a:cubicBezTo>
                  <a:cubicBezTo>
                    <a:pt x="44" y="197"/>
                    <a:pt x="0" y="292"/>
                    <a:pt x="86" y="311"/>
                  </a:cubicBezTo>
                  <a:cubicBezTo>
                    <a:pt x="150" y="304"/>
                    <a:pt x="219" y="309"/>
                    <a:pt x="280" y="288"/>
                  </a:cubicBezTo>
                  <a:cubicBezTo>
                    <a:pt x="285" y="270"/>
                    <a:pt x="290" y="252"/>
                    <a:pt x="296" y="234"/>
                  </a:cubicBezTo>
                  <a:cubicBezTo>
                    <a:pt x="298" y="226"/>
                    <a:pt x="297" y="215"/>
                    <a:pt x="304" y="210"/>
                  </a:cubicBezTo>
                  <a:cubicBezTo>
                    <a:pt x="310" y="205"/>
                    <a:pt x="319" y="210"/>
                    <a:pt x="327" y="21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657600" y="3962520"/>
              <a:ext cx="544680" cy="493560"/>
            </a:xfrm>
            <a:custGeom>
              <a:avLst/>
              <a:gdLst/>
              <a:ahLst/>
              <a:rect l="l" t="t" r="r" b="b"/>
              <a:pathLst>
                <a:path w="343" h="311">
                  <a:moveTo>
                    <a:pt x="343" y="124"/>
                  </a:moveTo>
                  <a:cubicBezTo>
                    <a:pt x="326" y="74"/>
                    <a:pt x="285" y="18"/>
                    <a:pt x="234" y="0"/>
                  </a:cubicBezTo>
                  <a:cubicBezTo>
                    <a:pt x="203" y="3"/>
                    <a:pt x="171" y="5"/>
                    <a:pt x="140" y="8"/>
                  </a:cubicBezTo>
                  <a:cubicBezTo>
                    <a:pt x="124" y="10"/>
                    <a:pt x="103" y="2"/>
                    <a:pt x="93" y="15"/>
                  </a:cubicBezTo>
                  <a:cubicBezTo>
                    <a:pt x="73" y="41"/>
                    <a:pt x="72" y="78"/>
                    <a:pt x="62" y="109"/>
                  </a:cubicBezTo>
                  <a:cubicBezTo>
                    <a:pt x="59" y="117"/>
                    <a:pt x="54" y="132"/>
                    <a:pt x="54" y="132"/>
                  </a:cubicBezTo>
                  <a:cubicBezTo>
                    <a:pt x="44" y="197"/>
                    <a:pt x="0" y="292"/>
                    <a:pt x="86" y="311"/>
                  </a:cubicBezTo>
                  <a:cubicBezTo>
                    <a:pt x="150" y="304"/>
                    <a:pt x="219" y="309"/>
                    <a:pt x="280" y="288"/>
                  </a:cubicBezTo>
                  <a:cubicBezTo>
                    <a:pt x="285" y="270"/>
                    <a:pt x="290" y="252"/>
                    <a:pt x="296" y="234"/>
                  </a:cubicBezTo>
                  <a:cubicBezTo>
                    <a:pt x="298" y="226"/>
                    <a:pt x="297" y="215"/>
                    <a:pt x="304" y="210"/>
                  </a:cubicBezTo>
                  <a:cubicBezTo>
                    <a:pt x="310" y="205"/>
                    <a:pt x="319" y="210"/>
                    <a:pt x="327" y="21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886200" y="3276720"/>
              <a:ext cx="544680" cy="493560"/>
            </a:xfrm>
            <a:custGeom>
              <a:avLst/>
              <a:gdLst/>
              <a:ahLst/>
              <a:rect l="l" t="t" r="r" b="b"/>
              <a:pathLst>
                <a:path w="343" h="311">
                  <a:moveTo>
                    <a:pt x="343" y="124"/>
                  </a:moveTo>
                  <a:cubicBezTo>
                    <a:pt x="326" y="74"/>
                    <a:pt x="285" y="18"/>
                    <a:pt x="234" y="0"/>
                  </a:cubicBezTo>
                  <a:cubicBezTo>
                    <a:pt x="203" y="3"/>
                    <a:pt x="171" y="5"/>
                    <a:pt x="140" y="8"/>
                  </a:cubicBezTo>
                  <a:cubicBezTo>
                    <a:pt x="124" y="10"/>
                    <a:pt x="103" y="2"/>
                    <a:pt x="93" y="15"/>
                  </a:cubicBezTo>
                  <a:cubicBezTo>
                    <a:pt x="73" y="41"/>
                    <a:pt x="72" y="78"/>
                    <a:pt x="62" y="109"/>
                  </a:cubicBezTo>
                  <a:cubicBezTo>
                    <a:pt x="59" y="117"/>
                    <a:pt x="54" y="132"/>
                    <a:pt x="54" y="132"/>
                  </a:cubicBezTo>
                  <a:cubicBezTo>
                    <a:pt x="44" y="197"/>
                    <a:pt x="0" y="292"/>
                    <a:pt x="86" y="311"/>
                  </a:cubicBezTo>
                  <a:cubicBezTo>
                    <a:pt x="150" y="304"/>
                    <a:pt x="219" y="309"/>
                    <a:pt x="280" y="288"/>
                  </a:cubicBezTo>
                  <a:cubicBezTo>
                    <a:pt x="285" y="270"/>
                    <a:pt x="290" y="252"/>
                    <a:pt x="296" y="234"/>
                  </a:cubicBezTo>
                  <a:cubicBezTo>
                    <a:pt x="298" y="226"/>
                    <a:pt x="297" y="215"/>
                    <a:pt x="304" y="210"/>
                  </a:cubicBezTo>
                  <a:cubicBezTo>
                    <a:pt x="310" y="205"/>
                    <a:pt x="319" y="210"/>
                    <a:pt x="327" y="21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143000" y="4114800"/>
              <a:ext cx="544680" cy="493560"/>
            </a:xfrm>
            <a:custGeom>
              <a:avLst/>
              <a:gdLst/>
              <a:ahLst/>
              <a:rect l="l" t="t" r="r" b="b"/>
              <a:pathLst>
                <a:path w="343" h="311">
                  <a:moveTo>
                    <a:pt x="343" y="124"/>
                  </a:moveTo>
                  <a:cubicBezTo>
                    <a:pt x="326" y="74"/>
                    <a:pt x="285" y="18"/>
                    <a:pt x="234" y="0"/>
                  </a:cubicBezTo>
                  <a:cubicBezTo>
                    <a:pt x="203" y="3"/>
                    <a:pt x="171" y="5"/>
                    <a:pt x="140" y="8"/>
                  </a:cubicBezTo>
                  <a:cubicBezTo>
                    <a:pt x="124" y="10"/>
                    <a:pt x="103" y="2"/>
                    <a:pt x="93" y="15"/>
                  </a:cubicBezTo>
                  <a:cubicBezTo>
                    <a:pt x="73" y="41"/>
                    <a:pt x="72" y="78"/>
                    <a:pt x="62" y="109"/>
                  </a:cubicBezTo>
                  <a:cubicBezTo>
                    <a:pt x="59" y="117"/>
                    <a:pt x="54" y="132"/>
                    <a:pt x="54" y="132"/>
                  </a:cubicBezTo>
                  <a:cubicBezTo>
                    <a:pt x="44" y="197"/>
                    <a:pt x="0" y="292"/>
                    <a:pt x="86" y="311"/>
                  </a:cubicBezTo>
                  <a:cubicBezTo>
                    <a:pt x="150" y="304"/>
                    <a:pt x="219" y="309"/>
                    <a:pt x="280" y="288"/>
                  </a:cubicBezTo>
                  <a:cubicBezTo>
                    <a:pt x="285" y="270"/>
                    <a:pt x="290" y="252"/>
                    <a:pt x="296" y="234"/>
                  </a:cubicBezTo>
                  <a:cubicBezTo>
                    <a:pt x="298" y="226"/>
                    <a:pt x="297" y="215"/>
                    <a:pt x="304" y="210"/>
                  </a:cubicBezTo>
                  <a:cubicBezTo>
                    <a:pt x="310" y="205"/>
                    <a:pt x="319" y="210"/>
                    <a:pt x="327" y="21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52280" y="5943600"/>
              <a:ext cx="544680" cy="493560"/>
            </a:xfrm>
            <a:custGeom>
              <a:avLst/>
              <a:gdLst/>
              <a:ahLst/>
              <a:rect l="l" t="t" r="r" b="b"/>
              <a:pathLst>
                <a:path w="343" h="311">
                  <a:moveTo>
                    <a:pt x="343" y="124"/>
                  </a:moveTo>
                  <a:cubicBezTo>
                    <a:pt x="326" y="74"/>
                    <a:pt x="285" y="18"/>
                    <a:pt x="234" y="0"/>
                  </a:cubicBezTo>
                  <a:cubicBezTo>
                    <a:pt x="203" y="3"/>
                    <a:pt x="171" y="5"/>
                    <a:pt x="140" y="8"/>
                  </a:cubicBezTo>
                  <a:cubicBezTo>
                    <a:pt x="124" y="10"/>
                    <a:pt x="103" y="2"/>
                    <a:pt x="93" y="15"/>
                  </a:cubicBezTo>
                  <a:cubicBezTo>
                    <a:pt x="73" y="41"/>
                    <a:pt x="72" y="78"/>
                    <a:pt x="62" y="109"/>
                  </a:cubicBezTo>
                  <a:cubicBezTo>
                    <a:pt x="59" y="117"/>
                    <a:pt x="54" y="132"/>
                    <a:pt x="54" y="132"/>
                  </a:cubicBezTo>
                  <a:cubicBezTo>
                    <a:pt x="44" y="197"/>
                    <a:pt x="0" y="292"/>
                    <a:pt x="86" y="311"/>
                  </a:cubicBezTo>
                  <a:cubicBezTo>
                    <a:pt x="150" y="304"/>
                    <a:pt x="219" y="309"/>
                    <a:pt x="280" y="288"/>
                  </a:cubicBezTo>
                  <a:cubicBezTo>
                    <a:pt x="285" y="270"/>
                    <a:pt x="290" y="252"/>
                    <a:pt x="296" y="234"/>
                  </a:cubicBezTo>
                  <a:cubicBezTo>
                    <a:pt x="298" y="226"/>
                    <a:pt x="297" y="215"/>
                    <a:pt x="304" y="210"/>
                  </a:cubicBezTo>
                  <a:cubicBezTo>
                    <a:pt x="310" y="205"/>
                    <a:pt x="319" y="210"/>
                    <a:pt x="327" y="21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0" name=""/>
                <p:cNvSpPr txBox="1"/>
                <p:nvPr/>
              </p:nvSpPr>
              <p:spPr>
                <a:xfrm>
                  <a:off x="304920" y="2971800"/>
                  <a:ext cx="82548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hasor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91" name=""/>
            <p:cNvSpPr/>
            <p:nvPr/>
          </p:nvSpPr>
          <p:spPr>
            <a:xfrm>
              <a:off x="291960" y="3276720"/>
              <a:ext cx="1067040" cy="2793960"/>
            </a:xfrm>
            <a:custGeom>
              <a:avLst/>
              <a:gdLst/>
              <a:ahLst/>
              <a:rect l="l" t="t" r="r" b="b"/>
              <a:pathLst>
                <a:path w="672" h="1760">
                  <a:moveTo>
                    <a:pt x="248" y="0"/>
                  </a:moveTo>
                  <a:cubicBezTo>
                    <a:pt x="124" y="752"/>
                    <a:pt x="0" y="1504"/>
                    <a:pt x="56" y="1632"/>
                  </a:cubicBezTo>
                  <a:cubicBezTo>
                    <a:pt x="112" y="1760"/>
                    <a:pt x="496" y="936"/>
                    <a:pt x="584" y="768"/>
                  </a:cubicBezTo>
                  <a:cubicBezTo>
                    <a:pt x="672" y="600"/>
                    <a:pt x="628" y="612"/>
                    <a:pt x="584" y="62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114800" y="1386000"/>
              <a:ext cx="347760" cy="1890720"/>
            </a:xfrm>
            <a:custGeom>
              <a:avLst/>
              <a:gdLst/>
              <a:ahLst/>
              <a:rect l="l" t="t" r="r" b="b"/>
              <a:pathLst>
                <a:path w="232" h="358">
                  <a:moveTo>
                    <a:pt x="226" y="0"/>
                  </a:moveTo>
                  <a:cubicBezTo>
                    <a:pt x="224" y="65"/>
                    <a:pt x="232" y="131"/>
                    <a:pt x="219" y="195"/>
                  </a:cubicBezTo>
                  <a:cubicBezTo>
                    <a:pt x="215" y="215"/>
                    <a:pt x="111" y="325"/>
                    <a:pt x="102" y="327"/>
                  </a:cubicBezTo>
                  <a:cubicBezTo>
                    <a:pt x="9" y="344"/>
                    <a:pt x="37" y="323"/>
                    <a:pt x="0" y="35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770280" y="1992240"/>
              <a:ext cx="228600" cy="2090880"/>
            </a:xfrm>
            <a:custGeom>
              <a:avLst/>
              <a:gdLst/>
              <a:ahLst/>
              <a:rect l="l" t="t" r="r" b="b"/>
              <a:pathLst>
                <a:path w="144" h="1317">
                  <a:moveTo>
                    <a:pt x="103" y="0"/>
                  </a:moveTo>
                  <a:cubicBezTo>
                    <a:pt x="118" y="148"/>
                    <a:pt x="109" y="15"/>
                    <a:pt x="103" y="233"/>
                  </a:cubicBezTo>
                  <a:cubicBezTo>
                    <a:pt x="90" y="740"/>
                    <a:pt x="144" y="556"/>
                    <a:pt x="80" y="756"/>
                  </a:cubicBezTo>
                  <a:cubicBezTo>
                    <a:pt x="68" y="848"/>
                    <a:pt x="53" y="946"/>
                    <a:pt x="33" y="1036"/>
                  </a:cubicBezTo>
                  <a:cubicBezTo>
                    <a:pt x="23" y="1080"/>
                    <a:pt x="4" y="1123"/>
                    <a:pt x="2" y="1169"/>
                  </a:cubicBezTo>
                  <a:cubicBezTo>
                    <a:pt x="0" y="1218"/>
                    <a:pt x="2" y="1268"/>
                    <a:pt x="2" y="131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47600" y="2778120"/>
              <a:ext cx="4181400" cy="549360"/>
            </a:xfrm>
            <a:custGeom>
              <a:avLst/>
              <a:gdLst/>
              <a:ahLst/>
              <a:rect l="l" t="t" r="r" b="b"/>
              <a:pathLst>
                <a:path w="2634" h="346">
                  <a:moveTo>
                    <a:pt x="2634" y="120"/>
                  </a:moveTo>
                  <a:cubicBezTo>
                    <a:pt x="2508" y="127"/>
                    <a:pt x="2387" y="138"/>
                    <a:pt x="2260" y="144"/>
                  </a:cubicBezTo>
                  <a:cubicBezTo>
                    <a:pt x="1839" y="141"/>
                    <a:pt x="1419" y="141"/>
                    <a:pt x="998" y="136"/>
                  </a:cubicBezTo>
                  <a:cubicBezTo>
                    <a:pt x="908" y="135"/>
                    <a:pt x="827" y="109"/>
                    <a:pt x="741" y="89"/>
                  </a:cubicBezTo>
                  <a:cubicBezTo>
                    <a:pt x="583" y="52"/>
                    <a:pt x="419" y="20"/>
                    <a:pt x="258" y="3"/>
                  </a:cubicBezTo>
                  <a:cubicBezTo>
                    <a:pt x="188" y="8"/>
                    <a:pt x="115" y="0"/>
                    <a:pt x="47" y="19"/>
                  </a:cubicBezTo>
                  <a:cubicBezTo>
                    <a:pt x="31" y="23"/>
                    <a:pt x="39" y="51"/>
                    <a:pt x="32" y="66"/>
                  </a:cubicBezTo>
                  <a:cubicBezTo>
                    <a:pt x="24" y="85"/>
                    <a:pt x="10" y="101"/>
                    <a:pt x="1" y="120"/>
                  </a:cubicBezTo>
                  <a:cubicBezTo>
                    <a:pt x="3" y="151"/>
                    <a:pt x="0" y="184"/>
                    <a:pt x="8" y="214"/>
                  </a:cubicBezTo>
                  <a:cubicBezTo>
                    <a:pt x="15" y="240"/>
                    <a:pt x="38" y="235"/>
                    <a:pt x="55" y="245"/>
                  </a:cubicBezTo>
                  <a:cubicBezTo>
                    <a:pt x="84" y="262"/>
                    <a:pt x="110" y="287"/>
                    <a:pt x="141" y="300"/>
                  </a:cubicBezTo>
                  <a:cubicBezTo>
                    <a:pt x="160" y="308"/>
                    <a:pt x="182" y="304"/>
                    <a:pt x="203" y="307"/>
                  </a:cubicBezTo>
                  <a:cubicBezTo>
                    <a:pt x="292" y="321"/>
                    <a:pt x="339" y="330"/>
                    <a:pt x="421" y="346"/>
                  </a:cubicBezTo>
                  <a:cubicBezTo>
                    <a:pt x="577" y="341"/>
                    <a:pt x="642" y="337"/>
                    <a:pt x="772" y="315"/>
                  </a:cubicBezTo>
                  <a:cubicBezTo>
                    <a:pt x="784" y="280"/>
                    <a:pt x="799" y="248"/>
                    <a:pt x="811" y="214"/>
                  </a:cubicBezTo>
                  <a:cubicBezTo>
                    <a:pt x="814" y="191"/>
                    <a:pt x="819" y="144"/>
                    <a:pt x="819" y="14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2971800" y="6095880"/>
            <a:ext cx="2768760" cy="609840"/>
            <a:chOff x="2971800" y="6095880"/>
            <a:chExt cx="2768760" cy="609840"/>
          </a:xfrm>
        </p:grpSpPr>
        <p:sp>
          <p:nvSpPr>
            <p:cNvPr id="896" name=""/>
            <p:cNvSpPr/>
            <p:nvPr/>
          </p:nvSpPr>
          <p:spPr>
            <a:xfrm flipV="1">
              <a:off x="2971800" y="6248520"/>
              <a:ext cx="160020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7" name=""/>
                <p:cNvSpPr txBox="1"/>
                <p:nvPr/>
              </p:nvSpPr>
              <p:spPr>
                <a:xfrm>
                  <a:off x="4572000" y="6095880"/>
                  <a:ext cx="116856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Impedance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98" name=""/>
          <p:cNvGrpSpPr/>
          <p:nvPr/>
        </p:nvGrpSpPr>
        <p:grpSpPr>
          <a:xfrm>
            <a:off x="0" y="3886200"/>
            <a:ext cx="3402000" cy="2895120"/>
            <a:chOff x="0" y="3886200"/>
            <a:chExt cx="3402000" cy="2895120"/>
          </a:xfrm>
        </p:grpSpPr>
        <p:grpSp>
          <p:nvGrpSpPr>
            <p:cNvPr id="899" name=""/>
            <p:cNvGrpSpPr/>
            <p:nvPr/>
          </p:nvGrpSpPr>
          <p:grpSpPr>
            <a:xfrm>
              <a:off x="2819520" y="3886200"/>
              <a:ext cx="582480" cy="762120"/>
              <a:chOff x="2819520" y="3886200"/>
              <a:chExt cx="582480" cy="762120"/>
            </a:xfrm>
          </p:grpSpPr>
          <mc:AlternateContent>
            <mc:Choice xmlns:a14="http://schemas.microsoft.com/office/drawing/2010/main" Requires="a14">
              <p:sp>
                <p:nvSpPr>
                  <p:cNvPr id="900" name=""/>
                  <p:cNvSpPr txBox="1"/>
                  <p:nvPr/>
                </p:nvSpPr>
                <p:spPr>
                  <a:xfrm>
                    <a:off x="3048120" y="3886200"/>
                    <a:ext cx="3538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901" name=""/>
              <p:cNvSpPr/>
              <p:nvPr/>
            </p:nvSpPr>
            <p:spPr>
              <a:xfrm flipV="1">
                <a:off x="2819520" y="4114800"/>
                <a:ext cx="228600" cy="53352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2" name=""/>
            <p:cNvGrpSpPr/>
            <p:nvPr/>
          </p:nvGrpSpPr>
          <p:grpSpPr>
            <a:xfrm>
              <a:off x="0" y="6400800"/>
              <a:ext cx="887400" cy="380520"/>
              <a:chOff x="0" y="6400800"/>
              <a:chExt cx="887400" cy="380520"/>
            </a:xfrm>
          </p:grpSpPr>
          <mc:AlternateContent>
            <mc:Choice xmlns:a14="http://schemas.microsoft.com/office/drawing/2010/main" Requires="a14">
              <p:sp>
                <p:nvSpPr>
                  <p:cNvPr id="903" name=""/>
                  <p:cNvSpPr txBox="1"/>
                  <p:nvPr/>
                </p:nvSpPr>
                <p:spPr>
                  <a:xfrm>
                    <a:off x="533520" y="6400800"/>
                    <a:ext cx="3538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904" name=""/>
              <p:cNvSpPr/>
              <p:nvPr/>
            </p:nvSpPr>
            <p:spPr>
              <a:xfrm flipV="1">
                <a:off x="0" y="6552720"/>
                <a:ext cx="533520" cy="2286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5" name=""/>
          <p:cNvGraphicFramePr/>
          <p:nvPr/>
        </p:nvGraphicFramePr>
        <p:xfrm>
          <a:off x="4114800" y="4444920"/>
          <a:ext cx="4890960" cy="165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4444920"/>
                    <a:ext cx="489096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7" name=""/>
          <p:cNvSpPr/>
          <p:nvPr/>
        </p:nvSpPr>
        <p:spPr>
          <a:xfrm>
            <a:off x="98280" y="58680"/>
            <a:ext cx="2352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6. NORTON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8" name=""/>
          <p:cNvGraphicFramePr/>
          <p:nvPr/>
        </p:nvGraphicFramePr>
        <p:xfrm>
          <a:off x="152280" y="404640"/>
          <a:ext cx="4232520" cy="22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04640"/>
                    <a:ext cx="4232520" cy="22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0" name=""/>
          <p:cNvSpPr/>
          <p:nvPr/>
        </p:nvSpPr>
        <p:spPr>
          <a:xfrm>
            <a:off x="2362320" y="1219320"/>
            <a:ext cx="914400" cy="9144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1" name=""/>
          <p:cNvGraphicFramePr/>
          <p:nvPr/>
        </p:nvGraphicFramePr>
        <p:xfrm>
          <a:off x="0" y="2743200"/>
          <a:ext cx="5172120" cy="221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743200"/>
                    <a:ext cx="5172120" cy="22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304920" y="5613480"/>
                <a:ext cx="29718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Y SUPERPOSTION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4" name=""/>
          <p:cNvSpPr/>
          <p:nvPr/>
        </p:nvSpPr>
        <p:spPr>
          <a:xfrm>
            <a:off x="151200" y="4935600"/>
            <a:ext cx="36205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ssible techniques: loops,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ation,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5" name=""/>
          <p:cNvGraphicFramePr/>
          <p:nvPr/>
        </p:nvGraphicFramePr>
        <p:xfrm>
          <a:off x="4800600" y="228600"/>
          <a:ext cx="3902040" cy="185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228600"/>
                    <a:ext cx="3902040" cy="18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17" name=""/>
              <p:cNvSpPr txBox="1"/>
              <p:nvPr/>
            </p:nvSpPr>
            <p:spPr>
              <a:xfrm>
                <a:off x="6400800" y="2057400"/>
                <a:ext cx="2413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8" name=""/>
              <p:cNvSpPr txBox="1"/>
              <p:nvPr/>
            </p:nvSpPr>
            <p:spPr>
              <a:xfrm>
                <a:off x="4915080" y="2819520"/>
                <a:ext cx="17143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9" name=""/>
              <p:cNvSpPr txBox="1"/>
              <p:nvPr/>
            </p:nvSpPr>
            <p:spPr>
              <a:xfrm>
                <a:off x="6629400" y="2819520"/>
                <a:ext cx="1981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20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2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/>
          <p:nvPr/>
        </p:nvSpPr>
        <p:spPr>
          <a:xfrm>
            <a:off x="4146480" y="1695600"/>
            <a:ext cx="628560" cy="4341600"/>
          </a:xfrm>
          <a:custGeom>
            <a:avLst/>
            <a:gdLst/>
            <a:ahLst/>
            <a:rect l="l" t="t" r="r" b="b"/>
            <a:pathLst>
              <a:path w="396" h="2735">
                <a:moveTo>
                  <a:pt x="357" y="0"/>
                </a:moveTo>
                <a:cubicBezTo>
                  <a:pt x="257" y="158"/>
                  <a:pt x="160" y="316"/>
                  <a:pt x="76" y="483"/>
                </a:cubicBezTo>
                <a:cubicBezTo>
                  <a:pt x="66" y="618"/>
                  <a:pt x="36" y="752"/>
                  <a:pt x="22" y="888"/>
                </a:cubicBezTo>
                <a:cubicBezTo>
                  <a:pt x="19" y="1288"/>
                  <a:pt x="14" y="1688"/>
                  <a:pt x="14" y="2088"/>
                </a:cubicBezTo>
                <a:cubicBezTo>
                  <a:pt x="14" y="2249"/>
                  <a:pt x="0" y="2412"/>
                  <a:pt x="22" y="2571"/>
                </a:cubicBezTo>
                <a:cubicBezTo>
                  <a:pt x="25" y="2592"/>
                  <a:pt x="84" y="2587"/>
                  <a:pt x="84" y="2587"/>
                </a:cubicBezTo>
                <a:cubicBezTo>
                  <a:pt x="131" y="2632"/>
                  <a:pt x="91" y="2584"/>
                  <a:pt x="115" y="2673"/>
                </a:cubicBezTo>
                <a:cubicBezTo>
                  <a:pt x="122" y="2699"/>
                  <a:pt x="154" y="2716"/>
                  <a:pt x="178" y="2719"/>
                </a:cubicBezTo>
                <a:cubicBezTo>
                  <a:pt x="249" y="2729"/>
                  <a:pt x="325" y="2735"/>
                  <a:pt x="396" y="2735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18800" y="6521400"/>
            <a:ext cx="25930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tice choice of g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5" name=""/>
          <p:cNvGraphicFramePr/>
          <p:nvPr/>
        </p:nvGraphicFramePr>
        <p:xfrm>
          <a:off x="152280" y="3200400"/>
          <a:ext cx="3978360" cy="337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200400"/>
                    <a:ext cx="3978360" cy="33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8" name=""/>
          <p:cNvGraphicFramePr/>
          <p:nvPr/>
        </p:nvGraphicFramePr>
        <p:xfrm>
          <a:off x="76320" y="533520"/>
          <a:ext cx="3978000" cy="266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533520"/>
                    <a:ext cx="3978000" cy="26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2386080" y="76320"/>
                <a:ext cx="5310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USING NODES, LOOPS, THEVENIN, NORTO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1" name=""/>
          <p:cNvSpPr/>
          <p:nvPr/>
        </p:nvSpPr>
        <p:spPr>
          <a:xfrm>
            <a:off x="3484800" y="380880"/>
            <a:ext cx="5446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Y SKIP SUPERPOSITION AND TRANSFORMATI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49400" y="3259080"/>
            <a:ext cx="880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4724280" y="914400"/>
                <a:ext cx="3822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pernode constraint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4749840" y="1295280"/>
                <a:ext cx="40892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CL @ Supernode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4724280" y="2362320"/>
                <a:ext cx="24512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CL@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36" name=""/>
          <p:cNvGrpSpPr/>
          <p:nvPr/>
        </p:nvGrpSpPr>
        <p:grpSpPr>
          <a:xfrm>
            <a:off x="838080" y="4190760"/>
            <a:ext cx="685800" cy="1756080"/>
            <a:chOff x="838080" y="4190760"/>
            <a:chExt cx="685800" cy="1756080"/>
          </a:xfrm>
        </p:grpSpPr>
        <p:sp>
          <p:nvSpPr>
            <p:cNvPr id="937" name=""/>
            <p:cNvSpPr/>
            <p:nvPr/>
          </p:nvSpPr>
          <p:spPr>
            <a:xfrm>
              <a:off x="1068480" y="5337000"/>
              <a:ext cx="0" cy="60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914400" y="4190760"/>
              <a:ext cx="0" cy="685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38080" y="5181480"/>
              <a:ext cx="6858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4724280" y="3429000"/>
                <a:ext cx="21970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CL@ 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41" name=""/>
          <p:cNvGrpSpPr/>
          <p:nvPr/>
        </p:nvGrpSpPr>
        <p:grpSpPr>
          <a:xfrm>
            <a:off x="2971440" y="4571640"/>
            <a:ext cx="611640" cy="1527480"/>
            <a:chOff x="2971440" y="4571640"/>
            <a:chExt cx="611640" cy="1527480"/>
          </a:xfrm>
        </p:grpSpPr>
        <p:sp>
          <p:nvSpPr>
            <p:cNvPr id="942" name=""/>
            <p:cNvSpPr/>
            <p:nvPr/>
          </p:nvSpPr>
          <p:spPr>
            <a:xfrm>
              <a:off x="3583080" y="5108400"/>
              <a:ext cx="0" cy="9907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H="1">
              <a:off x="2971440" y="5105520"/>
              <a:ext cx="609480" cy="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V="1">
              <a:off x="3581280" y="4571640"/>
              <a:ext cx="0" cy="60948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4724280" y="4495680"/>
                <a:ext cx="19814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trolling variable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7010280" y="3809880"/>
                <a:ext cx="1409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47" name=""/>
          <p:cNvGrpSpPr/>
          <p:nvPr/>
        </p:nvGrpSpPr>
        <p:grpSpPr>
          <a:xfrm>
            <a:off x="7238880" y="1077840"/>
            <a:ext cx="1762200" cy="3989520"/>
            <a:chOff x="7238880" y="1077840"/>
            <a:chExt cx="1762200" cy="3989520"/>
          </a:xfrm>
        </p:grpSpPr>
        <p:sp>
          <p:nvSpPr>
            <p:cNvPr id="948" name=""/>
            <p:cNvSpPr/>
            <p:nvPr/>
          </p:nvSpPr>
          <p:spPr>
            <a:xfrm>
              <a:off x="8481960" y="1077840"/>
              <a:ext cx="519120" cy="3640320"/>
            </a:xfrm>
            <a:custGeom>
              <a:avLst/>
              <a:gdLst/>
              <a:ahLst/>
              <a:rect l="l" t="t" r="r" b="b"/>
              <a:pathLst>
                <a:path w="327" h="2293">
                  <a:moveTo>
                    <a:pt x="62" y="0"/>
                  </a:moveTo>
                  <a:cubicBezTo>
                    <a:pt x="88" y="5"/>
                    <a:pt x="116" y="5"/>
                    <a:pt x="140" y="16"/>
                  </a:cubicBezTo>
                  <a:cubicBezTo>
                    <a:pt x="216" y="50"/>
                    <a:pt x="249" y="140"/>
                    <a:pt x="296" y="203"/>
                  </a:cubicBezTo>
                  <a:cubicBezTo>
                    <a:pt x="319" y="294"/>
                    <a:pt x="321" y="390"/>
                    <a:pt x="327" y="483"/>
                  </a:cubicBezTo>
                  <a:cubicBezTo>
                    <a:pt x="319" y="944"/>
                    <a:pt x="305" y="1410"/>
                    <a:pt x="265" y="1870"/>
                  </a:cubicBezTo>
                  <a:cubicBezTo>
                    <a:pt x="256" y="1969"/>
                    <a:pt x="252" y="2068"/>
                    <a:pt x="233" y="2166"/>
                  </a:cubicBezTo>
                  <a:cubicBezTo>
                    <a:pt x="227" y="2195"/>
                    <a:pt x="234" y="2235"/>
                    <a:pt x="210" y="2252"/>
                  </a:cubicBezTo>
                  <a:cubicBezTo>
                    <a:pt x="152" y="2293"/>
                    <a:pt x="0" y="2283"/>
                    <a:pt x="0" y="228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9" name=""/>
                <p:cNvSpPr txBox="1"/>
                <p:nvPr/>
              </p:nvSpPr>
              <p:spPr>
                <a:xfrm>
                  <a:off x="7238880" y="4419720"/>
                  <a:ext cx="120672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50" name=""/>
          <p:cNvGrpSpPr/>
          <p:nvPr/>
        </p:nvGrpSpPr>
        <p:grpSpPr>
          <a:xfrm>
            <a:off x="6994440" y="4119480"/>
            <a:ext cx="1768680" cy="1352520"/>
            <a:chOff x="6994440" y="4119480"/>
            <a:chExt cx="1768680" cy="1352520"/>
          </a:xfrm>
        </p:grpSpPr>
        <p:sp>
          <p:nvSpPr>
            <p:cNvPr id="951" name=""/>
            <p:cNvSpPr/>
            <p:nvPr/>
          </p:nvSpPr>
          <p:spPr>
            <a:xfrm>
              <a:off x="6994440" y="4119480"/>
              <a:ext cx="341280" cy="1274760"/>
            </a:xfrm>
            <a:custGeom>
              <a:avLst/>
              <a:gdLst/>
              <a:ahLst/>
              <a:rect l="l" t="t" r="r" b="b"/>
              <a:pathLst>
                <a:path w="215" h="803">
                  <a:moveTo>
                    <a:pt x="28" y="0"/>
                  </a:moveTo>
                  <a:cubicBezTo>
                    <a:pt x="16" y="267"/>
                    <a:pt x="0" y="536"/>
                    <a:pt x="20" y="803"/>
                  </a:cubicBezTo>
                  <a:cubicBezTo>
                    <a:pt x="204" y="795"/>
                    <a:pt x="139" y="795"/>
                    <a:pt x="215" y="795"/>
                  </a:cubicBezTo>
                </a:path>
              </a:pathLst>
            </a:custGeom>
            <a:solidFill>
              <a:srgbClr val="ccecff"/>
            </a:solidFill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2" name=""/>
                <p:cNvSpPr txBox="1"/>
                <p:nvPr/>
              </p:nvSpPr>
              <p:spPr>
                <a:xfrm>
                  <a:off x="7315200" y="5181480"/>
                  <a:ext cx="14479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53" name=""/>
          <p:cNvSpPr/>
          <p:nvPr/>
        </p:nvSpPr>
        <p:spPr>
          <a:xfrm>
            <a:off x="4462560" y="2808360"/>
            <a:ext cx="498240" cy="2841480"/>
          </a:xfrm>
          <a:custGeom>
            <a:avLst/>
            <a:gdLst/>
            <a:ahLst/>
            <a:rect l="l" t="t" r="r" b="b"/>
            <a:pathLst>
              <a:path w="314" h="1790">
                <a:moveTo>
                  <a:pt x="158" y="0"/>
                </a:moveTo>
                <a:cubicBezTo>
                  <a:pt x="153" y="31"/>
                  <a:pt x="148" y="63"/>
                  <a:pt x="142" y="94"/>
                </a:cubicBezTo>
                <a:cubicBezTo>
                  <a:pt x="135" y="125"/>
                  <a:pt x="119" y="187"/>
                  <a:pt x="119" y="187"/>
                </a:cubicBezTo>
                <a:cubicBezTo>
                  <a:pt x="111" y="437"/>
                  <a:pt x="107" y="706"/>
                  <a:pt x="49" y="951"/>
                </a:cubicBezTo>
                <a:cubicBezTo>
                  <a:pt x="38" y="1081"/>
                  <a:pt x="27" y="1211"/>
                  <a:pt x="10" y="1340"/>
                </a:cubicBezTo>
                <a:cubicBezTo>
                  <a:pt x="15" y="1483"/>
                  <a:pt x="0" y="1628"/>
                  <a:pt x="25" y="1769"/>
                </a:cubicBezTo>
                <a:cubicBezTo>
                  <a:pt x="29" y="1790"/>
                  <a:pt x="67" y="1774"/>
                  <a:pt x="88" y="1777"/>
                </a:cubicBezTo>
                <a:cubicBezTo>
                  <a:pt x="106" y="1779"/>
                  <a:pt x="124" y="1784"/>
                  <a:pt x="142" y="1785"/>
                </a:cubicBezTo>
                <a:cubicBezTo>
                  <a:pt x="199" y="1787"/>
                  <a:pt x="257" y="1785"/>
                  <a:pt x="314" y="1785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4" name=""/>
              <p:cNvSpPr txBox="1"/>
              <p:nvPr/>
            </p:nvSpPr>
            <p:spPr>
              <a:xfrm>
                <a:off x="4794120" y="5500800"/>
                <a:ext cx="4305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3676680" y="5867280"/>
                <a:ext cx="5500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56" name=""/>
          <p:cNvGrpSpPr/>
          <p:nvPr/>
        </p:nvGrpSpPr>
        <p:grpSpPr>
          <a:xfrm>
            <a:off x="914400" y="3809880"/>
            <a:ext cx="2209680" cy="2210040"/>
            <a:chOff x="914400" y="3809880"/>
            <a:chExt cx="2209680" cy="2210040"/>
          </a:xfrm>
        </p:grpSpPr>
        <p:grpSp>
          <p:nvGrpSpPr>
            <p:cNvPr id="957" name=""/>
            <p:cNvGrpSpPr/>
            <p:nvPr/>
          </p:nvGrpSpPr>
          <p:grpSpPr>
            <a:xfrm>
              <a:off x="914400" y="3809880"/>
              <a:ext cx="2209680" cy="1371600"/>
              <a:chOff x="914400" y="3809880"/>
              <a:chExt cx="2209680" cy="1371600"/>
            </a:xfrm>
          </p:grpSpPr>
          <p:sp>
            <p:nvSpPr>
              <p:cNvPr id="958" name=""/>
              <p:cNvSpPr/>
              <p:nvPr/>
            </p:nvSpPr>
            <p:spPr>
              <a:xfrm>
                <a:off x="2590920" y="388620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2286000" y="5181480"/>
                <a:ext cx="6094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flipH="1">
                <a:off x="1218960" y="5105520"/>
                <a:ext cx="6094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flipH="1">
                <a:off x="914400" y="3809880"/>
                <a:ext cx="5335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2" name=""/>
            <p:cNvSpPr/>
            <p:nvPr/>
          </p:nvSpPr>
          <p:spPr>
            <a:xfrm>
              <a:off x="1828800" y="5181480"/>
              <a:ext cx="0" cy="8384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5410080" y="6172200"/>
                <a:ext cx="21081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dding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64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6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84240" y="58680"/>
            <a:ext cx="1787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OP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8" name=""/>
          <p:cNvGraphicFramePr/>
          <p:nvPr/>
        </p:nvGraphicFramePr>
        <p:xfrm>
          <a:off x="152280" y="457200"/>
          <a:ext cx="3978360" cy="26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57200"/>
                    <a:ext cx="3978360" cy="26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0" name=""/>
          <p:cNvGraphicFramePr/>
          <p:nvPr/>
        </p:nvGraphicFramePr>
        <p:xfrm>
          <a:off x="228600" y="3733920"/>
          <a:ext cx="3978360" cy="269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3733920"/>
                    <a:ext cx="397836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5867280" y="380880"/>
                <a:ext cx="10922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73" name=""/>
          <p:cNvSpPr/>
          <p:nvPr/>
        </p:nvSpPr>
        <p:spPr>
          <a:xfrm>
            <a:off x="4524480" y="58680"/>
            <a:ext cx="4521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SH CURRENTS DETERMINED BY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5029200" y="1066680"/>
                <a:ext cx="26416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ESH 1:  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5029200" y="1752480"/>
                <a:ext cx="30225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ESH 4:</m:t>
                        </m:r>
                      </m:e>
                      <m:e>
                        <m:r>
                          <m:t xml:space="preserve">1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5016600" y="2438280"/>
                <a:ext cx="3898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TROLLING VARIABLE: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5029200" y="2819520"/>
                <a:ext cx="394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IABLE OF INTEREST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78" name=""/>
          <p:cNvGrpSpPr/>
          <p:nvPr/>
        </p:nvGrpSpPr>
        <p:grpSpPr>
          <a:xfrm>
            <a:off x="4687920" y="1992240"/>
            <a:ext cx="3452760" cy="1665360"/>
            <a:chOff x="4687920" y="1992240"/>
            <a:chExt cx="3452760" cy="1665360"/>
          </a:xfrm>
        </p:grpSpPr>
        <p:sp>
          <p:nvSpPr>
            <p:cNvPr id="979" name=""/>
            <p:cNvSpPr/>
            <p:nvPr/>
          </p:nvSpPr>
          <p:spPr>
            <a:xfrm>
              <a:off x="4687920" y="1992240"/>
              <a:ext cx="334800" cy="1595520"/>
            </a:xfrm>
            <a:custGeom>
              <a:avLst/>
              <a:gdLst/>
              <a:ahLst/>
              <a:rect l="l" t="t" r="r" b="b"/>
              <a:pathLst>
                <a:path w="211" h="1005">
                  <a:moveTo>
                    <a:pt x="211" y="0"/>
                  </a:moveTo>
                  <a:cubicBezTo>
                    <a:pt x="125" y="60"/>
                    <a:pt x="127" y="50"/>
                    <a:pt x="94" y="140"/>
                  </a:cubicBezTo>
                  <a:cubicBezTo>
                    <a:pt x="73" y="265"/>
                    <a:pt x="50" y="389"/>
                    <a:pt x="32" y="514"/>
                  </a:cubicBezTo>
                  <a:cubicBezTo>
                    <a:pt x="27" y="545"/>
                    <a:pt x="20" y="576"/>
                    <a:pt x="16" y="608"/>
                  </a:cubicBezTo>
                  <a:cubicBezTo>
                    <a:pt x="11" y="649"/>
                    <a:pt x="0" y="732"/>
                    <a:pt x="0" y="732"/>
                  </a:cubicBezTo>
                  <a:cubicBezTo>
                    <a:pt x="21" y="776"/>
                    <a:pt x="43" y="820"/>
                    <a:pt x="63" y="865"/>
                  </a:cubicBezTo>
                  <a:cubicBezTo>
                    <a:pt x="78" y="898"/>
                    <a:pt x="82" y="947"/>
                    <a:pt x="109" y="974"/>
                  </a:cubicBezTo>
                  <a:cubicBezTo>
                    <a:pt x="116" y="981"/>
                    <a:pt x="168" y="998"/>
                    <a:pt x="187" y="1005"/>
                  </a:cubicBezTo>
                  <a:cubicBezTo>
                    <a:pt x="195" y="1000"/>
                    <a:pt x="211" y="989"/>
                    <a:pt x="211" y="98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0" name=""/>
                <p:cNvSpPr txBox="1"/>
                <p:nvPr/>
              </p:nvSpPr>
              <p:spPr>
                <a:xfrm>
                  <a:off x="5105520" y="3367080"/>
                  <a:ext cx="3035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81" name=""/>
          <p:cNvGrpSpPr/>
          <p:nvPr/>
        </p:nvGrpSpPr>
        <p:grpSpPr>
          <a:xfrm>
            <a:off x="7010280" y="609480"/>
            <a:ext cx="1776600" cy="1814760"/>
            <a:chOff x="7010280" y="609480"/>
            <a:chExt cx="1776600" cy="1814760"/>
          </a:xfrm>
        </p:grpSpPr>
        <mc:AlternateContent>
          <mc:Choice xmlns:a14="http://schemas.microsoft.com/office/drawing/2010/main" Requires="a14">
            <p:sp>
              <p:nvSpPr>
                <p:cNvPr id="982" name=""/>
                <p:cNvSpPr txBox="1"/>
                <p:nvPr/>
              </p:nvSpPr>
              <p:spPr>
                <a:xfrm>
                  <a:off x="7010280" y="609480"/>
                  <a:ext cx="1549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83" name=""/>
            <p:cNvSpPr/>
            <p:nvPr/>
          </p:nvSpPr>
          <p:spPr>
            <a:xfrm>
              <a:off x="8213760" y="961920"/>
              <a:ext cx="573120" cy="1462320"/>
            </a:xfrm>
            <a:custGeom>
              <a:avLst/>
              <a:gdLst/>
              <a:ahLst/>
              <a:rect l="l" t="t" r="r" b="b"/>
              <a:pathLst>
                <a:path w="361" h="921">
                  <a:moveTo>
                    <a:pt x="351" y="921"/>
                  </a:moveTo>
                  <a:cubicBezTo>
                    <a:pt x="346" y="770"/>
                    <a:pt x="361" y="495"/>
                    <a:pt x="289" y="345"/>
                  </a:cubicBezTo>
                  <a:cubicBezTo>
                    <a:pt x="286" y="324"/>
                    <a:pt x="288" y="302"/>
                    <a:pt x="281" y="282"/>
                  </a:cubicBezTo>
                  <a:cubicBezTo>
                    <a:pt x="277" y="270"/>
                    <a:pt x="262" y="263"/>
                    <a:pt x="257" y="251"/>
                  </a:cubicBezTo>
                  <a:cubicBezTo>
                    <a:pt x="251" y="236"/>
                    <a:pt x="256" y="219"/>
                    <a:pt x="250" y="204"/>
                  </a:cubicBezTo>
                  <a:cubicBezTo>
                    <a:pt x="245" y="192"/>
                    <a:pt x="233" y="184"/>
                    <a:pt x="226" y="173"/>
                  </a:cubicBezTo>
                  <a:cubicBezTo>
                    <a:pt x="177" y="96"/>
                    <a:pt x="133" y="51"/>
                    <a:pt x="47" y="17"/>
                  </a:cubicBezTo>
                  <a:cubicBezTo>
                    <a:pt x="3" y="0"/>
                    <a:pt x="31" y="2"/>
                    <a:pt x="0" y="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4952880" y="3809880"/>
                <a:ext cx="33656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8381880" y="3809880"/>
                <a:ext cx="330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6172200" y="4572000"/>
                <a:ext cx="1206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7" name=""/>
          <p:cNvSpPr/>
          <p:nvPr/>
        </p:nvSpPr>
        <p:spPr>
          <a:xfrm>
            <a:off x="321120" y="3106800"/>
            <a:ext cx="3669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SH CURRENTS  ARE ACCEP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8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8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150120" y="135000"/>
            <a:ext cx="1218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2" name=""/>
          <p:cNvGraphicFramePr/>
          <p:nvPr/>
        </p:nvGraphicFramePr>
        <p:xfrm>
          <a:off x="0" y="457200"/>
          <a:ext cx="3978360" cy="26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397836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4" name=""/>
          <p:cNvSpPr/>
          <p:nvPr/>
        </p:nvSpPr>
        <p:spPr>
          <a:xfrm>
            <a:off x="2590920" y="1981080"/>
            <a:ext cx="914400" cy="83844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76320" y="3259080"/>
            <a:ext cx="4194000" cy="3003480"/>
            <a:chOff x="76320" y="3259080"/>
            <a:chExt cx="4194000" cy="3003480"/>
          </a:xfrm>
        </p:grpSpPr>
        <p:graphicFrame>
          <p:nvGraphicFramePr>
            <p:cNvPr id="996" name=""/>
            <p:cNvGraphicFramePr/>
            <p:nvPr/>
          </p:nvGraphicFramePr>
          <p:xfrm>
            <a:off x="76320" y="3581280"/>
            <a:ext cx="4194000" cy="2681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9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3581280"/>
                      <a:ext cx="4194000" cy="268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8" name=""/>
            <p:cNvSpPr/>
            <p:nvPr/>
          </p:nvSpPr>
          <p:spPr>
            <a:xfrm>
              <a:off x="135360" y="3259080"/>
              <a:ext cx="3061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OPEN CIRCUIT VOL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99" name=""/>
              <p:cNvSpPr txBox="1"/>
              <p:nvPr/>
            </p:nvSpPr>
            <p:spPr>
              <a:xfrm>
                <a:off x="3581280" y="4648320"/>
                <a:ext cx="9907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00" name=""/>
          <p:cNvGrpSpPr/>
          <p:nvPr/>
        </p:nvGrpSpPr>
        <p:grpSpPr>
          <a:xfrm>
            <a:off x="1295280" y="5029200"/>
            <a:ext cx="609840" cy="901800"/>
            <a:chOff x="1295280" y="5029200"/>
            <a:chExt cx="609840" cy="901800"/>
          </a:xfrm>
        </p:grpSpPr>
        <mc:AlternateContent>
          <mc:Choice xmlns:a14="http://schemas.microsoft.com/office/drawing/2010/main" Requires="a14">
            <p:sp>
              <p:nvSpPr>
                <p:cNvPr id="1001" name=""/>
                <p:cNvSpPr txBox="1"/>
                <p:nvPr/>
              </p:nvSpPr>
              <p:spPr>
                <a:xfrm>
                  <a:off x="1295280" y="5334120"/>
                  <a:ext cx="52092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e>
                        <m:e>
                          <m:r>
                            <m:t xml:space="preserve">8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002" name=""/>
            <p:cNvSpPr/>
            <p:nvPr/>
          </p:nvSpPr>
          <p:spPr>
            <a:xfrm>
              <a:off x="1905120" y="502920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2286000" y="5113440"/>
            <a:ext cx="1625760" cy="1425600"/>
            <a:chOff x="2286000" y="5113440"/>
            <a:chExt cx="1625760" cy="1425600"/>
          </a:xfrm>
        </p:grpSpPr>
        <mc:AlternateContent>
          <mc:Choice xmlns:a14="http://schemas.microsoft.com/office/drawing/2010/main" Requires="a14">
            <p:sp>
              <p:nvSpPr>
                <p:cNvPr id="1004" name=""/>
                <p:cNvSpPr txBox="1"/>
                <p:nvPr/>
              </p:nvSpPr>
              <p:spPr>
                <a:xfrm>
                  <a:off x="2286000" y="6248520"/>
                  <a:ext cx="1625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+</m:t>
                      </m:r>
                      <m:r>
                        <m:t xml:space="preserve">8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05" name=""/>
            <p:cNvSpPr/>
            <p:nvPr/>
          </p:nvSpPr>
          <p:spPr>
            <a:xfrm>
              <a:off x="2597040" y="5113440"/>
              <a:ext cx="655920" cy="911160"/>
            </a:xfrm>
            <a:custGeom>
              <a:avLst/>
              <a:gdLst/>
              <a:ahLst/>
              <a:rect l="l" t="t" r="r" b="b"/>
              <a:pathLst>
                <a:path w="413" h="574">
                  <a:moveTo>
                    <a:pt x="398" y="13"/>
                  </a:moveTo>
                  <a:cubicBezTo>
                    <a:pt x="273" y="4"/>
                    <a:pt x="175" y="0"/>
                    <a:pt x="47" y="5"/>
                  </a:cubicBezTo>
                  <a:cubicBezTo>
                    <a:pt x="21" y="14"/>
                    <a:pt x="24" y="5"/>
                    <a:pt x="24" y="21"/>
                  </a:cubicBezTo>
                  <a:cubicBezTo>
                    <a:pt x="13" y="205"/>
                    <a:pt x="0" y="389"/>
                    <a:pt x="0" y="574"/>
                  </a:cubicBezTo>
                  <a:cubicBezTo>
                    <a:pt x="99" y="569"/>
                    <a:pt x="198" y="566"/>
                    <a:pt x="297" y="559"/>
                  </a:cubicBezTo>
                  <a:cubicBezTo>
                    <a:pt x="336" y="556"/>
                    <a:pt x="372" y="543"/>
                    <a:pt x="413" y="54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06" name=""/>
          <p:cNvGraphicFramePr/>
          <p:nvPr/>
        </p:nvGraphicFramePr>
        <p:xfrm>
          <a:off x="4724280" y="1066680"/>
          <a:ext cx="4029120" cy="263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1066680"/>
                    <a:ext cx="402912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8" name=""/>
          <p:cNvSpPr/>
          <p:nvPr/>
        </p:nvSpPr>
        <p:spPr>
          <a:xfrm>
            <a:off x="4325760" y="0"/>
            <a:ext cx="462456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ternative procedure to compute 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Set to zero all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Apply an external 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7238880" y="1143000"/>
                <a:ext cx="12193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est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} } } {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10" name=""/>
          <p:cNvGrpSpPr/>
          <p:nvPr/>
        </p:nvGrpSpPr>
        <p:grpSpPr>
          <a:xfrm>
            <a:off x="6248520" y="2590920"/>
            <a:ext cx="304560" cy="914400"/>
            <a:chOff x="6248520" y="2590920"/>
            <a:chExt cx="304560" cy="914400"/>
          </a:xfrm>
        </p:grpSpPr>
        <p:sp>
          <p:nvSpPr>
            <p:cNvPr id="1011" name=""/>
            <p:cNvSpPr/>
            <p:nvPr/>
          </p:nvSpPr>
          <p:spPr>
            <a:xfrm>
              <a:off x="6553080" y="259092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2" name=""/>
                <p:cNvSpPr txBox="1"/>
                <p:nvPr/>
              </p:nvSpPr>
              <p:spPr>
                <a:xfrm>
                  <a:off x="6248520" y="3164040"/>
                  <a:ext cx="2523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} } } {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13" name=""/>
          <p:cNvGrpSpPr/>
          <p:nvPr/>
        </p:nvGrpSpPr>
        <p:grpSpPr>
          <a:xfrm>
            <a:off x="6691320" y="2616120"/>
            <a:ext cx="1203480" cy="822240"/>
            <a:chOff x="6691320" y="2616120"/>
            <a:chExt cx="1203480" cy="822240"/>
          </a:xfrm>
        </p:grpSpPr>
        <p:sp>
          <p:nvSpPr>
            <p:cNvPr id="1014" name=""/>
            <p:cNvSpPr/>
            <p:nvPr/>
          </p:nvSpPr>
          <p:spPr>
            <a:xfrm>
              <a:off x="6691320" y="2616120"/>
              <a:ext cx="1203480" cy="822240"/>
            </a:xfrm>
            <a:custGeom>
              <a:avLst/>
              <a:gdLst/>
              <a:ahLst/>
              <a:rect l="l" t="t" r="r" b="b"/>
              <a:pathLst>
                <a:path w="758" h="518">
                  <a:moveTo>
                    <a:pt x="757" y="425"/>
                  </a:moveTo>
                  <a:cubicBezTo>
                    <a:pt x="752" y="350"/>
                    <a:pt x="758" y="287"/>
                    <a:pt x="725" y="222"/>
                  </a:cubicBezTo>
                  <a:cubicBezTo>
                    <a:pt x="720" y="192"/>
                    <a:pt x="684" y="56"/>
                    <a:pt x="671" y="51"/>
                  </a:cubicBezTo>
                  <a:cubicBezTo>
                    <a:pt x="541" y="0"/>
                    <a:pt x="200" y="21"/>
                    <a:pt x="164" y="20"/>
                  </a:cubicBezTo>
                  <a:cubicBezTo>
                    <a:pt x="0" y="39"/>
                    <a:pt x="66" y="22"/>
                    <a:pt x="79" y="285"/>
                  </a:cubicBezTo>
                  <a:cubicBezTo>
                    <a:pt x="80" y="302"/>
                    <a:pt x="99" y="433"/>
                    <a:pt x="110" y="441"/>
                  </a:cubicBezTo>
                  <a:cubicBezTo>
                    <a:pt x="133" y="457"/>
                    <a:pt x="196" y="460"/>
                    <a:pt x="219" y="464"/>
                  </a:cubicBezTo>
                  <a:cubicBezTo>
                    <a:pt x="364" y="489"/>
                    <a:pt x="488" y="498"/>
                    <a:pt x="640" y="503"/>
                  </a:cubicBezTo>
                  <a:cubicBezTo>
                    <a:pt x="679" y="517"/>
                    <a:pt x="716" y="518"/>
                    <a:pt x="757" y="51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265160" y="2990880"/>
              <a:ext cx="5601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5327640" y="3733920"/>
                <a:ext cx="3213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es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+ ital </m:t>
                        </m:r>
                        <m:r>
                          <m:t xml:space="preserve">jI</m:t>
                        </m:r>
                        <m:r>
                          <m:rPr>
                            <m:lit/>
                            <m:nor/>
                          </m:rPr>
                          <m:t xml:space="preserve"> rSub { size 8{x} }  rSup { size 8{</m:t>
                        </m:r>
                      </m:sup>
                    </m:sSubSup>
                    <m:r>
                      <m:t xml:space="preserve">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17" name=""/>
          <p:cNvGrpSpPr/>
          <p:nvPr/>
        </p:nvGrpSpPr>
        <p:grpSpPr>
          <a:xfrm>
            <a:off x="4648320" y="4114800"/>
            <a:ext cx="4419360" cy="1622520"/>
            <a:chOff x="4648320" y="4114800"/>
            <a:chExt cx="4419360" cy="1622520"/>
          </a:xfrm>
        </p:grpSpPr>
        <p:graphicFrame>
          <p:nvGraphicFramePr>
            <p:cNvPr id="1018" name=""/>
            <p:cNvGraphicFramePr/>
            <p:nvPr/>
          </p:nvGraphicFramePr>
          <p:xfrm>
            <a:off x="4648320" y="4343400"/>
            <a:ext cx="4419360" cy="1393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1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8320" y="4343400"/>
                      <a:ext cx="4419360" cy="139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0" name=""/>
            <p:cNvSpPr/>
            <p:nvPr/>
          </p:nvSpPr>
          <p:spPr>
            <a:xfrm>
              <a:off x="5791320" y="4114800"/>
              <a:ext cx="1676160" cy="83808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1" name=""/>
                <p:cNvSpPr txBox="1"/>
                <p:nvPr/>
              </p:nvSpPr>
              <p:spPr>
                <a:xfrm>
                  <a:off x="6095880" y="4952880"/>
                  <a:ext cx="10670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5029200" y="5791320"/>
                <a:ext cx="2120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23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2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148320" y="135000"/>
            <a:ext cx="1084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R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7" name=""/>
          <p:cNvGraphicFramePr/>
          <p:nvPr/>
        </p:nvGraphicFramePr>
        <p:xfrm>
          <a:off x="0" y="457200"/>
          <a:ext cx="3978360" cy="26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397836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9" name=""/>
          <p:cNvSpPr/>
          <p:nvPr/>
        </p:nvSpPr>
        <p:spPr>
          <a:xfrm>
            <a:off x="2590920" y="1981080"/>
            <a:ext cx="914400" cy="83844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0" name=""/>
          <p:cNvGraphicFramePr/>
          <p:nvPr/>
        </p:nvGraphicFramePr>
        <p:xfrm>
          <a:off x="152280" y="3505320"/>
          <a:ext cx="4232520" cy="327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3505320"/>
                    <a:ext cx="4232520" cy="32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2" name=""/>
          <p:cNvGrpSpPr/>
          <p:nvPr/>
        </p:nvGrpSpPr>
        <p:grpSpPr>
          <a:xfrm>
            <a:off x="2514600" y="1828800"/>
            <a:ext cx="749160" cy="1509840"/>
            <a:chOff x="2514600" y="1828800"/>
            <a:chExt cx="749160" cy="1509840"/>
          </a:xfrm>
        </p:grpSpPr>
        <p:sp>
          <p:nvSpPr>
            <p:cNvPr id="1033" name=""/>
            <p:cNvSpPr/>
            <p:nvPr/>
          </p:nvSpPr>
          <p:spPr>
            <a:xfrm>
              <a:off x="2514600" y="1828800"/>
              <a:ext cx="609480" cy="1219320"/>
            </a:xfrm>
            <a:custGeom>
              <a:avLst/>
              <a:gdLst/>
              <a:ahLst/>
              <a:rect l="l" t="t" r="r" b="b"/>
              <a:pathLst>
                <a:path w="384" h="768">
                  <a:moveTo>
                    <a:pt x="384" y="0"/>
                  </a:moveTo>
                  <a:cubicBezTo>
                    <a:pt x="192" y="80"/>
                    <a:pt x="0" y="160"/>
                    <a:pt x="0" y="288"/>
                  </a:cubicBezTo>
                  <a:cubicBezTo>
                    <a:pt x="0" y="416"/>
                    <a:pt x="192" y="592"/>
                    <a:pt x="384" y="76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4" name=""/>
                <p:cNvSpPr txBox="1"/>
                <p:nvPr/>
              </p:nvSpPr>
              <p:spPr>
                <a:xfrm>
                  <a:off x="2895480" y="3048120"/>
                  <a:ext cx="368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35" name=""/>
              <p:cNvSpPr txBox="1"/>
              <p:nvPr/>
            </p:nvSpPr>
            <p:spPr>
              <a:xfrm>
                <a:off x="3505320" y="6019920"/>
                <a:ext cx="11556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'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6" name=""/>
              <p:cNvSpPr txBox="1"/>
              <p:nvPr/>
            </p:nvSpPr>
            <p:spPr>
              <a:xfrm>
                <a:off x="3505320" y="4952880"/>
                <a:ext cx="10792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7" name=""/>
          <p:cNvSpPr/>
          <p:nvPr/>
        </p:nvSpPr>
        <p:spPr>
          <a:xfrm>
            <a:off x="2690640" y="6521400"/>
            <a:ext cx="13114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8" name=""/>
              <p:cNvSpPr txBox="1"/>
              <p:nvPr/>
            </p:nvSpPr>
            <p:spPr>
              <a:xfrm>
                <a:off x="4572000" y="76320"/>
                <a:ext cx="2438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upernode constraint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39" name=""/>
          <p:cNvGrpSpPr/>
          <p:nvPr/>
        </p:nvGrpSpPr>
        <p:grpSpPr>
          <a:xfrm>
            <a:off x="1066320" y="4114800"/>
            <a:ext cx="2210400" cy="2057400"/>
            <a:chOff x="1066320" y="4114800"/>
            <a:chExt cx="2210400" cy="2057400"/>
          </a:xfrm>
        </p:grpSpPr>
        <p:sp>
          <p:nvSpPr>
            <p:cNvPr id="1040" name=""/>
            <p:cNvSpPr/>
            <p:nvPr/>
          </p:nvSpPr>
          <p:spPr>
            <a:xfrm>
              <a:off x="1981080" y="533412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438280" y="548640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743200" y="41148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1066320" y="4114800"/>
              <a:ext cx="304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H="1">
              <a:off x="1218960" y="4952880"/>
              <a:ext cx="5331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45" name=""/>
              <p:cNvSpPr txBox="1"/>
              <p:nvPr/>
            </p:nvSpPr>
            <p:spPr>
              <a:xfrm>
                <a:off x="4572000" y="762120"/>
                <a:ext cx="34923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CL@ Supernode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6" name=""/>
              <p:cNvSpPr txBox="1"/>
              <p:nvPr/>
            </p:nvSpPr>
            <p:spPr>
              <a:xfrm>
                <a:off x="4572000" y="1828800"/>
                <a:ext cx="3746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CL@ 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'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47" name=""/>
          <p:cNvGrpSpPr/>
          <p:nvPr/>
        </p:nvGrpSpPr>
        <p:grpSpPr>
          <a:xfrm>
            <a:off x="990720" y="4723920"/>
            <a:ext cx="457200" cy="1296000"/>
            <a:chOff x="990720" y="4723920"/>
            <a:chExt cx="457200" cy="1296000"/>
          </a:xfrm>
        </p:grpSpPr>
        <p:sp>
          <p:nvSpPr>
            <p:cNvPr id="1048" name=""/>
            <p:cNvSpPr/>
            <p:nvPr/>
          </p:nvSpPr>
          <p:spPr>
            <a:xfrm>
              <a:off x="1141560" y="5410080"/>
              <a:ext cx="0" cy="60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990720" y="5257800"/>
              <a:ext cx="4572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V="1">
              <a:off x="990720" y="4723920"/>
              <a:ext cx="0" cy="381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51" name=""/>
              <p:cNvSpPr txBox="1"/>
              <p:nvPr/>
            </p:nvSpPr>
            <p:spPr>
              <a:xfrm>
                <a:off x="4572000" y="2438280"/>
                <a:ext cx="29084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trolling Variable:  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2" name=""/>
              <p:cNvSpPr txBox="1"/>
              <p:nvPr/>
            </p:nvSpPr>
            <p:spPr>
              <a:xfrm>
                <a:off x="6629400" y="380880"/>
                <a:ext cx="1359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53" name=""/>
          <p:cNvGrpSpPr/>
          <p:nvPr/>
        </p:nvGrpSpPr>
        <p:grpSpPr>
          <a:xfrm>
            <a:off x="8077320" y="1981080"/>
            <a:ext cx="914400" cy="1676520"/>
            <a:chOff x="8077320" y="1981080"/>
            <a:chExt cx="914400" cy="1676520"/>
          </a:xfrm>
        </p:grpSpPr>
        <mc:AlternateContent>
          <mc:Choice xmlns:a14="http://schemas.microsoft.com/office/drawing/2010/main" Requires="a14">
            <p:sp>
              <p:nvSpPr>
                <p:cNvPr id="1054" name=""/>
                <p:cNvSpPr txBox="1"/>
                <p:nvPr/>
              </p:nvSpPr>
              <p:spPr>
                <a:xfrm>
                  <a:off x="8319960" y="1981080"/>
                  <a:ext cx="67176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55" name=""/>
            <p:cNvSpPr/>
            <p:nvPr/>
          </p:nvSpPr>
          <p:spPr>
            <a:xfrm>
              <a:off x="8077320" y="2057400"/>
              <a:ext cx="761760" cy="1600200"/>
            </a:xfrm>
            <a:custGeom>
              <a:avLst/>
              <a:gdLst/>
              <a:ahLst/>
              <a:rect l="l" t="t" r="r" b="b"/>
              <a:pathLst>
                <a:path w="480" h="1008">
                  <a:moveTo>
                    <a:pt x="480" y="0"/>
                  </a:moveTo>
                  <a:cubicBezTo>
                    <a:pt x="448" y="360"/>
                    <a:pt x="416" y="720"/>
                    <a:pt x="336" y="864"/>
                  </a:cubicBezTo>
                  <a:cubicBezTo>
                    <a:pt x="256" y="1008"/>
                    <a:pt x="128" y="936"/>
                    <a:pt x="0" y="864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4730760" y="3276720"/>
                <a:ext cx="3378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4952880" y="3581280"/>
                <a:ext cx="2324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j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58" name=""/>
          <p:cNvGrpSpPr/>
          <p:nvPr/>
        </p:nvGrpSpPr>
        <p:grpSpPr>
          <a:xfrm>
            <a:off x="8153280" y="1219320"/>
            <a:ext cx="900360" cy="3011400"/>
            <a:chOff x="8153280" y="1219320"/>
            <a:chExt cx="900360" cy="3011400"/>
          </a:xfrm>
        </p:grpSpPr>
        <p:sp>
          <p:nvSpPr>
            <p:cNvPr id="1059" name=""/>
            <p:cNvSpPr/>
            <p:nvPr/>
          </p:nvSpPr>
          <p:spPr>
            <a:xfrm>
              <a:off x="8497800" y="1298520"/>
              <a:ext cx="555840" cy="2932200"/>
            </a:xfrm>
            <a:custGeom>
              <a:avLst/>
              <a:gdLst/>
              <a:ahLst/>
              <a:rect l="l" t="t" r="r" b="b"/>
              <a:pathLst>
                <a:path w="350" h="1847">
                  <a:moveTo>
                    <a:pt x="0" y="24"/>
                  </a:moveTo>
                  <a:cubicBezTo>
                    <a:pt x="113" y="15"/>
                    <a:pt x="230" y="0"/>
                    <a:pt x="343" y="0"/>
                  </a:cubicBezTo>
                  <a:cubicBezTo>
                    <a:pt x="350" y="427"/>
                    <a:pt x="345" y="851"/>
                    <a:pt x="328" y="1278"/>
                  </a:cubicBezTo>
                  <a:cubicBezTo>
                    <a:pt x="325" y="1452"/>
                    <a:pt x="330" y="1626"/>
                    <a:pt x="320" y="1800"/>
                  </a:cubicBezTo>
                  <a:cubicBezTo>
                    <a:pt x="318" y="1831"/>
                    <a:pt x="156" y="1847"/>
                    <a:pt x="141" y="1847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0" name=""/>
                <p:cNvSpPr txBox="1"/>
                <p:nvPr/>
              </p:nvSpPr>
              <p:spPr>
                <a:xfrm>
                  <a:off x="8153280" y="1219320"/>
                  <a:ext cx="3812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×</m:t>
                      </m:r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4876920" y="3886200"/>
                <a:ext cx="3797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j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62" name=""/>
          <p:cNvGrpSpPr/>
          <p:nvPr/>
        </p:nvGrpSpPr>
        <p:grpSpPr>
          <a:xfrm>
            <a:off x="4629240" y="3649680"/>
            <a:ext cx="2685960" cy="1519200"/>
            <a:chOff x="4629240" y="3649680"/>
            <a:chExt cx="2685960" cy="1519200"/>
          </a:xfrm>
        </p:grpSpPr>
        <p:sp>
          <p:nvSpPr>
            <p:cNvPr id="1063" name=""/>
            <p:cNvSpPr/>
            <p:nvPr/>
          </p:nvSpPr>
          <p:spPr>
            <a:xfrm>
              <a:off x="4629240" y="3649680"/>
              <a:ext cx="355680" cy="1274760"/>
            </a:xfrm>
            <a:custGeom>
              <a:avLst/>
              <a:gdLst/>
              <a:ahLst/>
              <a:rect l="l" t="t" r="r" b="b"/>
              <a:pathLst>
                <a:path w="224" h="803">
                  <a:moveTo>
                    <a:pt x="217" y="0"/>
                  </a:moveTo>
                  <a:cubicBezTo>
                    <a:pt x="59" y="48"/>
                    <a:pt x="58" y="15"/>
                    <a:pt x="37" y="140"/>
                  </a:cubicBezTo>
                  <a:cubicBezTo>
                    <a:pt x="31" y="243"/>
                    <a:pt x="20" y="325"/>
                    <a:pt x="14" y="429"/>
                  </a:cubicBezTo>
                  <a:cubicBezTo>
                    <a:pt x="42" y="457"/>
                    <a:pt x="55" y="457"/>
                    <a:pt x="92" y="468"/>
                  </a:cubicBezTo>
                  <a:cubicBezTo>
                    <a:pt x="108" y="473"/>
                    <a:pt x="139" y="483"/>
                    <a:pt x="139" y="483"/>
                  </a:cubicBezTo>
                  <a:cubicBezTo>
                    <a:pt x="83" y="502"/>
                    <a:pt x="106" y="490"/>
                    <a:pt x="69" y="514"/>
                  </a:cubicBezTo>
                  <a:cubicBezTo>
                    <a:pt x="64" y="522"/>
                    <a:pt x="53" y="528"/>
                    <a:pt x="53" y="538"/>
                  </a:cubicBezTo>
                  <a:cubicBezTo>
                    <a:pt x="45" y="782"/>
                    <a:pt x="0" y="769"/>
                    <a:pt x="154" y="787"/>
                  </a:cubicBezTo>
                  <a:cubicBezTo>
                    <a:pt x="177" y="795"/>
                    <a:pt x="224" y="803"/>
                    <a:pt x="224" y="803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4" name=""/>
                <p:cNvSpPr txBox="1"/>
                <p:nvPr/>
              </p:nvSpPr>
              <p:spPr>
                <a:xfrm>
                  <a:off x="4876920" y="4572000"/>
                  <a:ext cx="24382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j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  <m:r>
                            <m:t xml:space="preserve">j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7315200" y="4572000"/>
                <a:ext cx="1612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6" name=""/>
              <p:cNvSpPr txBox="1"/>
              <p:nvPr/>
            </p:nvSpPr>
            <p:spPr>
              <a:xfrm>
                <a:off x="5638680" y="5257800"/>
                <a:ext cx="2527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7" name=""/>
          <p:cNvSpPr/>
          <p:nvPr/>
        </p:nvSpPr>
        <p:spPr>
          <a:xfrm>
            <a:off x="5362560" y="5867280"/>
            <a:ext cx="3146400" cy="5806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w we can draw the Nor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ivalent circuit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8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6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1" name=""/>
          <p:cNvGraphicFramePr/>
          <p:nvPr/>
        </p:nvGraphicFramePr>
        <p:xfrm>
          <a:off x="152280" y="380880"/>
          <a:ext cx="546588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80880"/>
                    <a:ext cx="546588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3" name=""/>
          <p:cNvSpPr/>
          <p:nvPr/>
        </p:nvSpPr>
        <p:spPr>
          <a:xfrm>
            <a:off x="2287440" y="684360"/>
            <a:ext cx="1219320" cy="1981080"/>
          </a:xfrm>
          <a:prstGeom prst="rect">
            <a:avLst/>
          </a:prstGeom>
          <a:solidFill>
            <a:srgbClr val="cc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2819520" y="1600200"/>
                <a:ext cx="430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"/>
              <p:cNvSpPr txBox="1"/>
              <p:nvPr/>
            </p:nvSpPr>
            <p:spPr>
              <a:xfrm>
                <a:off x="457200" y="2057400"/>
                <a:ext cx="368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076" name=""/>
          <p:cNvGrpSpPr/>
          <p:nvPr/>
        </p:nvGrpSpPr>
        <p:grpSpPr>
          <a:xfrm>
            <a:off x="990720" y="3200400"/>
            <a:ext cx="5115960" cy="647640"/>
            <a:chOff x="990720" y="3200400"/>
            <a:chExt cx="5115960" cy="647640"/>
          </a:xfrm>
        </p:grpSpPr>
        <mc:AlternateContent>
          <mc:Choice xmlns:a14="http://schemas.microsoft.com/office/drawing/2010/main" Requires="a14">
            <p:sp>
              <p:nvSpPr>
                <p:cNvPr id="1077" name=""/>
                <p:cNvSpPr txBox="1"/>
                <p:nvPr/>
              </p:nvSpPr>
              <p:spPr>
                <a:xfrm>
                  <a:off x="990720" y="3200400"/>
                  <a:ext cx="32385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8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  <m:r>
                                <m:t xml:space="preserve">j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</m:den>
                          </m:f>
                        </m:e>
                      </m:d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78" name=""/>
            <p:cNvSpPr/>
            <p:nvPr/>
          </p:nvSpPr>
          <p:spPr>
            <a:xfrm>
              <a:off x="4356360" y="3352680"/>
              <a:ext cx="1750320" cy="337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 Divi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9" name=""/>
          <p:cNvGrpSpPr/>
          <p:nvPr/>
        </p:nvGrpSpPr>
        <p:grpSpPr>
          <a:xfrm>
            <a:off x="4800600" y="5334120"/>
            <a:ext cx="383760" cy="993600"/>
            <a:chOff x="4800600" y="5334120"/>
            <a:chExt cx="383760" cy="993600"/>
          </a:xfrm>
        </p:grpSpPr>
        <mc:AlternateContent>
          <mc:Choice xmlns:a14="http://schemas.microsoft.com/office/drawing/2010/main" Requires="a14">
            <p:sp>
              <p:nvSpPr>
                <p:cNvPr id="1080" name=""/>
                <p:cNvSpPr txBox="1"/>
                <p:nvPr/>
              </p:nvSpPr>
              <p:spPr>
                <a:xfrm>
                  <a:off x="4854240" y="5334120"/>
                  <a:ext cx="33012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j</m:t>
                          </m:r>
                        </m:num>
                        <m:den>
                          <m:r>
                            <m:t xml:space="preserve">j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81" name=""/>
            <p:cNvSpPr/>
            <p:nvPr/>
          </p:nvSpPr>
          <p:spPr>
            <a:xfrm>
              <a:off x="4800600" y="5956560"/>
              <a:ext cx="280800" cy="371160"/>
            </a:xfrm>
            <a:custGeom>
              <a:avLst/>
              <a:gdLst/>
              <a:ahLst/>
              <a:rect l="l" t="t" r="r" b="b"/>
              <a:pathLst>
                <a:path w="177" h="234">
                  <a:moveTo>
                    <a:pt x="163" y="0"/>
                  </a:moveTo>
                  <a:cubicBezTo>
                    <a:pt x="177" y="124"/>
                    <a:pt x="171" y="131"/>
                    <a:pt x="86" y="226"/>
                  </a:cubicBezTo>
                  <a:cubicBezTo>
                    <a:pt x="79" y="234"/>
                    <a:pt x="17" y="233"/>
                    <a:pt x="0" y="23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82" name=""/>
              <p:cNvSpPr txBox="1"/>
              <p:nvPr/>
            </p:nvSpPr>
            <p:spPr>
              <a:xfrm>
                <a:off x="4952880" y="4648320"/>
                <a:ext cx="1638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83" name=""/>
          <p:cNvGrpSpPr/>
          <p:nvPr/>
        </p:nvGrpSpPr>
        <p:grpSpPr>
          <a:xfrm>
            <a:off x="185400" y="4114800"/>
            <a:ext cx="4704120" cy="2502000"/>
            <a:chOff x="185400" y="4114800"/>
            <a:chExt cx="4704120" cy="2502000"/>
          </a:xfrm>
        </p:grpSpPr>
        <p:grpSp>
          <p:nvGrpSpPr>
            <p:cNvPr id="1084" name=""/>
            <p:cNvGrpSpPr/>
            <p:nvPr/>
          </p:nvGrpSpPr>
          <p:grpSpPr>
            <a:xfrm>
              <a:off x="185400" y="4648320"/>
              <a:ext cx="4704120" cy="1968480"/>
              <a:chOff x="185400" y="4648320"/>
              <a:chExt cx="4704120" cy="1968480"/>
            </a:xfrm>
          </p:grpSpPr>
          <mc:AlternateContent>
            <mc:Choice xmlns:a14="http://schemas.microsoft.com/office/drawing/2010/main" Requires="a14">
              <p:sp>
                <p:nvSpPr>
                  <p:cNvPr id="1085" name=""/>
                  <p:cNvSpPr txBox="1"/>
                  <p:nvPr/>
                </p:nvSpPr>
                <p:spPr>
                  <a:xfrm>
                    <a:off x="3581280" y="4648320"/>
                    <a:ext cx="1308240" cy="596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086" name=""/>
                  <p:cNvSpPr txBox="1"/>
                  <p:nvPr/>
                </p:nvSpPr>
                <p:spPr>
                  <a:xfrm>
                    <a:off x="3581280" y="6019920"/>
                    <a:ext cx="1206360" cy="596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j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087" name=""/>
                  <p:cNvSpPr txBox="1"/>
                  <p:nvPr/>
                </p:nvSpPr>
                <p:spPr>
                  <a:xfrm>
                    <a:off x="3581280" y="5346720"/>
                    <a:ext cx="1219320" cy="596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088" name=""/>
              <p:cNvSpPr/>
              <p:nvPr/>
            </p:nvSpPr>
            <p:spPr>
              <a:xfrm>
                <a:off x="185400" y="4724280"/>
                <a:ext cx="2530800" cy="3373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Using Norton’s metho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195120" y="5486400"/>
                <a:ext cx="1890720" cy="3373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Using Thevenin’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09160" y="6095880"/>
                <a:ext cx="3278880" cy="3373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Using Node and Loop method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1" name=""/>
            <p:cNvSpPr/>
            <p:nvPr/>
          </p:nvSpPr>
          <p:spPr>
            <a:xfrm>
              <a:off x="279360" y="4114800"/>
              <a:ext cx="314784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CE OF 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2" name=""/>
          <p:cNvSpPr/>
          <p:nvPr/>
        </p:nvSpPr>
        <p:spPr>
          <a:xfrm>
            <a:off x="445320" y="44280"/>
            <a:ext cx="3457440" cy="3373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RTON’S EQUIVALENT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3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9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"/>
          <p:cNvSpPr/>
          <p:nvPr/>
        </p:nvSpPr>
        <p:spPr>
          <a:xfrm>
            <a:off x="1832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7" name="E07.013_W0761" descr=""/>
          <p:cNvPicPr/>
          <p:nvPr/>
        </p:nvPicPr>
        <p:blipFill>
          <a:blip r:embed="rId1"/>
          <a:stretch/>
        </p:blipFill>
        <p:spPr>
          <a:xfrm>
            <a:off x="0" y="771480"/>
            <a:ext cx="4400640" cy="1362240"/>
          </a:xfrm>
          <a:prstGeom prst="rect">
            <a:avLst/>
          </a:prstGeom>
          <a:ln w="0">
            <a:noFill/>
          </a:ln>
        </p:spPr>
      </p:pic>
      <p:sp>
        <p:nvSpPr>
          <p:cNvPr id="1098" name=""/>
          <p:cNvSpPr/>
          <p:nvPr/>
        </p:nvSpPr>
        <p:spPr>
          <a:xfrm>
            <a:off x="115920" y="457200"/>
            <a:ext cx="2382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NODAL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9" name=""/>
              <p:cNvSpPr txBox="1"/>
              <p:nvPr/>
            </p:nvSpPr>
            <p:spPr>
              <a:xfrm>
                <a:off x="2819520" y="90360"/>
                <a:ext cx="1384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100" name=""/>
          <p:cNvGrpSpPr/>
          <p:nvPr/>
        </p:nvGrpSpPr>
        <p:grpSpPr>
          <a:xfrm>
            <a:off x="2133720" y="762120"/>
            <a:ext cx="457200" cy="380880"/>
            <a:chOff x="2133720" y="762120"/>
            <a:chExt cx="457200" cy="380880"/>
          </a:xfrm>
        </p:grpSpPr>
        <p:sp>
          <p:nvSpPr>
            <p:cNvPr id="1101" name=""/>
            <p:cNvSpPr/>
            <p:nvPr/>
          </p:nvSpPr>
          <p:spPr>
            <a:xfrm>
              <a:off x="2133720" y="1066680"/>
              <a:ext cx="457200" cy="7632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2" name=""/>
                <p:cNvSpPr txBox="1"/>
                <p:nvPr/>
              </p:nvSpPr>
              <p:spPr>
                <a:xfrm>
                  <a:off x="2362320" y="762120"/>
                  <a:ext cx="214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03" name=""/>
              <p:cNvSpPr txBox="1"/>
              <p:nvPr/>
            </p:nvSpPr>
            <p:spPr>
              <a:xfrm>
                <a:off x="457200" y="2209680"/>
                <a:ext cx="3238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04" name=""/>
          <p:cNvGrpSpPr/>
          <p:nvPr/>
        </p:nvGrpSpPr>
        <p:grpSpPr>
          <a:xfrm>
            <a:off x="1371600" y="1219320"/>
            <a:ext cx="1828800" cy="380880"/>
            <a:chOff x="1371600" y="1219320"/>
            <a:chExt cx="1828800" cy="380880"/>
          </a:xfrm>
        </p:grpSpPr>
        <p:sp>
          <p:nvSpPr>
            <p:cNvPr id="1105" name=""/>
            <p:cNvSpPr/>
            <p:nvPr/>
          </p:nvSpPr>
          <p:spPr>
            <a:xfrm flipH="1">
              <a:off x="1371600" y="121932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905120" y="1219320"/>
              <a:ext cx="0" cy="3045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590920" y="1295280"/>
              <a:ext cx="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895480" y="1295280"/>
              <a:ext cx="304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9" name=""/>
          <p:cNvGrpSpPr/>
          <p:nvPr/>
        </p:nvGrpSpPr>
        <p:grpSpPr>
          <a:xfrm>
            <a:off x="3352320" y="1219320"/>
            <a:ext cx="532440" cy="382320"/>
            <a:chOff x="3352320" y="1219320"/>
            <a:chExt cx="532440" cy="382320"/>
          </a:xfrm>
        </p:grpSpPr>
        <p:sp>
          <p:nvSpPr>
            <p:cNvPr id="1110" name=""/>
            <p:cNvSpPr/>
            <p:nvPr/>
          </p:nvSpPr>
          <p:spPr>
            <a:xfrm>
              <a:off x="3884760" y="129708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>
              <a:off x="3352320" y="1219320"/>
              <a:ext cx="304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533520" y="2908440"/>
                <a:ext cx="1473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2057400" y="3048120"/>
                <a:ext cx="1486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"/>
              <p:cNvSpPr txBox="1"/>
              <p:nvPr/>
            </p:nvSpPr>
            <p:spPr>
              <a:xfrm>
                <a:off x="368280" y="3581280"/>
                <a:ext cx="3898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15" name=""/>
          <p:cNvGrpSpPr/>
          <p:nvPr/>
        </p:nvGrpSpPr>
        <p:grpSpPr>
          <a:xfrm>
            <a:off x="3733920" y="2362320"/>
            <a:ext cx="507960" cy="1253880"/>
            <a:chOff x="3733920" y="2362320"/>
            <a:chExt cx="507960" cy="1253880"/>
          </a:xfrm>
        </p:grpSpPr>
        <mc:AlternateContent>
          <mc:Choice xmlns:a14="http://schemas.microsoft.com/office/drawing/2010/main" Requires="a14">
            <p:sp>
              <p:nvSpPr>
                <p:cNvPr id="1116" name=""/>
                <p:cNvSpPr txBox="1"/>
                <p:nvPr/>
              </p:nvSpPr>
              <p:spPr>
                <a:xfrm>
                  <a:off x="3733920" y="2362320"/>
                  <a:ext cx="5079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×</m:t>
                      </m:r>
                      <m:r>
                        <m:t xml:space="preserve">2</m:t>
                      </m:r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17" name=""/>
            <p:cNvSpPr/>
            <p:nvPr/>
          </p:nvSpPr>
          <p:spPr>
            <a:xfrm>
              <a:off x="3921120" y="2635200"/>
              <a:ext cx="125280" cy="981000"/>
            </a:xfrm>
            <a:custGeom>
              <a:avLst/>
              <a:gdLst/>
              <a:ahLst/>
              <a:rect l="l" t="t" r="r" b="b"/>
              <a:pathLst>
                <a:path w="79" h="618">
                  <a:moveTo>
                    <a:pt x="78" y="0"/>
                  </a:moveTo>
                  <a:cubicBezTo>
                    <a:pt x="61" y="167"/>
                    <a:pt x="79" y="338"/>
                    <a:pt x="70" y="506"/>
                  </a:cubicBezTo>
                  <a:cubicBezTo>
                    <a:pt x="69" y="518"/>
                    <a:pt x="52" y="581"/>
                    <a:pt x="47" y="584"/>
                  </a:cubicBezTo>
                  <a:cubicBezTo>
                    <a:pt x="24" y="600"/>
                    <a:pt x="0" y="618"/>
                    <a:pt x="0" y="608"/>
                  </a:cubicBezTo>
                  <a:cubicBezTo>
                    <a:pt x="0" y="598"/>
                    <a:pt x="24" y="592"/>
                    <a:pt x="24" y="59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330120" y="3962520"/>
                <a:ext cx="3708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j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9" name=""/>
              <p:cNvSpPr txBox="1"/>
              <p:nvPr/>
            </p:nvSpPr>
            <p:spPr>
              <a:xfrm>
                <a:off x="304920" y="4267080"/>
                <a:ext cx="3759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380880" y="4572000"/>
                <a:ext cx="1308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1" name=""/>
              <p:cNvSpPr txBox="1"/>
              <p:nvPr/>
            </p:nvSpPr>
            <p:spPr>
              <a:xfrm>
                <a:off x="1676520" y="4572000"/>
                <a:ext cx="2577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2" name=""/>
          <p:cNvSpPr/>
          <p:nvPr/>
        </p:nvSpPr>
        <p:spPr>
          <a:xfrm>
            <a:off x="4808880" y="135000"/>
            <a:ext cx="1649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793960" y="482760"/>
            <a:ext cx="2006640" cy="1731960"/>
          </a:xfrm>
          <a:custGeom>
            <a:avLst/>
            <a:gdLst/>
            <a:ahLst/>
            <a:rect l="l" t="t" r="r" b="b"/>
            <a:pathLst>
              <a:path w="1264" h="1091">
                <a:moveTo>
                  <a:pt x="1182" y="475"/>
                </a:moveTo>
                <a:cubicBezTo>
                  <a:pt x="1179" y="441"/>
                  <a:pt x="1185" y="406"/>
                  <a:pt x="1174" y="374"/>
                </a:cubicBezTo>
                <a:cubicBezTo>
                  <a:pt x="1164" y="347"/>
                  <a:pt x="1102" y="270"/>
                  <a:pt x="1080" y="234"/>
                </a:cubicBezTo>
                <a:cubicBezTo>
                  <a:pt x="1075" y="226"/>
                  <a:pt x="1072" y="216"/>
                  <a:pt x="1065" y="210"/>
                </a:cubicBezTo>
                <a:cubicBezTo>
                  <a:pt x="916" y="95"/>
                  <a:pt x="624" y="51"/>
                  <a:pt x="442" y="39"/>
                </a:cubicBezTo>
                <a:cubicBezTo>
                  <a:pt x="240" y="44"/>
                  <a:pt x="193" y="0"/>
                  <a:pt x="75" y="78"/>
                </a:cubicBezTo>
                <a:cubicBezTo>
                  <a:pt x="72" y="88"/>
                  <a:pt x="70" y="99"/>
                  <a:pt x="67" y="109"/>
                </a:cubicBezTo>
                <a:cubicBezTo>
                  <a:pt x="62" y="125"/>
                  <a:pt x="52" y="156"/>
                  <a:pt x="52" y="156"/>
                </a:cubicBezTo>
                <a:cubicBezTo>
                  <a:pt x="43" y="257"/>
                  <a:pt x="30" y="347"/>
                  <a:pt x="5" y="444"/>
                </a:cubicBezTo>
                <a:cubicBezTo>
                  <a:pt x="8" y="475"/>
                  <a:pt x="0" y="509"/>
                  <a:pt x="13" y="538"/>
                </a:cubicBezTo>
                <a:cubicBezTo>
                  <a:pt x="21" y="555"/>
                  <a:pt x="43" y="561"/>
                  <a:pt x="60" y="569"/>
                </a:cubicBezTo>
                <a:cubicBezTo>
                  <a:pt x="110" y="593"/>
                  <a:pt x="162" y="607"/>
                  <a:pt x="216" y="623"/>
                </a:cubicBezTo>
                <a:cubicBezTo>
                  <a:pt x="238" y="699"/>
                  <a:pt x="249" y="771"/>
                  <a:pt x="262" y="849"/>
                </a:cubicBezTo>
                <a:cubicBezTo>
                  <a:pt x="266" y="873"/>
                  <a:pt x="270" y="929"/>
                  <a:pt x="293" y="943"/>
                </a:cubicBezTo>
                <a:cubicBezTo>
                  <a:pt x="329" y="964"/>
                  <a:pt x="364" y="967"/>
                  <a:pt x="403" y="974"/>
                </a:cubicBezTo>
                <a:cubicBezTo>
                  <a:pt x="446" y="989"/>
                  <a:pt x="490" y="992"/>
                  <a:pt x="535" y="997"/>
                </a:cubicBezTo>
                <a:cubicBezTo>
                  <a:pt x="592" y="1012"/>
                  <a:pt x="648" y="1019"/>
                  <a:pt x="706" y="1029"/>
                </a:cubicBezTo>
                <a:cubicBezTo>
                  <a:pt x="796" y="1071"/>
                  <a:pt x="905" y="1079"/>
                  <a:pt x="1003" y="1091"/>
                </a:cubicBezTo>
                <a:cubicBezTo>
                  <a:pt x="1044" y="1086"/>
                  <a:pt x="1086" y="1081"/>
                  <a:pt x="1127" y="1075"/>
                </a:cubicBezTo>
                <a:cubicBezTo>
                  <a:pt x="1143" y="1073"/>
                  <a:pt x="1163" y="1079"/>
                  <a:pt x="1174" y="1068"/>
                </a:cubicBezTo>
                <a:cubicBezTo>
                  <a:pt x="1190" y="1052"/>
                  <a:pt x="1189" y="1026"/>
                  <a:pt x="1197" y="1005"/>
                </a:cubicBezTo>
                <a:cubicBezTo>
                  <a:pt x="1200" y="989"/>
                  <a:pt x="1203" y="974"/>
                  <a:pt x="1205" y="958"/>
                </a:cubicBezTo>
                <a:cubicBezTo>
                  <a:pt x="1208" y="937"/>
                  <a:pt x="1210" y="917"/>
                  <a:pt x="1213" y="896"/>
                </a:cubicBezTo>
                <a:cubicBezTo>
                  <a:pt x="1218" y="865"/>
                  <a:pt x="1229" y="803"/>
                  <a:pt x="1229" y="803"/>
                </a:cubicBezTo>
                <a:cubicBezTo>
                  <a:pt x="1237" y="701"/>
                  <a:pt x="1264" y="573"/>
                  <a:pt x="1229" y="475"/>
                </a:cubicBezTo>
                <a:cubicBezTo>
                  <a:pt x="1224" y="460"/>
                  <a:pt x="1198" y="475"/>
                  <a:pt x="1182" y="475"/>
                </a:cubicBezTo>
                <a:close/>
              </a:path>
            </a:pathLst>
          </a:custGeom>
          <a:noFill/>
          <a:ln w="255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4" name=""/>
              <p:cNvSpPr txBox="1"/>
              <p:nvPr/>
            </p:nvSpPr>
            <p:spPr>
              <a:xfrm>
                <a:off x="4800600" y="533520"/>
                <a:ext cx="23875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7162920" y="698400"/>
                <a:ext cx="7999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4648320" y="1447920"/>
                <a:ext cx="23241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6934320" y="1447920"/>
                <a:ext cx="2197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7924680" y="685800"/>
                <a:ext cx="1181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4648320" y="2057400"/>
                <a:ext cx="2514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130" name=""/>
          <p:cNvGraphicFramePr/>
          <p:nvPr/>
        </p:nvGraphicFramePr>
        <p:xfrm>
          <a:off x="5257800" y="2971800"/>
          <a:ext cx="3352680" cy="160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57800" y="2971800"/>
                    <a:ext cx="3352680" cy="16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6095880" y="4724280"/>
                <a:ext cx="18925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133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3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/>
          <p:nvPr/>
        </p:nvSpPr>
        <p:spPr>
          <a:xfrm>
            <a:off x="10692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7" name="E07.014_W0762" descr=""/>
          <p:cNvPicPr/>
          <p:nvPr/>
        </p:nvPicPr>
        <p:blipFill>
          <a:blip r:embed="rId1"/>
          <a:stretch/>
        </p:blipFill>
        <p:spPr>
          <a:xfrm>
            <a:off x="76320" y="743040"/>
            <a:ext cx="3362040" cy="2228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2590920" y="76320"/>
                <a:ext cx="4070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USING MESH ANALYSI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304920" y="3124080"/>
                <a:ext cx="163836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STRAINT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40" name=""/>
          <p:cNvSpPr/>
          <p:nvPr/>
        </p:nvSpPr>
        <p:spPr>
          <a:xfrm>
            <a:off x="1076400" y="1311120"/>
            <a:ext cx="1673280" cy="1398600"/>
          </a:xfrm>
          <a:custGeom>
            <a:avLst/>
            <a:gdLst/>
            <a:ahLst/>
            <a:rect l="l" t="t" r="r" b="b"/>
            <a:pathLst>
              <a:path w="1054" h="881">
                <a:moveTo>
                  <a:pt x="0" y="834"/>
                </a:moveTo>
                <a:cubicBezTo>
                  <a:pt x="9" y="556"/>
                  <a:pt x="23" y="279"/>
                  <a:pt x="23" y="0"/>
                </a:cubicBezTo>
                <a:cubicBezTo>
                  <a:pt x="362" y="10"/>
                  <a:pt x="561" y="19"/>
                  <a:pt x="943" y="23"/>
                </a:cubicBezTo>
                <a:cubicBezTo>
                  <a:pt x="964" y="26"/>
                  <a:pt x="1005" y="31"/>
                  <a:pt x="1005" y="31"/>
                </a:cubicBezTo>
                <a:cubicBezTo>
                  <a:pt x="1011" y="220"/>
                  <a:pt x="1008" y="412"/>
                  <a:pt x="1036" y="600"/>
                </a:cubicBezTo>
                <a:cubicBezTo>
                  <a:pt x="1054" y="839"/>
                  <a:pt x="1052" y="745"/>
                  <a:pt x="1052" y="881"/>
                </a:cubicBezTo>
                <a:cubicBezTo>
                  <a:pt x="645" y="858"/>
                  <a:pt x="959" y="873"/>
                  <a:pt x="109" y="873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304920" y="3809880"/>
                <a:ext cx="28321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UPERMESH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2057400" y="3429000"/>
                <a:ext cx="1371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3" name=""/>
              <p:cNvSpPr txBox="1"/>
              <p:nvPr/>
            </p:nvSpPr>
            <p:spPr>
              <a:xfrm>
                <a:off x="304920" y="4495680"/>
                <a:ext cx="255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j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4" name=""/>
              <p:cNvSpPr txBox="1"/>
              <p:nvPr/>
            </p:nvSpPr>
            <p:spPr>
              <a:xfrm>
                <a:off x="2819520" y="4495680"/>
                <a:ext cx="2133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j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5" name=""/>
              <p:cNvSpPr txBox="1"/>
              <p:nvPr/>
            </p:nvSpPr>
            <p:spPr>
              <a:xfrm>
                <a:off x="304920" y="4876920"/>
                <a:ext cx="4863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∠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6" name=""/>
          <p:cNvSpPr/>
          <p:nvPr/>
        </p:nvSpPr>
        <p:spPr>
          <a:xfrm>
            <a:off x="5176080" y="457200"/>
            <a:ext cx="1589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7" name=""/>
          <p:cNvGrpSpPr/>
          <p:nvPr/>
        </p:nvGrpSpPr>
        <p:grpSpPr>
          <a:xfrm>
            <a:off x="1671480" y="531720"/>
            <a:ext cx="228600" cy="534960"/>
            <a:chOff x="1671480" y="531720"/>
            <a:chExt cx="228600" cy="534960"/>
          </a:xfrm>
        </p:grpSpPr>
        <p:sp>
          <p:nvSpPr>
            <p:cNvPr id="1148" name=""/>
            <p:cNvSpPr/>
            <p:nvPr/>
          </p:nvSpPr>
          <p:spPr>
            <a:xfrm>
              <a:off x="1671480" y="838080"/>
              <a:ext cx="228600" cy="22860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9" name=""/>
                <p:cNvSpPr txBox="1"/>
                <p:nvPr/>
              </p:nvSpPr>
              <p:spPr>
                <a:xfrm>
                  <a:off x="1676520" y="531720"/>
                  <a:ext cx="214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50" name=""/>
              <p:cNvSpPr txBox="1"/>
              <p:nvPr/>
            </p:nvSpPr>
            <p:spPr>
              <a:xfrm>
                <a:off x="4876920" y="855720"/>
                <a:ext cx="3009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1" name=""/>
              <p:cNvSpPr txBox="1"/>
              <p:nvPr/>
            </p:nvSpPr>
            <p:spPr>
              <a:xfrm>
                <a:off x="5486400" y="1465200"/>
                <a:ext cx="1257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2" name=""/>
              <p:cNvSpPr txBox="1"/>
              <p:nvPr/>
            </p:nvSpPr>
            <p:spPr>
              <a:xfrm>
                <a:off x="5486400" y="2971800"/>
                <a:ext cx="2095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V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3" name=""/>
          <p:cNvSpPr/>
          <p:nvPr/>
        </p:nvSpPr>
        <p:spPr>
          <a:xfrm>
            <a:off x="4965840" y="2573280"/>
            <a:ext cx="3388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SOURCE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4" name=""/>
              <p:cNvSpPr txBox="1"/>
              <p:nvPr/>
            </p:nvSpPr>
            <p:spPr>
              <a:xfrm>
                <a:off x="5486400" y="3733920"/>
                <a:ext cx="2044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5" name=""/>
              <p:cNvSpPr txBox="1"/>
              <p:nvPr/>
            </p:nvSpPr>
            <p:spPr>
              <a:xfrm>
                <a:off x="6172200" y="4419720"/>
                <a:ext cx="12574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V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pic>
        <p:nvPicPr>
          <p:cNvPr id="1156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5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0" name="E07.015_W0763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3400560" cy="2295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2666880" y="152280"/>
                <a:ext cx="1384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62" name=""/>
          <p:cNvSpPr/>
          <p:nvPr/>
        </p:nvSpPr>
        <p:spPr>
          <a:xfrm>
            <a:off x="151200" y="2878200"/>
            <a:ext cx="2759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USING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-52560" y="3505320"/>
            <a:ext cx="3633840" cy="3062160"/>
            <a:chOff x="-52560" y="3505320"/>
            <a:chExt cx="3633840" cy="3062160"/>
          </a:xfrm>
        </p:grpSpPr>
        <p:graphicFrame>
          <p:nvGraphicFramePr>
            <p:cNvPr id="1164" name=""/>
            <p:cNvGraphicFramePr/>
            <p:nvPr/>
          </p:nvGraphicFramePr>
          <p:xfrm>
            <a:off x="-52560" y="3505320"/>
            <a:ext cx="3633840" cy="3062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6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-52560" y="3505320"/>
                      <a:ext cx="3633840" cy="306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166" name=""/>
                <p:cNvSpPr txBox="1"/>
                <p:nvPr/>
              </p:nvSpPr>
              <p:spPr>
                <a:xfrm>
                  <a:off x="3224160" y="5029200"/>
                  <a:ext cx="2397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67" name=""/>
          <p:cNvGrpSpPr/>
          <p:nvPr/>
        </p:nvGrpSpPr>
        <p:grpSpPr>
          <a:xfrm>
            <a:off x="4343400" y="0"/>
            <a:ext cx="4537080" cy="3062160"/>
            <a:chOff x="4343400" y="0"/>
            <a:chExt cx="4537080" cy="3062160"/>
          </a:xfrm>
        </p:grpSpPr>
        <p:graphicFrame>
          <p:nvGraphicFramePr>
            <p:cNvPr id="1168" name=""/>
            <p:cNvGraphicFramePr/>
            <p:nvPr/>
          </p:nvGraphicFramePr>
          <p:xfrm>
            <a:off x="4343400" y="0"/>
            <a:ext cx="4537080" cy="30621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16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343400" y="0"/>
                      <a:ext cx="4537080" cy="306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170" name=""/>
                <p:cNvSpPr txBox="1"/>
                <p:nvPr/>
              </p:nvSpPr>
              <p:spPr>
                <a:xfrm>
                  <a:off x="8534520" y="1447920"/>
                  <a:ext cx="2649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} } } {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71" name=""/>
              <p:cNvSpPr txBox="1"/>
              <p:nvPr/>
            </p:nvSpPr>
            <p:spPr>
              <a:xfrm>
                <a:off x="3809880" y="2286000"/>
                <a:ext cx="1130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1172" name=""/>
          <p:cNvGrpSpPr/>
          <p:nvPr/>
        </p:nvGrpSpPr>
        <p:grpSpPr>
          <a:xfrm>
            <a:off x="1219320" y="3595680"/>
            <a:ext cx="4432320" cy="1192320"/>
            <a:chOff x="1219320" y="3595680"/>
            <a:chExt cx="4432320" cy="1192320"/>
          </a:xfrm>
        </p:grpSpPr>
        <mc:AlternateContent>
          <mc:Choice xmlns:a14="http://schemas.microsoft.com/office/drawing/2010/main" Requires="a14">
            <p:sp>
              <p:nvSpPr>
                <p:cNvPr id="1173" name=""/>
                <p:cNvSpPr txBox="1"/>
                <p:nvPr/>
              </p:nvSpPr>
              <p:spPr>
                <a:xfrm>
                  <a:off x="1219320" y="3595680"/>
                  <a:ext cx="214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74" name=""/>
                <p:cNvSpPr txBox="1"/>
                <p:nvPr/>
              </p:nvSpPr>
              <p:spPr>
                <a:xfrm>
                  <a:off x="2819520" y="4191120"/>
                  <a:ext cx="283212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j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j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3124080" y="5486400"/>
                <a:ext cx="1257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176" name=""/>
          <p:cNvGrpSpPr/>
          <p:nvPr/>
        </p:nvGrpSpPr>
        <p:grpSpPr>
          <a:xfrm>
            <a:off x="5638680" y="90360"/>
            <a:ext cx="2654280" cy="3706920"/>
            <a:chOff x="5638680" y="90360"/>
            <a:chExt cx="2654280" cy="3706920"/>
          </a:xfrm>
        </p:grpSpPr>
        <mc:AlternateContent>
          <mc:Choice xmlns:a14="http://schemas.microsoft.com/office/drawing/2010/main" Requires="a14">
            <p:sp>
              <p:nvSpPr>
                <p:cNvPr id="1177" name=""/>
                <p:cNvSpPr txBox="1"/>
                <p:nvPr/>
              </p:nvSpPr>
              <p:spPr>
                <a:xfrm>
                  <a:off x="6553080" y="90360"/>
                  <a:ext cx="185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78" name=""/>
                <p:cNvSpPr txBox="1"/>
                <p:nvPr/>
              </p:nvSpPr>
              <p:spPr>
                <a:xfrm>
                  <a:off x="5638680" y="3200400"/>
                  <a:ext cx="26542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j</m:t>
                          </m:r>
                          <m:r>
                            <m:t xml:space="preserve">)</m:t>
                          </m:r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j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j</m:t>
                          </m:r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j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6781680" y="3886200"/>
                <a:ext cx="1308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 {  {2}  over  {2 - 2j} } V rSub { size 8{2} }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1180" name=""/>
          <p:cNvGrpSpPr/>
          <p:nvPr/>
        </p:nvGrpSpPr>
        <p:grpSpPr>
          <a:xfrm>
            <a:off x="-133200" y="3429000"/>
            <a:ext cx="3313080" cy="3232080"/>
            <a:chOff x="-133200" y="3429000"/>
            <a:chExt cx="3313080" cy="3232080"/>
          </a:xfrm>
        </p:grpSpPr>
        <p:sp>
          <p:nvSpPr>
            <p:cNvPr id="1181" name=""/>
            <p:cNvSpPr/>
            <p:nvPr/>
          </p:nvSpPr>
          <p:spPr>
            <a:xfrm>
              <a:off x="-133200" y="3449520"/>
              <a:ext cx="3313080" cy="3211560"/>
            </a:xfrm>
            <a:custGeom>
              <a:avLst/>
              <a:gdLst/>
              <a:ahLst/>
              <a:rect l="l" t="t" r="r" b="b"/>
              <a:pathLst>
                <a:path w="2087" h="2023">
                  <a:moveTo>
                    <a:pt x="793" y="445"/>
                  </a:moveTo>
                  <a:cubicBezTo>
                    <a:pt x="786" y="359"/>
                    <a:pt x="797" y="236"/>
                    <a:pt x="770" y="157"/>
                  </a:cubicBezTo>
                  <a:cubicBezTo>
                    <a:pt x="760" y="129"/>
                    <a:pt x="715" y="124"/>
                    <a:pt x="692" y="118"/>
                  </a:cubicBezTo>
                  <a:cubicBezTo>
                    <a:pt x="540" y="122"/>
                    <a:pt x="398" y="107"/>
                    <a:pt x="255" y="149"/>
                  </a:cubicBezTo>
                  <a:cubicBezTo>
                    <a:pt x="230" y="166"/>
                    <a:pt x="218" y="197"/>
                    <a:pt x="193" y="212"/>
                  </a:cubicBezTo>
                  <a:cubicBezTo>
                    <a:pt x="138" y="244"/>
                    <a:pt x="130" y="242"/>
                    <a:pt x="76" y="251"/>
                  </a:cubicBezTo>
                  <a:cubicBezTo>
                    <a:pt x="0" y="459"/>
                    <a:pt x="40" y="681"/>
                    <a:pt x="68" y="897"/>
                  </a:cubicBezTo>
                  <a:cubicBezTo>
                    <a:pt x="71" y="1087"/>
                    <a:pt x="72" y="1276"/>
                    <a:pt x="76" y="1466"/>
                  </a:cubicBezTo>
                  <a:cubicBezTo>
                    <a:pt x="80" y="1679"/>
                    <a:pt x="53" y="1848"/>
                    <a:pt x="232" y="1973"/>
                  </a:cubicBezTo>
                  <a:cubicBezTo>
                    <a:pt x="258" y="1970"/>
                    <a:pt x="286" y="1976"/>
                    <a:pt x="310" y="1965"/>
                  </a:cubicBezTo>
                  <a:cubicBezTo>
                    <a:pt x="330" y="1956"/>
                    <a:pt x="357" y="1918"/>
                    <a:pt x="357" y="1918"/>
                  </a:cubicBezTo>
                  <a:cubicBezTo>
                    <a:pt x="367" y="1858"/>
                    <a:pt x="388" y="1808"/>
                    <a:pt x="396" y="1747"/>
                  </a:cubicBezTo>
                  <a:cubicBezTo>
                    <a:pt x="406" y="1594"/>
                    <a:pt x="429" y="1441"/>
                    <a:pt x="474" y="1295"/>
                  </a:cubicBezTo>
                  <a:cubicBezTo>
                    <a:pt x="484" y="1225"/>
                    <a:pt x="505" y="1161"/>
                    <a:pt x="520" y="1092"/>
                  </a:cubicBezTo>
                  <a:cubicBezTo>
                    <a:pt x="523" y="1077"/>
                    <a:pt x="522" y="1060"/>
                    <a:pt x="528" y="1046"/>
                  </a:cubicBezTo>
                  <a:cubicBezTo>
                    <a:pt x="540" y="1018"/>
                    <a:pt x="559" y="994"/>
                    <a:pt x="575" y="968"/>
                  </a:cubicBezTo>
                  <a:cubicBezTo>
                    <a:pt x="600" y="869"/>
                    <a:pt x="628" y="770"/>
                    <a:pt x="653" y="671"/>
                  </a:cubicBezTo>
                  <a:cubicBezTo>
                    <a:pt x="658" y="650"/>
                    <a:pt x="684" y="640"/>
                    <a:pt x="700" y="625"/>
                  </a:cubicBezTo>
                  <a:cubicBezTo>
                    <a:pt x="714" y="566"/>
                    <a:pt x="726" y="499"/>
                    <a:pt x="754" y="445"/>
                  </a:cubicBezTo>
                  <a:cubicBezTo>
                    <a:pt x="768" y="419"/>
                    <a:pt x="783" y="396"/>
                    <a:pt x="793" y="368"/>
                  </a:cubicBezTo>
                  <a:cubicBezTo>
                    <a:pt x="790" y="329"/>
                    <a:pt x="785" y="290"/>
                    <a:pt x="785" y="251"/>
                  </a:cubicBezTo>
                  <a:cubicBezTo>
                    <a:pt x="785" y="215"/>
                    <a:pt x="784" y="177"/>
                    <a:pt x="793" y="142"/>
                  </a:cubicBezTo>
                  <a:cubicBezTo>
                    <a:pt x="814" y="59"/>
                    <a:pt x="940" y="54"/>
                    <a:pt x="1004" y="48"/>
                  </a:cubicBezTo>
                  <a:cubicBezTo>
                    <a:pt x="1040" y="45"/>
                    <a:pt x="1077" y="43"/>
                    <a:pt x="1113" y="40"/>
                  </a:cubicBezTo>
                  <a:cubicBezTo>
                    <a:pt x="1342" y="0"/>
                    <a:pt x="1648" y="33"/>
                    <a:pt x="1861" y="40"/>
                  </a:cubicBezTo>
                  <a:cubicBezTo>
                    <a:pt x="1881" y="104"/>
                    <a:pt x="1903" y="106"/>
                    <a:pt x="1939" y="157"/>
                  </a:cubicBezTo>
                  <a:cubicBezTo>
                    <a:pt x="1958" y="222"/>
                    <a:pt x="1957" y="219"/>
                    <a:pt x="1946" y="313"/>
                  </a:cubicBezTo>
                  <a:cubicBezTo>
                    <a:pt x="1943" y="340"/>
                    <a:pt x="1907" y="383"/>
                    <a:pt x="1907" y="383"/>
                  </a:cubicBezTo>
                  <a:cubicBezTo>
                    <a:pt x="1888" y="466"/>
                    <a:pt x="1842" y="537"/>
                    <a:pt x="1814" y="617"/>
                  </a:cubicBezTo>
                  <a:cubicBezTo>
                    <a:pt x="1818" y="700"/>
                    <a:pt x="1807" y="828"/>
                    <a:pt x="1861" y="905"/>
                  </a:cubicBezTo>
                  <a:cubicBezTo>
                    <a:pt x="1877" y="959"/>
                    <a:pt x="1858" y="920"/>
                    <a:pt x="1954" y="952"/>
                  </a:cubicBezTo>
                  <a:cubicBezTo>
                    <a:pt x="1965" y="956"/>
                    <a:pt x="1974" y="964"/>
                    <a:pt x="1985" y="968"/>
                  </a:cubicBezTo>
                  <a:cubicBezTo>
                    <a:pt x="1993" y="971"/>
                    <a:pt x="2001" y="973"/>
                    <a:pt x="2009" y="975"/>
                  </a:cubicBezTo>
                  <a:cubicBezTo>
                    <a:pt x="2025" y="986"/>
                    <a:pt x="2055" y="1005"/>
                    <a:pt x="2063" y="1022"/>
                  </a:cubicBezTo>
                  <a:cubicBezTo>
                    <a:pt x="2071" y="1039"/>
                    <a:pt x="2066" y="1059"/>
                    <a:pt x="2071" y="1077"/>
                  </a:cubicBezTo>
                  <a:cubicBezTo>
                    <a:pt x="2074" y="1088"/>
                    <a:pt x="2082" y="1098"/>
                    <a:pt x="2087" y="1108"/>
                  </a:cubicBezTo>
                  <a:cubicBezTo>
                    <a:pt x="2080" y="1223"/>
                    <a:pt x="2087" y="1287"/>
                    <a:pt x="2009" y="1365"/>
                  </a:cubicBezTo>
                  <a:cubicBezTo>
                    <a:pt x="1951" y="1536"/>
                    <a:pt x="1997" y="1385"/>
                    <a:pt x="1985" y="1802"/>
                  </a:cubicBezTo>
                  <a:cubicBezTo>
                    <a:pt x="1980" y="1962"/>
                    <a:pt x="2009" y="1976"/>
                    <a:pt x="1876" y="2020"/>
                  </a:cubicBezTo>
                  <a:cubicBezTo>
                    <a:pt x="1809" y="2017"/>
                    <a:pt x="1740" y="2023"/>
                    <a:pt x="1674" y="2012"/>
                  </a:cubicBezTo>
                  <a:cubicBezTo>
                    <a:pt x="1653" y="2008"/>
                    <a:pt x="1628" y="1919"/>
                    <a:pt x="1611" y="1895"/>
                  </a:cubicBezTo>
                  <a:cubicBezTo>
                    <a:pt x="1599" y="1816"/>
                    <a:pt x="1580" y="1741"/>
                    <a:pt x="1572" y="1661"/>
                  </a:cubicBezTo>
                  <a:cubicBezTo>
                    <a:pt x="1576" y="1256"/>
                    <a:pt x="1575" y="898"/>
                    <a:pt x="1604" y="508"/>
                  </a:cubicBezTo>
                  <a:cubicBezTo>
                    <a:pt x="1565" y="432"/>
                    <a:pt x="1423" y="441"/>
                    <a:pt x="1354" y="438"/>
                  </a:cubicBezTo>
                  <a:cubicBezTo>
                    <a:pt x="1292" y="435"/>
                    <a:pt x="1229" y="433"/>
                    <a:pt x="1167" y="430"/>
                  </a:cubicBezTo>
                  <a:cubicBezTo>
                    <a:pt x="1111" y="410"/>
                    <a:pt x="1131" y="308"/>
                    <a:pt x="1128" y="266"/>
                  </a:cubicBezTo>
                  <a:cubicBezTo>
                    <a:pt x="1124" y="218"/>
                    <a:pt x="1105" y="159"/>
                    <a:pt x="1105" y="11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2" name=""/>
                <p:cNvSpPr txBox="1"/>
                <p:nvPr/>
              </p:nvSpPr>
              <p:spPr>
                <a:xfrm>
                  <a:off x="0" y="3429000"/>
                  <a:ext cx="10288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183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8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33240" y="533520"/>
                <a:ext cx="64533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IND  FREQUENCY  AND  PHASE  ANGLE  BETWEEN  VOLTAG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287280" y="1278000"/>
            <a:ext cx="68864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in radians per second  is the factor of the time 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7391520" y="1295280"/>
                <a:ext cx="1320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581280" y="1676520"/>
                <a:ext cx="21844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1052280" y="2344680"/>
            <a:ext cx="71362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find phase angle we must express both sinusoids using the s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igonometric function; either sine or cosine with positive amplitu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362320" y="3657600"/>
                <a:ext cx="43178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143000" y="3149640"/>
                <a:ext cx="55389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ke  care  of  minus  sign  with 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143000" y="4114800"/>
                <a:ext cx="5283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hange  sine  into  cosine  with  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362320" y="4535640"/>
                <a:ext cx="42544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344960" y="4844880"/>
            <a:ext cx="65541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like to have the phase shifts less than 180 in absolute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755800" y="5221440"/>
                <a:ext cx="35686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066680" y="5562720"/>
                <a:ext cx="23749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733920" y="5562720"/>
                <a:ext cx="32763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7010280" y="5791320"/>
                <a:ext cx="2057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leads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by 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594240" y="6019920"/>
                <a:ext cx="34290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7086600" y="6172200"/>
                <a:ext cx="1943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lags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by 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8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6" name="E07.015_W0763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3400560" cy="2295360"/>
          </a:xfrm>
          <a:prstGeom prst="rect">
            <a:avLst/>
          </a:prstGeom>
          <a:ln w="0">
            <a:noFill/>
          </a:ln>
        </p:spPr>
      </p:pic>
      <p:sp>
        <p:nvSpPr>
          <p:cNvPr id="1187" name=""/>
          <p:cNvSpPr/>
          <p:nvPr/>
        </p:nvSpPr>
        <p:spPr>
          <a:xfrm>
            <a:off x="150480" y="76320"/>
            <a:ext cx="3623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USE SOURCE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92160" y="615960"/>
            <a:ext cx="1670040" cy="2674800"/>
          </a:xfrm>
          <a:custGeom>
            <a:avLst/>
            <a:gdLst/>
            <a:ahLst/>
            <a:rect l="l" t="t" r="r" b="b"/>
            <a:pathLst>
              <a:path w="1052" h="1685">
                <a:moveTo>
                  <a:pt x="20" y="25"/>
                </a:moveTo>
                <a:cubicBezTo>
                  <a:pt x="17" y="145"/>
                  <a:pt x="15" y="264"/>
                  <a:pt x="12" y="384"/>
                </a:cubicBezTo>
                <a:cubicBezTo>
                  <a:pt x="10" y="472"/>
                  <a:pt x="4" y="560"/>
                  <a:pt x="4" y="648"/>
                </a:cubicBezTo>
                <a:cubicBezTo>
                  <a:pt x="4" y="890"/>
                  <a:pt x="0" y="1139"/>
                  <a:pt x="36" y="1381"/>
                </a:cubicBezTo>
                <a:cubicBezTo>
                  <a:pt x="38" y="1392"/>
                  <a:pt x="58" y="1475"/>
                  <a:pt x="67" y="1490"/>
                </a:cubicBezTo>
                <a:cubicBezTo>
                  <a:pt x="142" y="1610"/>
                  <a:pt x="259" y="1671"/>
                  <a:pt x="394" y="1685"/>
                </a:cubicBezTo>
                <a:cubicBezTo>
                  <a:pt x="635" y="1642"/>
                  <a:pt x="644" y="1667"/>
                  <a:pt x="784" y="1529"/>
                </a:cubicBezTo>
                <a:cubicBezTo>
                  <a:pt x="806" y="1471"/>
                  <a:pt x="812" y="1419"/>
                  <a:pt x="823" y="1358"/>
                </a:cubicBezTo>
                <a:cubicBezTo>
                  <a:pt x="819" y="1208"/>
                  <a:pt x="825" y="1055"/>
                  <a:pt x="799" y="906"/>
                </a:cubicBezTo>
                <a:cubicBezTo>
                  <a:pt x="806" y="791"/>
                  <a:pt x="822" y="718"/>
                  <a:pt x="862" y="617"/>
                </a:cubicBezTo>
                <a:cubicBezTo>
                  <a:pt x="874" y="588"/>
                  <a:pt x="932" y="555"/>
                  <a:pt x="932" y="555"/>
                </a:cubicBezTo>
                <a:cubicBezTo>
                  <a:pt x="947" y="457"/>
                  <a:pt x="922" y="560"/>
                  <a:pt x="986" y="461"/>
                </a:cubicBezTo>
                <a:cubicBezTo>
                  <a:pt x="1025" y="401"/>
                  <a:pt x="1018" y="324"/>
                  <a:pt x="1041" y="259"/>
                </a:cubicBezTo>
                <a:cubicBezTo>
                  <a:pt x="1038" y="209"/>
                  <a:pt x="1052" y="152"/>
                  <a:pt x="1025" y="111"/>
                </a:cubicBezTo>
                <a:cubicBezTo>
                  <a:pt x="952" y="0"/>
                  <a:pt x="716" y="34"/>
                  <a:pt x="612" y="25"/>
                </a:cubicBezTo>
                <a:cubicBezTo>
                  <a:pt x="474" y="28"/>
                  <a:pt x="337" y="28"/>
                  <a:pt x="199" y="33"/>
                </a:cubicBezTo>
                <a:cubicBezTo>
                  <a:pt x="163" y="34"/>
                  <a:pt x="169" y="38"/>
                  <a:pt x="160" y="64"/>
                </a:cubicBezTo>
                <a:cubicBezTo>
                  <a:pt x="137" y="61"/>
                  <a:pt x="112" y="64"/>
                  <a:pt x="90" y="56"/>
                </a:cubicBezTo>
                <a:cubicBezTo>
                  <a:pt x="81" y="53"/>
                  <a:pt x="83" y="37"/>
                  <a:pt x="74" y="33"/>
                </a:cubicBezTo>
                <a:cubicBezTo>
                  <a:pt x="57" y="26"/>
                  <a:pt x="38" y="28"/>
                  <a:pt x="20" y="25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441440" y="692280"/>
            <a:ext cx="1268280" cy="2246040"/>
          </a:xfrm>
          <a:custGeom>
            <a:avLst/>
            <a:gdLst/>
            <a:ahLst/>
            <a:rect l="l" t="t" r="r" b="b"/>
            <a:pathLst>
              <a:path w="799" h="1415">
                <a:moveTo>
                  <a:pt x="612" y="367"/>
                </a:moveTo>
                <a:cubicBezTo>
                  <a:pt x="626" y="319"/>
                  <a:pt x="583" y="298"/>
                  <a:pt x="557" y="265"/>
                </a:cubicBezTo>
                <a:cubicBezTo>
                  <a:pt x="523" y="222"/>
                  <a:pt x="488" y="177"/>
                  <a:pt x="456" y="133"/>
                </a:cubicBezTo>
                <a:cubicBezTo>
                  <a:pt x="447" y="77"/>
                  <a:pt x="419" y="19"/>
                  <a:pt x="362" y="0"/>
                </a:cubicBezTo>
                <a:cubicBezTo>
                  <a:pt x="331" y="5"/>
                  <a:pt x="300" y="11"/>
                  <a:pt x="269" y="16"/>
                </a:cubicBezTo>
                <a:cubicBezTo>
                  <a:pt x="248" y="19"/>
                  <a:pt x="225" y="15"/>
                  <a:pt x="206" y="24"/>
                </a:cubicBezTo>
                <a:cubicBezTo>
                  <a:pt x="199" y="27"/>
                  <a:pt x="201" y="39"/>
                  <a:pt x="199" y="47"/>
                </a:cubicBezTo>
                <a:cubicBezTo>
                  <a:pt x="204" y="64"/>
                  <a:pt x="221" y="77"/>
                  <a:pt x="222" y="94"/>
                </a:cubicBezTo>
                <a:cubicBezTo>
                  <a:pt x="228" y="208"/>
                  <a:pt x="179" y="316"/>
                  <a:pt x="167" y="429"/>
                </a:cubicBezTo>
                <a:cubicBezTo>
                  <a:pt x="162" y="536"/>
                  <a:pt x="156" y="600"/>
                  <a:pt x="121" y="694"/>
                </a:cubicBezTo>
                <a:cubicBezTo>
                  <a:pt x="108" y="798"/>
                  <a:pt x="87" y="901"/>
                  <a:pt x="74" y="1006"/>
                </a:cubicBezTo>
                <a:cubicBezTo>
                  <a:pt x="81" y="1277"/>
                  <a:pt x="0" y="1392"/>
                  <a:pt x="261" y="1403"/>
                </a:cubicBezTo>
                <a:cubicBezTo>
                  <a:pt x="365" y="1407"/>
                  <a:pt x="469" y="1408"/>
                  <a:pt x="573" y="1411"/>
                </a:cubicBezTo>
                <a:cubicBezTo>
                  <a:pt x="687" y="1404"/>
                  <a:pt x="714" y="1415"/>
                  <a:pt x="775" y="1333"/>
                </a:cubicBezTo>
                <a:cubicBezTo>
                  <a:pt x="790" y="1243"/>
                  <a:pt x="794" y="1160"/>
                  <a:pt x="799" y="1068"/>
                </a:cubicBezTo>
                <a:cubicBezTo>
                  <a:pt x="796" y="977"/>
                  <a:pt x="796" y="886"/>
                  <a:pt x="791" y="795"/>
                </a:cubicBezTo>
                <a:cubicBezTo>
                  <a:pt x="784" y="664"/>
                  <a:pt x="735" y="439"/>
                  <a:pt x="612" y="367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0" name=""/>
          <p:cNvGraphicFramePr/>
          <p:nvPr/>
        </p:nvGraphicFramePr>
        <p:xfrm>
          <a:off x="76320" y="3276720"/>
          <a:ext cx="4343400" cy="165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3276720"/>
                    <a:ext cx="4343400" cy="16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2" name=""/>
          <p:cNvSpPr/>
          <p:nvPr/>
        </p:nvSpPr>
        <p:spPr>
          <a:xfrm>
            <a:off x="-7920" y="3373560"/>
            <a:ext cx="1797120" cy="1922400"/>
          </a:xfrm>
          <a:custGeom>
            <a:avLst/>
            <a:gdLst/>
            <a:ahLst/>
            <a:rect l="l" t="t" r="r" b="b"/>
            <a:pathLst>
              <a:path w="1132" h="1211">
                <a:moveTo>
                  <a:pt x="1119" y="345"/>
                </a:moveTo>
                <a:cubicBezTo>
                  <a:pt x="1132" y="260"/>
                  <a:pt x="1105" y="250"/>
                  <a:pt x="1057" y="182"/>
                </a:cubicBezTo>
                <a:cubicBezTo>
                  <a:pt x="1042" y="160"/>
                  <a:pt x="1034" y="133"/>
                  <a:pt x="1018" y="112"/>
                </a:cubicBezTo>
                <a:cubicBezTo>
                  <a:pt x="1001" y="90"/>
                  <a:pt x="978" y="86"/>
                  <a:pt x="956" y="73"/>
                </a:cubicBezTo>
                <a:cubicBezTo>
                  <a:pt x="881" y="31"/>
                  <a:pt x="860" y="40"/>
                  <a:pt x="761" y="34"/>
                </a:cubicBezTo>
                <a:cubicBezTo>
                  <a:pt x="636" y="36"/>
                  <a:pt x="420" y="0"/>
                  <a:pt x="293" y="96"/>
                </a:cubicBezTo>
                <a:cubicBezTo>
                  <a:pt x="271" y="113"/>
                  <a:pt x="253" y="134"/>
                  <a:pt x="231" y="151"/>
                </a:cubicBezTo>
                <a:cubicBezTo>
                  <a:pt x="220" y="173"/>
                  <a:pt x="201" y="190"/>
                  <a:pt x="192" y="213"/>
                </a:cubicBezTo>
                <a:cubicBezTo>
                  <a:pt x="174" y="258"/>
                  <a:pt x="174" y="303"/>
                  <a:pt x="145" y="345"/>
                </a:cubicBezTo>
                <a:cubicBezTo>
                  <a:pt x="135" y="375"/>
                  <a:pt x="106" y="431"/>
                  <a:pt x="106" y="431"/>
                </a:cubicBezTo>
                <a:cubicBezTo>
                  <a:pt x="72" y="580"/>
                  <a:pt x="44" y="731"/>
                  <a:pt x="28" y="883"/>
                </a:cubicBezTo>
                <a:cubicBezTo>
                  <a:pt x="35" y="1024"/>
                  <a:pt x="0" y="1041"/>
                  <a:pt x="106" y="1078"/>
                </a:cubicBezTo>
                <a:cubicBezTo>
                  <a:pt x="151" y="1111"/>
                  <a:pt x="194" y="1120"/>
                  <a:pt x="247" y="1133"/>
                </a:cubicBezTo>
                <a:cubicBezTo>
                  <a:pt x="263" y="1137"/>
                  <a:pt x="278" y="1142"/>
                  <a:pt x="293" y="1148"/>
                </a:cubicBezTo>
                <a:cubicBezTo>
                  <a:pt x="304" y="1152"/>
                  <a:pt x="313" y="1161"/>
                  <a:pt x="324" y="1164"/>
                </a:cubicBezTo>
                <a:cubicBezTo>
                  <a:pt x="452" y="1203"/>
                  <a:pt x="606" y="1203"/>
                  <a:pt x="738" y="1210"/>
                </a:cubicBezTo>
                <a:cubicBezTo>
                  <a:pt x="808" y="1208"/>
                  <a:pt x="878" y="1211"/>
                  <a:pt x="948" y="1203"/>
                </a:cubicBezTo>
                <a:cubicBezTo>
                  <a:pt x="973" y="1200"/>
                  <a:pt x="1018" y="1179"/>
                  <a:pt x="1018" y="1179"/>
                </a:cubicBezTo>
                <a:cubicBezTo>
                  <a:pt x="1031" y="1141"/>
                  <a:pt x="1043" y="1118"/>
                  <a:pt x="1065" y="1086"/>
                </a:cubicBezTo>
                <a:cubicBezTo>
                  <a:pt x="1084" y="1028"/>
                  <a:pt x="1059" y="1097"/>
                  <a:pt x="1088" y="1039"/>
                </a:cubicBezTo>
                <a:cubicBezTo>
                  <a:pt x="1115" y="985"/>
                  <a:pt x="1112" y="917"/>
                  <a:pt x="1112" y="86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676520" y="3438360"/>
            <a:ext cx="2174760" cy="1845000"/>
          </a:xfrm>
          <a:custGeom>
            <a:avLst/>
            <a:gdLst/>
            <a:ahLst/>
            <a:rect l="l" t="t" r="r" b="b"/>
            <a:pathLst>
              <a:path w="1370" h="1162">
                <a:moveTo>
                  <a:pt x="588" y="507"/>
                </a:moveTo>
                <a:cubicBezTo>
                  <a:pt x="577" y="489"/>
                  <a:pt x="570" y="469"/>
                  <a:pt x="557" y="452"/>
                </a:cubicBezTo>
                <a:cubicBezTo>
                  <a:pt x="548" y="440"/>
                  <a:pt x="536" y="432"/>
                  <a:pt x="526" y="421"/>
                </a:cubicBezTo>
                <a:cubicBezTo>
                  <a:pt x="520" y="414"/>
                  <a:pt x="515" y="406"/>
                  <a:pt x="510" y="398"/>
                </a:cubicBezTo>
                <a:cubicBezTo>
                  <a:pt x="494" y="234"/>
                  <a:pt x="465" y="60"/>
                  <a:pt x="284" y="0"/>
                </a:cubicBezTo>
                <a:cubicBezTo>
                  <a:pt x="279" y="1"/>
                  <a:pt x="47" y="26"/>
                  <a:pt x="35" y="32"/>
                </a:cubicBezTo>
                <a:cubicBezTo>
                  <a:pt x="18" y="41"/>
                  <a:pt x="20" y="68"/>
                  <a:pt x="12" y="86"/>
                </a:cubicBezTo>
                <a:cubicBezTo>
                  <a:pt x="21" y="118"/>
                  <a:pt x="35" y="122"/>
                  <a:pt x="66" y="133"/>
                </a:cubicBezTo>
                <a:cubicBezTo>
                  <a:pt x="71" y="154"/>
                  <a:pt x="80" y="174"/>
                  <a:pt x="82" y="195"/>
                </a:cubicBezTo>
                <a:cubicBezTo>
                  <a:pt x="84" y="215"/>
                  <a:pt x="55" y="287"/>
                  <a:pt x="51" y="312"/>
                </a:cubicBezTo>
                <a:cubicBezTo>
                  <a:pt x="45" y="481"/>
                  <a:pt x="0" y="799"/>
                  <a:pt x="74" y="943"/>
                </a:cubicBezTo>
                <a:cubicBezTo>
                  <a:pt x="77" y="974"/>
                  <a:pt x="77" y="1006"/>
                  <a:pt x="82" y="1037"/>
                </a:cubicBezTo>
                <a:cubicBezTo>
                  <a:pt x="102" y="1159"/>
                  <a:pt x="175" y="1149"/>
                  <a:pt x="277" y="1162"/>
                </a:cubicBezTo>
                <a:cubicBezTo>
                  <a:pt x="339" y="1157"/>
                  <a:pt x="409" y="1142"/>
                  <a:pt x="471" y="1138"/>
                </a:cubicBezTo>
                <a:cubicBezTo>
                  <a:pt x="578" y="1131"/>
                  <a:pt x="791" y="1123"/>
                  <a:pt x="791" y="1123"/>
                </a:cubicBezTo>
                <a:cubicBezTo>
                  <a:pt x="910" y="1111"/>
                  <a:pt x="1005" y="1047"/>
                  <a:pt x="1118" y="1006"/>
                </a:cubicBezTo>
                <a:cubicBezTo>
                  <a:pt x="1188" y="981"/>
                  <a:pt x="1271" y="968"/>
                  <a:pt x="1344" y="959"/>
                </a:cubicBezTo>
                <a:cubicBezTo>
                  <a:pt x="1352" y="954"/>
                  <a:pt x="1370" y="952"/>
                  <a:pt x="1367" y="943"/>
                </a:cubicBezTo>
                <a:cubicBezTo>
                  <a:pt x="1326" y="811"/>
                  <a:pt x="1292" y="830"/>
                  <a:pt x="1188" y="795"/>
                </a:cubicBezTo>
                <a:cubicBezTo>
                  <a:pt x="1152" y="767"/>
                  <a:pt x="1124" y="718"/>
                  <a:pt x="1079" y="710"/>
                </a:cubicBezTo>
                <a:cubicBezTo>
                  <a:pt x="1004" y="697"/>
                  <a:pt x="929" y="670"/>
                  <a:pt x="853" y="663"/>
                </a:cubicBezTo>
                <a:cubicBezTo>
                  <a:pt x="796" y="658"/>
                  <a:pt x="739" y="658"/>
                  <a:pt x="682" y="655"/>
                </a:cubicBezTo>
                <a:cubicBezTo>
                  <a:pt x="658" y="564"/>
                  <a:pt x="648" y="567"/>
                  <a:pt x="588" y="507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1125360" y="3290760"/>
            <a:ext cx="1319400" cy="2536920"/>
            <a:chOff x="1125360" y="3290760"/>
            <a:chExt cx="1319400" cy="2536920"/>
          </a:xfrm>
        </p:grpSpPr>
        <p:sp>
          <p:nvSpPr>
            <p:cNvPr id="1195" name=""/>
            <p:cNvSpPr/>
            <p:nvPr/>
          </p:nvSpPr>
          <p:spPr>
            <a:xfrm>
              <a:off x="1125360" y="3290760"/>
              <a:ext cx="1319400" cy="2490840"/>
            </a:xfrm>
            <a:custGeom>
              <a:avLst/>
              <a:gdLst/>
              <a:ahLst/>
              <a:rect l="l" t="t" r="r" b="b"/>
              <a:pathLst>
                <a:path w="831" h="1569">
                  <a:moveTo>
                    <a:pt x="133" y="1488"/>
                  </a:moveTo>
                  <a:cubicBezTo>
                    <a:pt x="130" y="1460"/>
                    <a:pt x="122" y="1379"/>
                    <a:pt x="117" y="1348"/>
                  </a:cubicBezTo>
                  <a:cubicBezTo>
                    <a:pt x="104" y="1274"/>
                    <a:pt x="72" y="1203"/>
                    <a:pt x="55" y="1130"/>
                  </a:cubicBezTo>
                  <a:cubicBezTo>
                    <a:pt x="52" y="1091"/>
                    <a:pt x="55" y="1051"/>
                    <a:pt x="47" y="1013"/>
                  </a:cubicBezTo>
                  <a:cubicBezTo>
                    <a:pt x="43" y="995"/>
                    <a:pt x="22" y="984"/>
                    <a:pt x="16" y="966"/>
                  </a:cubicBezTo>
                  <a:cubicBezTo>
                    <a:pt x="31" y="907"/>
                    <a:pt x="0" y="826"/>
                    <a:pt x="55" y="787"/>
                  </a:cubicBezTo>
                  <a:cubicBezTo>
                    <a:pt x="73" y="774"/>
                    <a:pt x="97" y="774"/>
                    <a:pt x="117" y="764"/>
                  </a:cubicBezTo>
                  <a:cubicBezTo>
                    <a:pt x="151" y="713"/>
                    <a:pt x="141" y="650"/>
                    <a:pt x="156" y="592"/>
                  </a:cubicBezTo>
                  <a:cubicBezTo>
                    <a:pt x="161" y="423"/>
                    <a:pt x="160" y="337"/>
                    <a:pt x="172" y="187"/>
                  </a:cubicBezTo>
                  <a:cubicBezTo>
                    <a:pt x="175" y="150"/>
                    <a:pt x="163" y="106"/>
                    <a:pt x="187" y="78"/>
                  </a:cubicBezTo>
                  <a:cubicBezTo>
                    <a:pt x="198" y="66"/>
                    <a:pt x="234" y="62"/>
                    <a:pt x="234" y="62"/>
                  </a:cubicBezTo>
                  <a:cubicBezTo>
                    <a:pt x="256" y="40"/>
                    <a:pt x="270" y="18"/>
                    <a:pt x="296" y="0"/>
                  </a:cubicBezTo>
                  <a:cubicBezTo>
                    <a:pt x="358" y="3"/>
                    <a:pt x="421" y="3"/>
                    <a:pt x="483" y="8"/>
                  </a:cubicBezTo>
                  <a:cubicBezTo>
                    <a:pt x="502" y="9"/>
                    <a:pt x="520" y="18"/>
                    <a:pt x="538" y="23"/>
                  </a:cubicBezTo>
                  <a:cubicBezTo>
                    <a:pt x="554" y="28"/>
                    <a:pt x="585" y="39"/>
                    <a:pt x="585" y="39"/>
                  </a:cubicBezTo>
                  <a:cubicBezTo>
                    <a:pt x="625" y="99"/>
                    <a:pt x="613" y="68"/>
                    <a:pt x="624" y="132"/>
                  </a:cubicBezTo>
                  <a:cubicBezTo>
                    <a:pt x="619" y="202"/>
                    <a:pt x="615" y="273"/>
                    <a:pt x="608" y="343"/>
                  </a:cubicBezTo>
                  <a:cubicBezTo>
                    <a:pt x="607" y="351"/>
                    <a:pt x="602" y="358"/>
                    <a:pt x="600" y="366"/>
                  </a:cubicBezTo>
                  <a:cubicBezTo>
                    <a:pt x="592" y="397"/>
                    <a:pt x="585" y="429"/>
                    <a:pt x="577" y="460"/>
                  </a:cubicBezTo>
                  <a:cubicBezTo>
                    <a:pt x="574" y="470"/>
                    <a:pt x="569" y="491"/>
                    <a:pt x="569" y="491"/>
                  </a:cubicBezTo>
                  <a:cubicBezTo>
                    <a:pt x="572" y="592"/>
                    <a:pt x="567" y="694"/>
                    <a:pt x="577" y="795"/>
                  </a:cubicBezTo>
                  <a:cubicBezTo>
                    <a:pt x="579" y="820"/>
                    <a:pt x="622" y="825"/>
                    <a:pt x="647" y="826"/>
                  </a:cubicBezTo>
                  <a:cubicBezTo>
                    <a:pt x="696" y="829"/>
                    <a:pt x="746" y="831"/>
                    <a:pt x="795" y="834"/>
                  </a:cubicBezTo>
                  <a:cubicBezTo>
                    <a:pt x="831" y="938"/>
                    <a:pt x="791" y="1055"/>
                    <a:pt x="779" y="1161"/>
                  </a:cubicBezTo>
                  <a:cubicBezTo>
                    <a:pt x="773" y="1216"/>
                    <a:pt x="771" y="1271"/>
                    <a:pt x="764" y="1325"/>
                  </a:cubicBezTo>
                  <a:cubicBezTo>
                    <a:pt x="757" y="1381"/>
                    <a:pt x="744" y="1479"/>
                    <a:pt x="694" y="1520"/>
                  </a:cubicBezTo>
                  <a:cubicBezTo>
                    <a:pt x="673" y="1538"/>
                    <a:pt x="661" y="1532"/>
                    <a:pt x="639" y="1543"/>
                  </a:cubicBezTo>
                  <a:cubicBezTo>
                    <a:pt x="631" y="1547"/>
                    <a:pt x="625" y="1558"/>
                    <a:pt x="616" y="1559"/>
                  </a:cubicBezTo>
                  <a:cubicBezTo>
                    <a:pt x="518" y="1566"/>
                    <a:pt x="419" y="1564"/>
                    <a:pt x="320" y="1566"/>
                  </a:cubicBezTo>
                  <a:cubicBezTo>
                    <a:pt x="255" y="1564"/>
                    <a:pt x="189" y="1569"/>
                    <a:pt x="125" y="1559"/>
                  </a:cubicBezTo>
                  <a:cubicBezTo>
                    <a:pt x="117" y="1558"/>
                    <a:pt x="117" y="1535"/>
                    <a:pt x="117" y="1535"/>
                  </a:cubicBezTo>
                </a:path>
              </a:pathLst>
            </a:custGeom>
            <a:noFill/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96" name=""/>
                <p:cNvSpPr txBox="1"/>
                <p:nvPr/>
              </p:nvSpPr>
              <p:spPr>
                <a:xfrm>
                  <a:off x="1371600" y="5562720"/>
                  <a:ext cx="9525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j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197" name=""/>
          <p:cNvGraphicFramePr/>
          <p:nvPr/>
        </p:nvGraphicFramePr>
        <p:xfrm>
          <a:off x="5257800" y="228600"/>
          <a:ext cx="2895480" cy="1604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57800" y="228600"/>
                    <a:ext cx="2895480" cy="16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99" name=""/>
              <p:cNvSpPr txBox="1"/>
              <p:nvPr/>
            </p:nvSpPr>
            <p:spPr>
              <a:xfrm>
                <a:off x="5943600" y="2376360"/>
                <a:ext cx="1701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0" name=""/>
              <p:cNvSpPr txBox="1"/>
              <p:nvPr/>
            </p:nvSpPr>
            <p:spPr>
              <a:xfrm>
                <a:off x="6553080" y="3138480"/>
                <a:ext cx="773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1" name=""/>
              <p:cNvSpPr txBox="1"/>
              <p:nvPr/>
            </p:nvSpPr>
            <p:spPr>
              <a:xfrm>
                <a:off x="5257800" y="1981080"/>
                <a:ext cx="29973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02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0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5" name="E07.015_W0763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3400560" cy="2295360"/>
          </a:xfrm>
          <a:prstGeom prst="rect">
            <a:avLst/>
          </a:prstGeom>
          <a:ln w="0">
            <a:noFill/>
          </a:ln>
        </p:spPr>
      </p:pic>
      <p:sp>
        <p:nvSpPr>
          <p:cNvPr id="1206" name=""/>
          <p:cNvSpPr/>
          <p:nvPr/>
        </p:nvSpPr>
        <p:spPr>
          <a:xfrm>
            <a:off x="271080" y="135000"/>
            <a:ext cx="2709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NORTON’S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2117880" y="409680"/>
            <a:ext cx="2154240" cy="2874960"/>
          </a:xfrm>
          <a:custGeom>
            <a:avLst/>
            <a:gdLst/>
            <a:ahLst/>
            <a:rect l="l" t="t" r="r" b="b"/>
            <a:pathLst>
              <a:path w="1357" h="1811">
                <a:moveTo>
                  <a:pt x="1128" y="568"/>
                </a:moveTo>
                <a:cubicBezTo>
                  <a:pt x="1126" y="490"/>
                  <a:pt x="1128" y="412"/>
                  <a:pt x="1121" y="334"/>
                </a:cubicBezTo>
                <a:cubicBezTo>
                  <a:pt x="1117" y="287"/>
                  <a:pt x="1032" y="258"/>
                  <a:pt x="996" y="241"/>
                </a:cubicBezTo>
                <a:cubicBezTo>
                  <a:pt x="881" y="126"/>
                  <a:pt x="773" y="90"/>
                  <a:pt x="614" y="69"/>
                </a:cubicBezTo>
                <a:cubicBezTo>
                  <a:pt x="510" y="37"/>
                  <a:pt x="388" y="35"/>
                  <a:pt x="279" y="23"/>
                </a:cubicBezTo>
                <a:cubicBezTo>
                  <a:pt x="144" y="33"/>
                  <a:pt x="63" y="0"/>
                  <a:pt x="22" y="124"/>
                </a:cubicBezTo>
                <a:cubicBezTo>
                  <a:pt x="25" y="194"/>
                  <a:pt x="0" y="275"/>
                  <a:pt x="37" y="334"/>
                </a:cubicBezTo>
                <a:cubicBezTo>
                  <a:pt x="55" y="362"/>
                  <a:pt x="85" y="380"/>
                  <a:pt x="100" y="412"/>
                </a:cubicBezTo>
                <a:cubicBezTo>
                  <a:pt x="119" y="455"/>
                  <a:pt x="129" y="490"/>
                  <a:pt x="154" y="529"/>
                </a:cubicBezTo>
                <a:cubicBezTo>
                  <a:pt x="168" y="583"/>
                  <a:pt x="191" y="641"/>
                  <a:pt x="225" y="685"/>
                </a:cubicBezTo>
                <a:cubicBezTo>
                  <a:pt x="235" y="751"/>
                  <a:pt x="223" y="719"/>
                  <a:pt x="263" y="778"/>
                </a:cubicBezTo>
                <a:cubicBezTo>
                  <a:pt x="268" y="786"/>
                  <a:pt x="279" y="802"/>
                  <a:pt x="279" y="802"/>
                </a:cubicBezTo>
                <a:cubicBezTo>
                  <a:pt x="300" y="873"/>
                  <a:pt x="322" y="951"/>
                  <a:pt x="365" y="1012"/>
                </a:cubicBezTo>
                <a:cubicBezTo>
                  <a:pt x="375" y="1082"/>
                  <a:pt x="403" y="1146"/>
                  <a:pt x="419" y="1215"/>
                </a:cubicBezTo>
                <a:cubicBezTo>
                  <a:pt x="424" y="1294"/>
                  <a:pt x="412" y="1425"/>
                  <a:pt x="450" y="1503"/>
                </a:cubicBezTo>
                <a:cubicBezTo>
                  <a:pt x="454" y="1512"/>
                  <a:pt x="462" y="1518"/>
                  <a:pt x="466" y="1527"/>
                </a:cubicBezTo>
                <a:cubicBezTo>
                  <a:pt x="483" y="1563"/>
                  <a:pt x="497" y="1600"/>
                  <a:pt x="513" y="1636"/>
                </a:cubicBezTo>
                <a:cubicBezTo>
                  <a:pt x="533" y="1683"/>
                  <a:pt x="586" y="1709"/>
                  <a:pt x="622" y="1745"/>
                </a:cubicBezTo>
                <a:cubicBezTo>
                  <a:pt x="688" y="1811"/>
                  <a:pt x="647" y="1788"/>
                  <a:pt x="747" y="1807"/>
                </a:cubicBezTo>
                <a:cubicBezTo>
                  <a:pt x="883" y="1802"/>
                  <a:pt x="996" y="1803"/>
                  <a:pt x="1121" y="1760"/>
                </a:cubicBezTo>
                <a:cubicBezTo>
                  <a:pt x="1200" y="1681"/>
                  <a:pt x="1208" y="1523"/>
                  <a:pt x="1230" y="1418"/>
                </a:cubicBezTo>
                <a:cubicBezTo>
                  <a:pt x="1242" y="1303"/>
                  <a:pt x="1249" y="1188"/>
                  <a:pt x="1269" y="1075"/>
                </a:cubicBezTo>
                <a:cubicBezTo>
                  <a:pt x="1272" y="1018"/>
                  <a:pt x="1278" y="960"/>
                  <a:pt x="1277" y="903"/>
                </a:cubicBezTo>
                <a:cubicBezTo>
                  <a:pt x="1273" y="617"/>
                  <a:pt x="1357" y="564"/>
                  <a:pt x="1175" y="498"/>
                </a:cubicBezTo>
                <a:cubicBezTo>
                  <a:pt x="1150" y="464"/>
                  <a:pt x="1161" y="476"/>
                  <a:pt x="1144" y="459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8" name=""/>
              <p:cNvSpPr txBox="1"/>
              <p:nvPr/>
            </p:nvSpPr>
            <p:spPr>
              <a:xfrm>
                <a:off x="1600200" y="2895480"/>
                <a:ext cx="1181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j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09" name=""/>
          <p:cNvGraphicFramePr/>
          <p:nvPr/>
        </p:nvGraphicFramePr>
        <p:xfrm>
          <a:off x="685800" y="3505320"/>
          <a:ext cx="3697200" cy="298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505320"/>
                    <a:ext cx="3697200" cy="29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11" name=""/>
          <p:cNvGrpSpPr/>
          <p:nvPr/>
        </p:nvGrpSpPr>
        <p:grpSpPr>
          <a:xfrm>
            <a:off x="4203720" y="4572000"/>
            <a:ext cx="368280" cy="1128600"/>
            <a:chOff x="4203720" y="4572000"/>
            <a:chExt cx="368280" cy="1128600"/>
          </a:xfrm>
        </p:grpSpPr>
        <p:sp>
          <p:nvSpPr>
            <p:cNvPr id="1212" name=""/>
            <p:cNvSpPr/>
            <p:nvPr/>
          </p:nvSpPr>
          <p:spPr>
            <a:xfrm>
              <a:off x="4267080" y="4572000"/>
              <a:ext cx="0" cy="7621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3" name=""/>
                <p:cNvSpPr txBox="1"/>
                <p:nvPr/>
              </p:nvSpPr>
              <p:spPr>
                <a:xfrm>
                  <a:off x="4203720" y="5410080"/>
                  <a:ext cx="368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1752480" y="4267080"/>
                <a:ext cx="6210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15" name=""/>
          <p:cNvGrpSpPr/>
          <p:nvPr/>
        </p:nvGrpSpPr>
        <p:grpSpPr>
          <a:xfrm>
            <a:off x="1905120" y="4191120"/>
            <a:ext cx="761760" cy="609480"/>
            <a:chOff x="1905120" y="4191120"/>
            <a:chExt cx="761760" cy="609480"/>
          </a:xfrm>
        </p:grpSpPr>
        <p:sp>
          <p:nvSpPr>
            <p:cNvPr id="1216" name=""/>
            <p:cNvSpPr/>
            <p:nvPr/>
          </p:nvSpPr>
          <p:spPr>
            <a:xfrm>
              <a:off x="1905120" y="419112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2666880" y="43434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18" name=""/>
              <p:cNvSpPr txBox="1"/>
              <p:nvPr/>
            </p:nvSpPr>
            <p:spPr>
              <a:xfrm>
                <a:off x="1955880" y="4876920"/>
                <a:ext cx="10159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19" name=""/>
          <p:cNvGraphicFramePr/>
          <p:nvPr/>
        </p:nvGraphicFramePr>
        <p:xfrm>
          <a:off x="4572000" y="509760"/>
          <a:ext cx="3962520" cy="2136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509760"/>
                    <a:ext cx="3962520" cy="21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1" name=""/>
          <p:cNvSpPr/>
          <p:nvPr/>
        </p:nvSpPr>
        <p:spPr>
          <a:xfrm>
            <a:off x="6551640" y="19080"/>
            <a:ext cx="2397240" cy="3009960"/>
          </a:xfrm>
          <a:custGeom>
            <a:avLst/>
            <a:gdLst/>
            <a:ahLst/>
            <a:rect l="l" t="t" r="r" b="b"/>
            <a:pathLst>
              <a:path w="1510" h="1896">
                <a:moveTo>
                  <a:pt x="1359" y="619"/>
                </a:moveTo>
                <a:cubicBezTo>
                  <a:pt x="1300" y="512"/>
                  <a:pt x="1230" y="459"/>
                  <a:pt x="1141" y="378"/>
                </a:cubicBezTo>
                <a:cubicBezTo>
                  <a:pt x="1043" y="289"/>
                  <a:pt x="949" y="167"/>
                  <a:pt x="813" y="152"/>
                </a:cubicBezTo>
                <a:cubicBezTo>
                  <a:pt x="752" y="131"/>
                  <a:pt x="783" y="139"/>
                  <a:pt x="720" y="128"/>
                </a:cubicBezTo>
                <a:cubicBezTo>
                  <a:pt x="0" y="138"/>
                  <a:pt x="290" y="0"/>
                  <a:pt x="89" y="269"/>
                </a:cubicBezTo>
                <a:cubicBezTo>
                  <a:pt x="86" y="290"/>
                  <a:pt x="85" y="311"/>
                  <a:pt x="81" y="331"/>
                </a:cubicBezTo>
                <a:cubicBezTo>
                  <a:pt x="77" y="347"/>
                  <a:pt x="68" y="362"/>
                  <a:pt x="65" y="378"/>
                </a:cubicBezTo>
                <a:cubicBezTo>
                  <a:pt x="47" y="477"/>
                  <a:pt x="42" y="582"/>
                  <a:pt x="34" y="682"/>
                </a:cubicBezTo>
                <a:cubicBezTo>
                  <a:pt x="37" y="760"/>
                  <a:pt x="37" y="837"/>
                  <a:pt x="42" y="915"/>
                </a:cubicBezTo>
                <a:cubicBezTo>
                  <a:pt x="44" y="956"/>
                  <a:pt x="62" y="980"/>
                  <a:pt x="81" y="1017"/>
                </a:cubicBezTo>
                <a:cubicBezTo>
                  <a:pt x="86" y="1027"/>
                  <a:pt x="97" y="1048"/>
                  <a:pt x="97" y="1048"/>
                </a:cubicBezTo>
                <a:cubicBezTo>
                  <a:pt x="124" y="1157"/>
                  <a:pt x="139" y="1267"/>
                  <a:pt x="167" y="1375"/>
                </a:cubicBezTo>
                <a:cubicBezTo>
                  <a:pt x="176" y="1472"/>
                  <a:pt x="199" y="1564"/>
                  <a:pt x="229" y="1656"/>
                </a:cubicBezTo>
                <a:cubicBezTo>
                  <a:pt x="239" y="1685"/>
                  <a:pt x="308" y="1711"/>
                  <a:pt x="323" y="1718"/>
                </a:cubicBezTo>
                <a:cubicBezTo>
                  <a:pt x="418" y="1815"/>
                  <a:pt x="310" y="1723"/>
                  <a:pt x="447" y="1780"/>
                </a:cubicBezTo>
                <a:cubicBezTo>
                  <a:pt x="486" y="1796"/>
                  <a:pt x="516" y="1829"/>
                  <a:pt x="556" y="1843"/>
                </a:cubicBezTo>
                <a:cubicBezTo>
                  <a:pt x="591" y="1855"/>
                  <a:pt x="629" y="1852"/>
                  <a:pt x="665" y="1858"/>
                </a:cubicBezTo>
                <a:cubicBezTo>
                  <a:pt x="912" y="1896"/>
                  <a:pt x="722" y="1871"/>
                  <a:pt x="868" y="1890"/>
                </a:cubicBezTo>
                <a:cubicBezTo>
                  <a:pt x="964" y="1883"/>
                  <a:pt x="1055" y="1869"/>
                  <a:pt x="1149" y="1851"/>
                </a:cubicBezTo>
                <a:cubicBezTo>
                  <a:pt x="1289" y="1707"/>
                  <a:pt x="1095" y="1889"/>
                  <a:pt x="1258" y="1788"/>
                </a:cubicBezTo>
                <a:cubicBezTo>
                  <a:pt x="1328" y="1744"/>
                  <a:pt x="1365" y="1650"/>
                  <a:pt x="1414" y="1586"/>
                </a:cubicBezTo>
                <a:cubicBezTo>
                  <a:pt x="1424" y="1476"/>
                  <a:pt x="1449" y="1368"/>
                  <a:pt x="1460" y="1258"/>
                </a:cubicBezTo>
                <a:cubicBezTo>
                  <a:pt x="1458" y="1145"/>
                  <a:pt x="1510" y="739"/>
                  <a:pt x="1359" y="619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6019920" y="3048120"/>
                <a:ext cx="1993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3" name=""/>
              <p:cNvSpPr txBox="1"/>
              <p:nvPr/>
            </p:nvSpPr>
            <p:spPr>
              <a:xfrm>
                <a:off x="6705720" y="3886200"/>
                <a:ext cx="772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224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2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"/>
          <p:cNvSpPr/>
          <p:nvPr/>
        </p:nvSpPr>
        <p:spPr>
          <a:xfrm>
            <a:off x="102960" y="76320"/>
            <a:ext cx="17276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MATL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45160" y="1400040"/>
            <a:ext cx="4060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less previously re-defined, MATL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cognizes “i” or “j” as imaginary un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608400" y="2027160"/>
            <a:ext cx="220752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z2=3+4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z2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.0000 + 4.0000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z1=4+6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z1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4.0000 + 6.0000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243360" y="4541760"/>
            <a:ext cx="4237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its output MATLAB always uses “i”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maginary 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32560" y="501480"/>
            <a:ext cx="402408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TLAB recognizes complex numb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rectangular representation. It d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T recognize Pha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487760" y="380880"/>
            <a:ext cx="4661280" cy="307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a=45; % angle in degre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ar=a*pi/180, %convert degrees to radi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r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.785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m=10; %define magn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x=m*cos(ar); %real 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7.07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y=m*sin(ar); %imaginary 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y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7.07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z=x+i*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z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7.0711 + 7.0711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3" name=""/>
          <p:cNvGrpSpPr/>
          <p:nvPr/>
        </p:nvGrpSpPr>
        <p:grpSpPr>
          <a:xfrm>
            <a:off x="4572000" y="152280"/>
            <a:ext cx="3670200" cy="279360"/>
            <a:chOff x="4572000" y="152280"/>
            <a:chExt cx="3670200" cy="279360"/>
          </a:xfrm>
        </p:grpSpPr>
        <mc:AlternateContent>
          <mc:Choice xmlns:a14="http://schemas.microsoft.com/office/drawing/2010/main" Requires="a14">
            <p:sp>
              <p:nvSpPr>
                <p:cNvPr id="1234" name=""/>
                <p:cNvSpPr txBox="1"/>
                <p:nvPr/>
              </p:nvSpPr>
              <p:spPr>
                <a:xfrm>
                  <a:off x="7162920" y="152280"/>
                  <a:ext cx="107928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45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35" name=""/>
                <p:cNvSpPr txBox="1"/>
                <p:nvPr/>
              </p:nvSpPr>
              <p:spPr>
                <a:xfrm>
                  <a:off x="4572000" y="152280"/>
                  <a:ext cx="243828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hasors</m:t>
                      </m:r>
                      <m:r>
                        <m:t xml:space="preserve">↔</m:t>
                      </m:r>
                      <m:r>
                        <m:rPr>
                          <m:lit/>
                          <m:nor/>
                        </m:rPr>
                        <m:t xml:space="preserve">Rectangular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36" name=""/>
          <p:cNvSpPr/>
          <p:nvPr/>
        </p:nvSpPr>
        <p:spPr>
          <a:xfrm>
            <a:off x="4491000" y="3429000"/>
            <a:ext cx="4554720" cy="3503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z =  7.0711 + 7.0711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mp=abs(z); %compute magn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p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arr=angle(z); %compute angle in RADI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rr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.785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adeg=arr*180/pi; %convert to deg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eg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=real(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7.07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y=imag(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y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7.707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7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3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0" name=""/>
          <p:cNvGraphicFramePr/>
          <p:nvPr/>
        </p:nvGraphicFramePr>
        <p:xfrm>
          <a:off x="0" y="598320"/>
          <a:ext cx="4724280" cy="28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98320"/>
                    <a:ext cx="4724280" cy="28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2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511720" y="58680"/>
            <a:ext cx="3326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ALL NODE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4" name=""/>
              <p:cNvSpPr txBox="1"/>
              <p:nvPr/>
            </p:nvSpPr>
            <p:spPr>
              <a:xfrm>
                <a:off x="76320" y="3429000"/>
                <a:ext cx="1155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5" name=""/>
              <p:cNvSpPr txBox="1"/>
              <p:nvPr/>
            </p:nvSpPr>
            <p:spPr>
              <a:xfrm>
                <a:off x="76320" y="3809880"/>
                <a:ext cx="2781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46" name=""/>
          <p:cNvGrpSpPr/>
          <p:nvPr/>
        </p:nvGrpSpPr>
        <p:grpSpPr>
          <a:xfrm>
            <a:off x="2742840" y="990720"/>
            <a:ext cx="838440" cy="533160"/>
            <a:chOff x="2742840" y="990720"/>
            <a:chExt cx="838440" cy="533160"/>
          </a:xfrm>
        </p:grpSpPr>
        <p:sp>
          <p:nvSpPr>
            <p:cNvPr id="1247" name=""/>
            <p:cNvSpPr/>
            <p:nvPr/>
          </p:nvSpPr>
          <p:spPr>
            <a:xfrm flipH="1">
              <a:off x="2742840" y="990720"/>
              <a:ext cx="304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276720" y="990720"/>
              <a:ext cx="3045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276720" y="106668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0" name=""/>
          <p:cNvGrpSpPr/>
          <p:nvPr/>
        </p:nvGrpSpPr>
        <p:grpSpPr>
          <a:xfrm>
            <a:off x="3811680" y="839880"/>
            <a:ext cx="608040" cy="608040"/>
            <a:chOff x="3811680" y="839880"/>
            <a:chExt cx="608040" cy="608040"/>
          </a:xfrm>
        </p:grpSpPr>
        <p:sp>
          <p:nvSpPr>
            <p:cNvPr id="1251" name=""/>
            <p:cNvSpPr/>
            <p:nvPr/>
          </p:nvSpPr>
          <p:spPr>
            <a:xfrm flipH="1">
              <a:off x="3811680" y="839880"/>
              <a:ext cx="3808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H="1">
              <a:off x="3962520" y="1066680"/>
              <a:ext cx="30456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419720" y="990720"/>
              <a:ext cx="0" cy="45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54" name=""/>
              <p:cNvSpPr txBox="1"/>
              <p:nvPr/>
            </p:nvSpPr>
            <p:spPr>
              <a:xfrm>
                <a:off x="76320" y="4419720"/>
                <a:ext cx="2361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55" name=""/>
          <p:cNvGrpSpPr/>
          <p:nvPr/>
        </p:nvGrpSpPr>
        <p:grpSpPr>
          <a:xfrm>
            <a:off x="2128680" y="1599840"/>
            <a:ext cx="309600" cy="833760"/>
            <a:chOff x="2128680" y="1599840"/>
            <a:chExt cx="309600" cy="833760"/>
          </a:xfrm>
        </p:grpSpPr>
        <p:sp>
          <p:nvSpPr>
            <p:cNvPr id="1256" name=""/>
            <p:cNvSpPr/>
            <p:nvPr/>
          </p:nvSpPr>
          <p:spPr>
            <a:xfrm>
              <a:off x="2128680" y="2128680"/>
              <a:ext cx="0" cy="3049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V="1">
              <a:off x="2133720" y="1599840"/>
              <a:ext cx="0" cy="3049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133720" y="2133720"/>
              <a:ext cx="304560" cy="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76320" y="5029200"/>
                <a:ext cx="2489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60" name=""/>
          <p:cNvGrpSpPr/>
          <p:nvPr/>
        </p:nvGrpSpPr>
        <p:grpSpPr>
          <a:xfrm>
            <a:off x="2741760" y="1599840"/>
            <a:ext cx="839520" cy="991080"/>
            <a:chOff x="2741760" y="1599840"/>
            <a:chExt cx="839520" cy="991080"/>
          </a:xfrm>
        </p:grpSpPr>
        <p:sp>
          <p:nvSpPr>
            <p:cNvPr id="1261" name=""/>
            <p:cNvSpPr/>
            <p:nvPr/>
          </p:nvSpPr>
          <p:spPr>
            <a:xfrm flipH="1">
              <a:off x="2741760" y="2128680"/>
              <a:ext cx="304560" cy="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048120" y="2209680"/>
              <a:ext cx="0" cy="38124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352680" y="2057400"/>
              <a:ext cx="228600" cy="22860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V="1">
              <a:off x="3352680" y="1752120"/>
              <a:ext cx="228600" cy="22860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3276720" y="1599840"/>
              <a:ext cx="0" cy="30492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66" name=""/>
              <p:cNvSpPr txBox="1"/>
              <p:nvPr/>
            </p:nvSpPr>
            <p:spPr>
              <a:xfrm>
                <a:off x="76320" y="5638680"/>
                <a:ext cx="4368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7" name=""/>
              <p:cNvSpPr txBox="1"/>
              <p:nvPr/>
            </p:nvSpPr>
            <p:spPr>
              <a:xfrm>
                <a:off x="4800600" y="380880"/>
                <a:ext cx="37083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8" name=""/>
              <p:cNvSpPr txBox="1"/>
              <p:nvPr/>
            </p:nvSpPr>
            <p:spPr>
              <a:xfrm>
                <a:off x="4495680" y="990720"/>
                <a:ext cx="471168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9" name=""/>
              <p:cNvSpPr txBox="1"/>
              <p:nvPr/>
            </p:nvSpPr>
            <p:spPr>
              <a:xfrm>
                <a:off x="3211560" y="3429000"/>
                <a:ext cx="593244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j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j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5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  <m:r>
                                <m:t xml:space="preserve">∠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  <m:r>
                                <m:t xml:space="preserve">°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∠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5</m:t>
                                    </m:r>
                                    <m:r>
                                      <m:t xml:space="preserve">°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0" name=""/>
              <p:cNvSpPr txBox="1"/>
              <p:nvPr/>
            </p:nvSpPr>
            <p:spPr>
              <a:xfrm>
                <a:off x="6045120" y="5227560"/>
                <a:ext cx="800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1" name=""/>
              <p:cNvSpPr txBox="1"/>
              <p:nvPr/>
            </p:nvSpPr>
            <p:spPr>
              <a:xfrm>
                <a:off x="5943600" y="5638680"/>
                <a:ext cx="965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272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7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"/>
          <p:cNvSpPr/>
          <p:nvPr/>
        </p:nvSpPr>
        <p:spPr>
          <a:xfrm>
            <a:off x="69480" y="152280"/>
            <a:ext cx="5834880" cy="265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example7p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define the RHS vector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r=zeros(5,1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initialize and define non zero val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r(1)=12*cos(30*pi/180)+j*12*sin(30*pi/18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r(5)=2*cos(pi/4)+j*2*sin(pi/4),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echo the v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now define the ma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y=[1,0,0,0,0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first 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1,1+0.5j,-j,0,0.5j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second 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,-j,1.5+j,0,-0.5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third 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0.5,0,0,1.5+j,-1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fourth 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,0.5i,-0.5,-1,1.5+0.5i]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last row and do ec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=y\ir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solve equations and echo the ans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6" name=""/>
          <p:cNvGrpSpPr/>
          <p:nvPr/>
        </p:nvGrpSpPr>
        <p:grpSpPr>
          <a:xfrm>
            <a:off x="-1440" y="1228680"/>
            <a:ext cx="5667120" cy="2963520"/>
            <a:chOff x="-1440" y="1228680"/>
            <a:chExt cx="5667120" cy="2963520"/>
          </a:xfrm>
        </p:grpSpPr>
        <p:grpSp>
          <p:nvGrpSpPr>
            <p:cNvPr id="1277" name=""/>
            <p:cNvGrpSpPr/>
            <p:nvPr/>
          </p:nvGrpSpPr>
          <p:grpSpPr>
            <a:xfrm>
              <a:off x="-1440" y="2819520"/>
              <a:ext cx="3078360" cy="1372680"/>
              <a:chOff x="-1440" y="2819520"/>
              <a:chExt cx="3078360" cy="1372680"/>
            </a:xfrm>
          </p:grpSpPr>
          <p:sp>
            <p:nvSpPr>
              <p:cNvPr id="1278" name=""/>
              <p:cNvSpPr/>
              <p:nvPr/>
            </p:nvSpPr>
            <p:spPr>
              <a:xfrm>
                <a:off x="1712160" y="3429000"/>
                <a:ext cx="1364760" cy="3373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Echo of RH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-1440" y="2819520"/>
                <a:ext cx="2207880" cy="13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ir =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10.3923 + 6.0000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1.4142 + 1.4142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0" name=""/>
            <p:cNvSpPr/>
            <p:nvPr/>
          </p:nvSpPr>
          <p:spPr>
            <a:xfrm>
              <a:off x="3141720" y="1228680"/>
              <a:ext cx="2523960" cy="2373480"/>
            </a:xfrm>
            <a:custGeom>
              <a:avLst/>
              <a:gdLst/>
              <a:ahLst/>
              <a:rect l="l" t="t" r="r" b="b"/>
              <a:pathLst>
                <a:path w="1590" h="1495">
                  <a:moveTo>
                    <a:pt x="343" y="13"/>
                  </a:moveTo>
                  <a:cubicBezTo>
                    <a:pt x="740" y="4"/>
                    <a:pt x="889" y="0"/>
                    <a:pt x="1325" y="5"/>
                  </a:cubicBezTo>
                  <a:cubicBezTo>
                    <a:pt x="1348" y="8"/>
                    <a:pt x="1372" y="10"/>
                    <a:pt x="1395" y="13"/>
                  </a:cubicBezTo>
                  <a:cubicBezTo>
                    <a:pt x="1411" y="15"/>
                    <a:pt x="1433" y="8"/>
                    <a:pt x="1442" y="21"/>
                  </a:cubicBezTo>
                  <a:cubicBezTo>
                    <a:pt x="1456" y="40"/>
                    <a:pt x="1447" y="68"/>
                    <a:pt x="1450" y="91"/>
                  </a:cubicBezTo>
                  <a:cubicBezTo>
                    <a:pt x="1458" y="153"/>
                    <a:pt x="1460" y="214"/>
                    <a:pt x="1489" y="270"/>
                  </a:cubicBezTo>
                  <a:cubicBezTo>
                    <a:pt x="1507" y="436"/>
                    <a:pt x="1482" y="246"/>
                    <a:pt x="1512" y="379"/>
                  </a:cubicBezTo>
                  <a:cubicBezTo>
                    <a:pt x="1526" y="439"/>
                    <a:pt x="1523" y="511"/>
                    <a:pt x="1551" y="566"/>
                  </a:cubicBezTo>
                  <a:cubicBezTo>
                    <a:pt x="1558" y="698"/>
                    <a:pt x="1577" y="825"/>
                    <a:pt x="1590" y="956"/>
                  </a:cubicBezTo>
                  <a:cubicBezTo>
                    <a:pt x="1584" y="1027"/>
                    <a:pt x="1585" y="1156"/>
                    <a:pt x="1528" y="1213"/>
                  </a:cubicBezTo>
                  <a:cubicBezTo>
                    <a:pt x="1516" y="1225"/>
                    <a:pt x="1497" y="1224"/>
                    <a:pt x="1481" y="1229"/>
                  </a:cubicBezTo>
                  <a:cubicBezTo>
                    <a:pt x="1387" y="1300"/>
                    <a:pt x="1344" y="1308"/>
                    <a:pt x="1232" y="1330"/>
                  </a:cubicBezTo>
                  <a:cubicBezTo>
                    <a:pt x="958" y="1495"/>
                    <a:pt x="428" y="1429"/>
                    <a:pt x="195" y="1431"/>
                  </a:cubicBezTo>
                  <a:cubicBezTo>
                    <a:pt x="128" y="1440"/>
                    <a:pt x="67" y="1470"/>
                    <a:pt x="0" y="1470"/>
                  </a:cubicBezTo>
                </a:path>
              </a:pathLst>
            </a:custGeom>
            <a:noFill/>
            <a:ln w="25560">
              <a:solidFill>
                <a:srgbClr val="9933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1" name=""/>
          <p:cNvGrpSpPr/>
          <p:nvPr/>
        </p:nvGrpSpPr>
        <p:grpSpPr>
          <a:xfrm>
            <a:off x="104040" y="2548080"/>
            <a:ext cx="8373240" cy="4393080"/>
            <a:chOff x="104040" y="2548080"/>
            <a:chExt cx="8373240" cy="4393080"/>
          </a:xfrm>
        </p:grpSpPr>
        <p:grpSp>
          <p:nvGrpSpPr>
            <p:cNvPr id="1282" name=""/>
            <p:cNvGrpSpPr/>
            <p:nvPr/>
          </p:nvGrpSpPr>
          <p:grpSpPr>
            <a:xfrm>
              <a:off x="104040" y="4076640"/>
              <a:ext cx="8288640" cy="2864520"/>
              <a:chOff x="104040" y="4076640"/>
              <a:chExt cx="8288640" cy="2864520"/>
            </a:xfrm>
          </p:grpSpPr>
          <p:sp>
            <p:nvSpPr>
              <p:cNvPr id="1283" name=""/>
              <p:cNvSpPr/>
              <p:nvPr/>
            </p:nvSpPr>
            <p:spPr>
              <a:xfrm>
                <a:off x="104040" y="4076640"/>
                <a:ext cx="8288640" cy="28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y =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Columns 1 through 4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1.0000                  0                  0                  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-1.0000             1.0000 + 0.5000i        0 - 1.0000i        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0                  0 - 1.0000i   1.5000 + 1.0000i        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-0.5000                  0                  0             1.5000 + 1.0000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0                  0 + 0.5000i  -0.5000            -1.000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Column 5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0 + 0.5000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-0.500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-1.000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1.5000 + 0.5000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2909880" y="5791320"/>
                <a:ext cx="1636200" cy="3373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Echo of Matri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5" name=""/>
            <p:cNvSpPr/>
            <p:nvPr/>
          </p:nvSpPr>
          <p:spPr>
            <a:xfrm>
              <a:off x="2300400" y="2548080"/>
              <a:ext cx="6176880" cy="4206600"/>
            </a:xfrm>
            <a:custGeom>
              <a:avLst/>
              <a:gdLst/>
              <a:ahLst/>
              <a:rect l="l" t="t" r="r" b="b"/>
              <a:pathLst>
                <a:path w="3891" h="2650">
                  <a:moveTo>
                    <a:pt x="600" y="0"/>
                  </a:moveTo>
                  <a:cubicBezTo>
                    <a:pt x="840" y="20"/>
                    <a:pt x="962" y="13"/>
                    <a:pt x="1263" y="8"/>
                  </a:cubicBezTo>
                  <a:cubicBezTo>
                    <a:pt x="1455" y="11"/>
                    <a:pt x="1647" y="11"/>
                    <a:pt x="1839" y="16"/>
                  </a:cubicBezTo>
                  <a:cubicBezTo>
                    <a:pt x="1855" y="16"/>
                    <a:pt x="1883" y="8"/>
                    <a:pt x="1886" y="24"/>
                  </a:cubicBezTo>
                  <a:cubicBezTo>
                    <a:pt x="1898" y="101"/>
                    <a:pt x="1882" y="180"/>
                    <a:pt x="1878" y="258"/>
                  </a:cubicBezTo>
                  <a:cubicBezTo>
                    <a:pt x="1871" y="398"/>
                    <a:pt x="1845" y="558"/>
                    <a:pt x="1762" y="671"/>
                  </a:cubicBezTo>
                  <a:cubicBezTo>
                    <a:pt x="1727" y="773"/>
                    <a:pt x="1758" y="704"/>
                    <a:pt x="1621" y="842"/>
                  </a:cubicBezTo>
                  <a:cubicBezTo>
                    <a:pt x="1606" y="858"/>
                    <a:pt x="1575" y="889"/>
                    <a:pt x="1575" y="889"/>
                  </a:cubicBezTo>
                  <a:cubicBezTo>
                    <a:pt x="1557" y="941"/>
                    <a:pt x="1549" y="953"/>
                    <a:pt x="1497" y="967"/>
                  </a:cubicBezTo>
                  <a:cubicBezTo>
                    <a:pt x="1123" y="964"/>
                    <a:pt x="0" y="959"/>
                    <a:pt x="374" y="959"/>
                  </a:cubicBezTo>
                  <a:cubicBezTo>
                    <a:pt x="1179" y="959"/>
                    <a:pt x="1985" y="962"/>
                    <a:pt x="2790" y="967"/>
                  </a:cubicBezTo>
                  <a:cubicBezTo>
                    <a:pt x="2941" y="968"/>
                    <a:pt x="3091" y="978"/>
                    <a:pt x="3242" y="982"/>
                  </a:cubicBezTo>
                  <a:cubicBezTo>
                    <a:pt x="3360" y="989"/>
                    <a:pt x="3461" y="1009"/>
                    <a:pt x="3577" y="1029"/>
                  </a:cubicBezTo>
                  <a:cubicBezTo>
                    <a:pt x="3662" y="1060"/>
                    <a:pt x="3670" y="1086"/>
                    <a:pt x="3725" y="1146"/>
                  </a:cubicBezTo>
                  <a:cubicBezTo>
                    <a:pt x="3750" y="1173"/>
                    <a:pt x="3803" y="1224"/>
                    <a:pt x="3803" y="1224"/>
                  </a:cubicBezTo>
                  <a:cubicBezTo>
                    <a:pt x="3820" y="1273"/>
                    <a:pt x="3832" y="1323"/>
                    <a:pt x="3850" y="1372"/>
                  </a:cubicBezTo>
                  <a:cubicBezTo>
                    <a:pt x="3869" y="1537"/>
                    <a:pt x="3891" y="1705"/>
                    <a:pt x="3834" y="1863"/>
                  </a:cubicBezTo>
                  <a:cubicBezTo>
                    <a:pt x="3819" y="1905"/>
                    <a:pt x="3819" y="1929"/>
                    <a:pt x="3795" y="1964"/>
                  </a:cubicBezTo>
                  <a:cubicBezTo>
                    <a:pt x="3788" y="1989"/>
                    <a:pt x="3771" y="2048"/>
                    <a:pt x="3756" y="2066"/>
                  </a:cubicBezTo>
                  <a:cubicBezTo>
                    <a:pt x="3719" y="2111"/>
                    <a:pt x="3632" y="2190"/>
                    <a:pt x="3632" y="2190"/>
                  </a:cubicBezTo>
                  <a:cubicBezTo>
                    <a:pt x="3604" y="2273"/>
                    <a:pt x="3568" y="2261"/>
                    <a:pt x="3491" y="2292"/>
                  </a:cubicBezTo>
                  <a:cubicBezTo>
                    <a:pt x="3341" y="2352"/>
                    <a:pt x="3183" y="2359"/>
                    <a:pt x="3024" y="2385"/>
                  </a:cubicBezTo>
                  <a:cubicBezTo>
                    <a:pt x="2909" y="2454"/>
                    <a:pt x="2796" y="2466"/>
                    <a:pt x="2665" y="2479"/>
                  </a:cubicBezTo>
                  <a:cubicBezTo>
                    <a:pt x="2624" y="2489"/>
                    <a:pt x="2575" y="2485"/>
                    <a:pt x="2541" y="2510"/>
                  </a:cubicBezTo>
                  <a:cubicBezTo>
                    <a:pt x="2524" y="2522"/>
                    <a:pt x="2499" y="2544"/>
                    <a:pt x="2478" y="2549"/>
                  </a:cubicBezTo>
                  <a:cubicBezTo>
                    <a:pt x="2318" y="2589"/>
                    <a:pt x="2144" y="2602"/>
                    <a:pt x="1980" y="2619"/>
                  </a:cubicBezTo>
                  <a:cubicBezTo>
                    <a:pt x="1897" y="2627"/>
                    <a:pt x="1884" y="2630"/>
                    <a:pt x="1793" y="2634"/>
                  </a:cubicBezTo>
                  <a:cubicBezTo>
                    <a:pt x="1565" y="2644"/>
                    <a:pt x="1640" y="2609"/>
                    <a:pt x="1559" y="2650"/>
                  </a:cubicBezTo>
                </a:path>
              </a:pathLst>
            </a:custGeom>
            <a:noFill/>
            <a:ln w="25560">
              <a:solidFill>
                <a:srgbClr val="9933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6" name=""/>
          <p:cNvGrpSpPr/>
          <p:nvPr/>
        </p:nvGrpSpPr>
        <p:grpSpPr>
          <a:xfrm>
            <a:off x="2746440" y="331920"/>
            <a:ext cx="6114960" cy="2427120"/>
            <a:chOff x="2746440" y="331920"/>
            <a:chExt cx="6114960" cy="2427120"/>
          </a:xfrm>
        </p:grpSpPr>
        <p:grpSp>
          <p:nvGrpSpPr>
            <p:cNvPr id="1287" name=""/>
            <p:cNvGrpSpPr/>
            <p:nvPr/>
          </p:nvGrpSpPr>
          <p:grpSpPr>
            <a:xfrm>
              <a:off x="6399360" y="457200"/>
              <a:ext cx="2207880" cy="1966680"/>
              <a:chOff x="6399360" y="457200"/>
              <a:chExt cx="2207880" cy="1966680"/>
            </a:xfrm>
          </p:grpSpPr>
          <p:sp>
            <p:nvSpPr>
              <p:cNvPr id="1288" name=""/>
              <p:cNvSpPr/>
              <p:nvPr/>
            </p:nvSpPr>
            <p:spPr>
              <a:xfrm>
                <a:off x="6399360" y="838080"/>
                <a:ext cx="2207880" cy="15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v =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10.3923 + 6.0000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7.0766 + 2.1580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1.4038 + 2.5561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3.7661 - 2.9621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3.4151 - 3.6771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6617880" y="457200"/>
                <a:ext cx="1722960" cy="3373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Echo of Answ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0" name=""/>
            <p:cNvSpPr/>
            <p:nvPr/>
          </p:nvSpPr>
          <p:spPr>
            <a:xfrm>
              <a:off x="2746440" y="331920"/>
              <a:ext cx="6114960" cy="2427120"/>
            </a:xfrm>
            <a:custGeom>
              <a:avLst/>
              <a:gdLst/>
              <a:ahLst/>
              <a:rect l="l" t="t" r="r" b="b"/>
              <a:pathLst>
                <a:path w="3852" h="1529">
                  <a:moveTo>
                    <a:pt x="0" y="1529"/>
                  </a:moveTo>
                  <a:cubicBezTo>
                    <a:pt x="878" y="1521"/>
                    <a:pt x="1757" y="1518"/>
                    <a:pt x="2634" y="1490"/>
                  </a:cubicBezTo>
                  <a:cubicBezTo>
                    <a:pt x="2785" y="1479"/>
                    <a:pt x="2936" y="1479"/>
                    <a:pt x="3086" y="1467"/>
                  </a:cubicBezTo>
                  <a:cubicBezTo>
                    <a:pt x="3138" y="1463"/>
                    <a:pt x="3190" y="1456"/>
                    <a:pt x="3242" y="1451"/>
                  </a:cubicBezTo>
                  <a:cubicBezTo>
                    <a:pt x="3268" y="1448"/>
                    <a:pt x="3320" y="1443"/>
                    <a:pt x="3320" y="1443"/>
                  </a:cubicBezTo>
                  <a:cubicBezTo>
                    <a:pt x="3380" y="1429"/>
                    <a:pt x="3438" y="1420"/>
                    <a:pt x="3499" y="1412"/>
                  </a:cubicBezTo>
                  <a:cubicBezTo>
                    <a:pt x="3524" y="1399"/>
                    <a:pt x="3552" y="1394"/>
                    <a:pt x="3577" y="1381"/>
                  </a:cubicBezTo>
                  <a:cubicBezTo>
                    <a:pt x="3630" y="1353"/>
                    <a:pt x="3653" y="1311"/>
                    <a:pt x="3694" y="1272"/>
                  </a:cubicBezTo>
                  <a:cubicBezTo>
                    <a:pt x="3710" y="1166"/>
                    <a:pt x="3750" y="1070"/>
                    <a:pt x="3764" y="960"/>
                  </a:cubicBezTo>
                  <a:cubicBezTo>
                    <a:pt x="3784" y="804"/>
                    <a:pt x="3801" y="648"/>
                    <a:pt x="3818" y="492"/>
                  </a:cubicBezTo>
                  <a:cubicBezTo>
                    <a:pt x="3828" y="289"/>
                    <a:pt x="3852" y="262"/>
                    <a:pt x="3701" y="40"/>
                  </a:cubicBezTo>
                  <a:cubicBezTo>
                    <a:pt x="3687" y="19"/>
                    <a:pt x="3532" y="11"/>
                    <a:pt x="3514" y="9"/>
                  </a:cubicBezTo>
                  <a:cubicBezTo>
                    <a:pt x="3192" y="12"/>
                    <a:pt x="2870" y="0"/>
                    <a:pt x="2548" y="17"/>
                  </a:cubicBezTo>
                  <a:cubicBezTo>
                    <a:pt x="2513" y="19"/>
                    <a:pt x="2488" y="54"/>
                    <a:pt x="2455" y="64"/>
                  </a:cubicBezTo>
                  <a:cubicBezTo>
                    <a:pt x="2425" y="73"/>
                    <a:pt x="2392" y="69"/>
                    <a:pt x="2361" y="72"/>
                  </a:cubicBezTo>
                  <a:cubicBezTo>
                    <a:pt x="2351" y="82"/>
                    <a:pt x="2337" y="90"/>
                    <a:pt x="2330" y="103"/>
                  </a:cubicBezTo>
                  <a:cubicBezTo>
                    <a:pt x="2313" y="138"/>
                    <a:pt x="2291" y="212"/>
                    <a:pt x="2291" y="212"/>
                  </a:cubicBezTo>
                  <a:cubicBezTo>
                    <a:pt x="2274" y="311"/>
                    <a:pt x="2248" y="409"/>
                    <a:pt x="2229" y="508"/>
                  </a:cubicBezTo>
                  <a:cubicBezTo>
                    <a:pt x="2218" y="638"/>
                    <a:pt x="2202" y="768"/>
                    <a:pt x="2190" y="898"/>
                  </a:cubicBezTo>
                  <a:cubicBezTo>
                    <a:pt x="2192" y="1056"/>
                    <a:pt x="2197" y="1373"/>
                    <a:pt x="2197" y="1373"/>
                  </a:cubicBezTo>
                </a:path>
              </a:pathLst>
            </a:custGeom>
            <a:noFill/>
            <a:ln w="25560">
              <a:solidFill>
                <a:srgbClr val="9933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91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9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"/>
          <p:cNvSpPr/>
          <p:nvPr/>
        </p:nvSpPr>
        <p:spPr>
          <a:xfrm>
            <a:off x="131040" y="76320"/>
            <a:ext cx="2233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 PSPICE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5" name="F07.026_W0765" descr=""/>
          <p:cNvPicPr/>
          <p:nvPr/>
        </p:nvPicPr>
        <p:blipFill>
          <a:blip r:embed="rId1"/>
          <a:stretch/>
        </p:blipFill>
        <p:spPr>
          <a:xfrm>
            <a:off x="76320" y="685800"/>
            <a:ext cx="4495680" cy="1417680"/>
          </a:xfrm>
          <a:prstGeom prst="rect">
            <a:avLst/>
          </a:prstGeom>
          <a:ln w="0">
            <a:noFill/>
          </a:ln>
        </p:spPr>
      </p:pic>
      <p:grpSp>
        <p:nvGrpSpPr>
          <p:cNvPr id="1296" name=""/>
          <p:cNvGrpSpPr/>
          <p:nvPr/>
        </p:nvGrpSpPr>
        <p:grpSpPr>
          <a:xfrm>
            <a:off x="152280" y="2268360"/>
            <a:ext cx="3276720" cy="2227320"/>
            <a:chOff x="152280" y="2268360"/>
            <a:chExt cx="3276720" cy="2227320"/>
          </a:xfrm>
        </p:grpSpPr>
        <p:pic>
          <p:nvPicPr>
            <p:cNvPr id="1297" name="" descr=""/>
            <p:cNvPicPr/>
            <p:nvPr/>
          </p:nvPicPr>
          <p:blipFill>
            <a:blip r:embed="rId2"/>
            <a:stretch/>
          </p:blipFill>
          <p:spPr>
            <a:xfrm>
              <a:off x="152280" y="2604960"/>
              <a:ext cx="3276720" cy="18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8" name=""/>
            <p:cNvSpPr/>
            <p:nvPr/>
          </p:nvSpPr>
          <p:spPr>
            <a:xfrm>
              <a:off x="179640" y="2268360"/>
              <a:ext cx="3121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lect and place compon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152280" y="4648320"/>
            <a:ext cx="3505320" cy="2135160"/>
            <a:chOff x="152280" y="4648320"/>
            <a:chExt cx="3505320" cy="2135160"/>
          </a:xfrm>
        </p:grpSpPr>
        <p:pic>
          <p:nvPicPr>
            <p:cNvPr id="1300" name="" descr=""/>
            <p:cNvPicPr/>
            <p:nvPr/>
          </p:nvPicPr>
          <p:blipFill>
            <a:blip r:embed="rId3"/>
            <a:stretch/>
          </p:blipFill>
          <p:spPr>
            <a:xfrm>
              <a:off x="152280" y="4989600"/>
              <a:ext cx="3505320" cy="17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1" name=""/>
            <p:cNvSpPr/>
            <p:nvPr/>
          </p:nvSpPr>
          <p:spPr>
            <a:xfrm>
              <a:off x="169200" y="4648320"/>
              <a:ext cx="3303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re and set correct attribu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2" name=""/>
          <p:cNvGrpSpPr/>
          <p:nvPr/>
        </p:nvGrpSpPr>
        <p:grpSpPr>
          <a:xfrm>
            <a:off x="4648320" y="196920"/>
            <a:ext cx="4267080" cy="3247200"/>
            <a:chOff x="4648320" y="196920"/>
            <a:chExt cx="4267080" cy="3247200"/>
          </a:xfrm>
        </p:grpSpPr>
        <p:pic>
          <p:nvPicPr>
            <p:cNvPr id="1303" name="" descr=""/>
            <p:cNvPicPr/>
            <p:nvPr/>
          </p:nvPicPr>
          <p:blipFill>
            <a:blip r:embed="rId4"/>
            <a:stretch/>
          </p:blipFill>
          <p:spPr>
            <a:xfrm>
              <a:off x="4648320" y="533520"/>
              <a:ext cx="4267080" cy="26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4" name=""/>
            <p:cNvSpPr/>
            <p:nvPr/>
          </p:nvSpPr>
          <p:spPr>
            <a:xfrm>
              <a:off x="4753080" y="196920"/>
              <a:ext cx="3120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ready to be simul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860360" y="3106800"/>
              <a:ext cx="3088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round set, meters specif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6" name=""/>
          <p:cNvGrpSpPr/>
          <p:nvPr/>
        </p:nvGrpSpPr>
        <p:grpSpPr>
          <a:xfrm>
            <a:off x="522000" y="2649600"/>
            <a:ext cx="2372400" cy="1632600"/>
            <a:chOff x="522000" y="2649600"/>
            <a:chExt cx="2372400" cy="1632600"/>
          </a:xfrm>
        </p:grpSpPr>
        <p:sp>
          <p:nvSpPr>
            <p:cNvPr id="1307" name=""/>
            <p:cNvSpPr/>
            <p:nvPr/>
          </p:nvSpPr>
          <p:spPr>
            <a:xfrm>
              <a:off x="765000" y="3944880"/>
              <a:ext cx="581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A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22000" y="2725560"/>
              <a:ext cx="3150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425680" y="2649600"/>
              <a:ext cx="295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584080" y="3792600"/>
              <a:ext cx="310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1" name=""/>
          <p:cNvSpPr/>
          <p:nvPr/>
        </p:nvSpPr>
        <p:spPr>
          <a:xfrm flipH="1">
            <a:off x="6019920" y="2362320"/>
            <a:ext cx="76176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2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1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"/>
          <p:cNvSpPr/>
          <p:nvPr/>
        </p:nvSpPr>
        <p:spPr>
          <a:xfrm>
            <a:off x="304920" y="79200"/>
            <a:ext cx="7924680" cy="66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***     AC ANALYSIS                      TEMPERATURE =   27.000 DEG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*********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EQ        VM($N_0003) VP($N_0003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6.000E+01   2.651E+00  -3.854E+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_x000c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*** 05/20/01 09:03:41 *********** Evaluation PSpice (Nov 1999) ************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C:\ECEWork\IrwinPPT\ACSteadyStateAnalysis\Sec7p9Demo.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***     AC ANALYSIS                      TEMPERATURE =   27.000 DEG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*********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EQ        IM(V_PRINT2)IP(V_PRINT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6.000E+01   2.998E-03   5.146E+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848680" y="1049400"/>
            <a:ext cx="2292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ults in output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82680" y="1525680"/>
            <a:ext cx="4190760" cy="11430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80880" y="5486400"/>
            <a:ext cx="4191120" cy="1219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9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2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685800" y="609480"/>
                <a:ext cx="2577960" cy="16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leads 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by_____?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leads 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by_____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838080" y="2590920"/>
                <a:ext cx="18288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838080" y="2935440"/>
                <a:ext cx="4127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825480" y="3276720"/>
                <a:ext cx="31370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581280" y="3657600"/>
                <a:ext cx="2019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leads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by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657600" y="5029200"/>
                <a:ext cx="2019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leads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by  </m:t>
                    </m:r>
                    <m:r>
                      <m:rPr>
                        <m:lit/>
                        <m:nor/>
                      </m:rPr>
                      <m:t xml:space="preserve">16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914400" y="3962520"/>
                <a:ext cx="20448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14400" y="4307040"/>
                <a:ext cx="4622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914400" y="4724280"/>
                <a:ext cx="31878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1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F07.004_W0732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2895480" cy="2592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986840" y="152280"/>
            <a:ext cx="52052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USOIDAL AND COMPLEX FORCING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7640" y="3429000"/>
            <a:ext cx="429264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independent sources are sinusoi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same frequency then for 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able in the linear circuit the stea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ate response will be sinusoidal and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ame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28600" y="4876920"/>
                <a:ext cx="4114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φ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71360" y="5238720"/>
                <a:ext cx="42926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  determine the steady state solu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e only need to determine the parameter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φ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39" name=""/>
          <p:cNvGrpSpPr/>
          <p:nvPr/>
        </p:nvGrpSpPr>
        <p:grpSpPr>
          <a:xfrm>
            <a:off x="5410080" y="579600"/>
            <a:ext cx="3657600" cy="2239920"/>
            <a:chOff x="5410080" y="579600"/>
            <a:chExt cx="3657600" cy="2239920"/>
          </a:xfrm>
        </p:grpSpPr>
        <p:pic>
          <p:nvPicPr>
            <p:cNvPr id="140" name="F07.005_W0733" descr=""/>
            <p:cNvPicPr/>
            <p:nvPr/>
          </p:nvPicPr>
          <p:blipFill>
            <a:blip r:embed="rId2"/>
            <a:stretch/>
          </p:blipFill>
          <p:spPr>
            <a:xfrm>
              <a:off x="5410080" y="714600"/>
              <a:ext cx="3657600" cy="21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5504400" y="579600"/>
              <a:ext cx="20005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572000" y="2057400"/>
                <a:ext cx="2565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VL:  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699080" y="2819520"/>
                <a:ext cx="372096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steady state 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or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44" name=""/>
          <p:cNvGrpSpPr/>
          <p:nvPr/>
        </p:nvGrpSpPr>
        <p:grpSpPr>
          <a:xfrm>
            <a:off x="8153280" y="3200400"/>
            <a:ext cx="443160" cy="685800"/>
            <a:chOff x="8153280" y="3200400"/>
            <a:chExt cx="443160" cy="685800"/>
          </a:xfrm>
        </p:grpSpPr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8153280" y="3200400"/>
                  <a:ext cx="4431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*/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8153280" y="3657600"/>
                  <a:ext cx="4194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*/</m:t>
                      </m:r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597560" y="4114800"/>
                <a:ext cx="4330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ω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Lω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48" name=""/>
          <p:cNvGrpSpPr/>
          <p:nvPr/>
        </p:nvGrpSpPr>
        <p:grpSpPr>
          <a:xfrm>
            <a:off x="4572000" y="4800600"/>
            <a:ext cx="3780000" cy="647640"/>
            <a:chOff x="4572000" y="4800600"/>
            <a:chExt cx="3780000" cy="647640"/>
          </a:xfrm>
        </p:grpSpPr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4572000" y="4800600"/>
                  <a:ext cx="167652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Lω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Lω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50" name=""/>
            <p:cNvSpPr/>
            <p:nvPr/>
          </p:nvSpPr>
          <p:spPr>
            <a:xfrm>
              <a:off x="6322680" y="4800600"/>
              <a:ext cx="2029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lgebraic probl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572000" y="5486400"/>
                <a:ext cx="3238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4574880" y="6095880"/>
            <a:ext cx="44769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ing the steady state solution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 accomplished with only algebraic tool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geaux" descr=""/>
          <p:cNvPicPr/>
          <p:nvPr/>
        </p:nvPicPr>
        <p:blipFill>
          <a:blip r:embed="rId3"/>
          <a:stretch/>
        </p:blipFill>
        <p:spPr>
          <a:xfrm>
            <a:off x="8410680" y="6567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66680" y="58680"/>
            <a:ext cx="4022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URTHER ANALYSIS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663560" y="457200"/>
                <a:ext cx="58039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solution is 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applied voltage is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comparison purposes one can write 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752480" y="1600200"/>
                <a:ext cx="255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φ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971800" y="2133720"/>
                <a:ext cx="3238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800600" y="1523880"/>
                <a:ext cx="25653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111480" y="2819520"/>
                <a:ext cx="2832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φ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ω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895480" y="3505320"/>
                <a:ext cx="33782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ω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286000" y="4191120"/>
                <a:ext cx="46483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L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the current ALWAYS lags the voltag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600200" y="4648320"/>
                <a:ext cx="59198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ure inductor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the current lags the voltage by 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5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4662360" y="6539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4129200" y="6543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120" y="152280"/>
            <a:ext cx="6651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VING A SIMPLE ONE LOOP CIRCUIT CAN BE VERY LABOR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ONE USES SINUSOIDAL EXCI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35160" y="914400"/>
            <a:ext cx="67276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MAKE ANALYSIS SIMPLER ONE RELATES SINUSOIDAL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COMPLEX NUMBERS. THE ANALYSIS OF STEADY STATE WILL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VERTED TO SOLVING SYSTEMS OF ALGEBRAIC EQUATIONS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33360" y="1814400"/>
            <a:ext cx="3134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…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COMPLEX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28600" y="2666880"/>
            <a:ext cx="2743200" cy="2438640"/>
            <a:chOff x="228600" y="2666880"/>
            <a:chExt cx="2743200" cy="2438640"/>
          </a:xfrm>
        </p:grpSpPr>
        <p:graphicFrame>
          <p:nvGraphicFramePr>
            <p:cNvPr id="172" name=""/>
            <p:cNvGraphicFramePr/>
            <p:nvPr/>
          </p:nvGraphicFramePr>
          <p:xfrm>
            <a:off x="228600" y="2666880"/>
            <a:ext cx="2743200" cy="2438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2666880"/>
                      <a:ext cx="2743200" cy="243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>
                  <a:off x="1956600" y="3765240"/>
                  <a:ext cx="389880" cy="23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429000" y="3048120"/>
                <a:ext cx="3720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625760" y="2209680"/>
                <a:ext cx="590688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SENTIAL  IDENTITY: 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θ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Euler identit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733920" y="3886200"/>
                <a:ext cx="2971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t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jθ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7238880" y="3429000"/>
                <a:ext cx="1384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*/</m:t>
                    </m:r>
                    <m:r>
                      <m:t xml:space="preserve">j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nd ad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038480" y="5181480"/>
                <a:ext cx="1130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jθ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3376800" y="4343400"/>
            <a:ext cx="51811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everybody knows the frequency of the sinus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n one can skip the term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exp(jw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4662360" y="6539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129200" y="6543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6T09:31:13Z</dcterms:created>
  <dc:creator>Jorge Aravena</dc:creator>
  <dc:description/>
  <dc:language>en-US</dc:language>
  <cp:lastModifiedBy>student</cp:lastModifiedBy>
  <dcterms:modified xsi:type="dcterms:W3CDTF">2001-06-14T16:40:01Z</dcterms:modified>
  <cp:revision>33</cp:revision>
  <dc:subject/>
  <dc:title>No Slide Title</dc:title>
</cp:coreProperties>
</file>