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693-FA85-454C-B93D-FC26663D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8C4-8856-45B1-A664-483B58E2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1C6-BDE0-474C-B2B2-990E4328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326-33A0-475E-A541-AD5F523B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E71-97D9-4B41-BE24-E94B7A43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3E2-D740-4553-A3EF-DAAA1D16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64D-CF02-4A60-BFAB-D097802B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6AF-8A55-4B3C-946B-E4D439AC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552-CA5E-4AD4-8691-58E412EA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4F7-BA69-4370-A8DC-EFDCABDB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971-8193-4D9F-9CF9-AF966208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2BB-885B-41C2-A593-99F45B5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6CC0-6C31-45A7-BFF9-3C150B375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2920" y="3182760"/>
            <a:ext cx="31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Y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F10.009A_W106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F10.009B_W1068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F10.007B_W106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F10.010A_W1069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F10.010B_W1069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F10.010B_W106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8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1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3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4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F10.012A_W1072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34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40" name="F10.007B_W1066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4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F10.012A_W1072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628880" cy="4161600"/>
            <a:chOff x="152280" y="1492200"/>
            <a:chExt cx="4628880" cy="4161600"/>
          </a:xfrm>
        </p:grpSpPr>
        <p:sp>
          <p:nvSpPr>
            <p:cNvPr id="435" name=""/>
            <p:cNvSpPr/>
            <p:nvPr/>
          </p:nvSpPr>
          <p:spPr>
            <a:xfrm>
              <a:off x="1878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F10.008_W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10.001A_W1060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F10.001B_W1060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F10.012A_W1072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F10.010B_W10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F10.013_W107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F10.007B_W1066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3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684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686" name="F10.013_W107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7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88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689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F10.015_W1075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1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02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03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728" name="stop" descr=""/>
            <p:cNvPicPr/>
            <p:nvPr/>
          </p:nvPicPr>
          <p:blipFill>
            <a:blip r:embed="rId2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10.002_W1061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F10.003_W1062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F10.001B_W1060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F10.004A_W1063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F10.004B_W1063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F10.005A_W1064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F10.005B_W1064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10.007A_W1066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10.006_W1065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F10.007B_W1066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F10.006_W1065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F10.003_W1062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F10.001B_W1060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3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F10.008_W1067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4280" y="457200"/>
                <a:ext cx="636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,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F10.008_W1067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F10.003_W1062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F10.001B_W106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student</cp:lastModifiedBy>
  <dcterms:modified xsi:type="dcterms:W3CDTF">2001-08-29T18:03:22Z</dcterms:modified>
  <cp:revision>23</cp:revision>
  <dc:subject/>
  <dc:title>No Slide Title</dc:title>
</cp:coreProperties>
</file>