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50CF-DFB8-46D3-9708-3D4C13A11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E117-F1FE-4F93-8DE0-106050DD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CE2A-1736-4598-B1C9-EF27C9F6F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7F56-A8B4-4BF3-915F-DDE3AD9A2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3E43-5C56-4644-B85C-E7E05628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AC60-F00F-4243-A311-93CA6BEE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E35B-A462-404C-AFAD-024EE229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C554-37EE-49EB-B025-BF2FF85D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E9A7-8F9C-4F17-A332-40DBD9B1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17AC-F315-4A40-A9C7-9DC4F304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EB06-4F73-4BE2-BAE4-EFABF099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C58F-7503-4A26-BB0E-BFBA8F93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9422-B091-479C-8884-7155300D0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572000" y="1295280"/>
            <a:ext cx="4281480" cy="1973160"/>
            <a:chOff x="4572000" y="1295280"/>
            <a:chExt cx="4281480" cy="1973160"/>
          </a:xfrm>
        </p:grpSpPr>
        <p:graphicFrame>
          <p:nvGraphicFramePr>
            <p:cNvPr id="42" name=""/>
            <p:cNvGraphicFramePr/>
            <p:nvPr/>
          </p:nvGraphicFramePr>
          <p:xfrm>
            <a:off x="4648320" y="1295280"/>
            <a:ext cx="4205160" cy="1973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48320" y="1295280"/>
                      <a:ext cx="4205160" cy="197316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4" name=""/>
                <p:cNvSpPr txBox="1"/>
                <p:nvPr/>
              </p:nvSpPr>
              <p:spPr>
                <a:xfrm>
                  <a:off x="6934320" y="1295280"/>
                  <a:ext cx="609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4572000" y="1295280"/>
                  <a:ext cx="914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IND 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" name=""/>
          <p:cNvSpPr/>
          <p:nvPr/>
        </p:nvSpPr>
        <p:spPr>
          <a:xfrm>
            <a:off x="460800" y="41400"/>
            <a:ext cx="44326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IRCUITS WITH DEPENDE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30480" y="304920"/>
            <a:ext cx="4127760" cy="946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GENERAL 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REAT DEPENDENT SOURCES AS REG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OURCES AND ADD ONE MORE EQUATION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CONTROLLING VARI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724280" y="5029200"/>
                <a:ext cx="105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115200" y="457200"/>
            <a:ext cx="4341240" cy="94644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A CONVENTION ABOUT DEPENDENT SOURC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NLESS OTHERWISE SPECIFIED TH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ND VOLTAGE VARIABLES ARE ASSUMED IN 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NITS OF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Amp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AND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Vo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6640" y="3048120"/>
            <a:ext cx="4554720" cy="52020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OR THIS EXAMPLE THE MULTIPLIER MUST HA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NITS OF OH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6320" y="1463760"/>
          <a:ext cx="3271680" cy="15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1463760"/>
                    <a:ext cx="3271680" cy="15843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76320" y="3581280"/>
                <a:ext cx="3431880" cy="14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THER  DEPENDENT SOURCE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 scalar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γ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(</m:t>
                        </m:r>
                        <m:r>
                          <m:t xml:space="preserve">γ</m:t>
                        </m:r>
                        <m:r>
                          <m:rPr>
                            <m:lit/>
                            <m:nor/>
                          </m:rPr>
                          <m:t xml:space="preserve"> Siemen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(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 scalar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4" name=""/>
          <p:cNvGrpSpPr/>
          <p:nvPr/>
        </p:nvGrpSpPr>
        <p:grpSpPr>
          <a:xfrm>
            <a:off x="76320" y="5029200"/>
            <a:ext cx="4244400" cy="1231920"/>
            <a:chOff x="76320" y="5029200"/>
            <a:chExt cx="4244400" cy="1231920"/>
          </a:xfrm>
        </p:grpSpPr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76320" y="5029200"/>
                  <a:ext cx="3429000" cy="12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N  ALTERNATIVE  DESCRIPTION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αI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α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A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ASSUMES CURRENT IN  mA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6" name=""/>
            <p:cNvSpPr/>
            <p:nvPr/>
          </p:nvSpPr>
          <p:spPr>
            <a:xfrm>
              <a:off x="2219760" y="5460840"/>
              <a:ext cx="2100960" cy="3070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UNITS ARE EXPLIC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638680" y="1981080"/>
            <a:ext cx="2130480" cy="988920"/>
            <a:chOff x="5638680" y="1981080"/>
            <a:chExt cx="2130480" cy="988920"/>
          </a:xfrm>
        </p:grpSpPr>
        <p:sp>
          <p:nvSpPr>
            <p:cNvPr id="58" name=""/>
            <p:cNvSpPr/>
            <p:nvPr/>
          </p:nvSpPr>
          <p:spPr>
            <a:xfrm>
              <a:off x="5638680" y="1981080"/>
              <a:ext cx="2130480" cy="988920"/>
            </a:xfrm>
            <a:custGeom>
              <a:avLst/>
              <a:gdLst/>
              <a:ahLst/>
              <a:rect l="l" t="t" r="r" b="b"/>
              <a:pathLst>
                <a:path w="1344" h="624">
                  <a:moveTo>
                    <a:pt x="0" y="624"/>
                  </a:moveTo>
                  <a:lnTo>
                    <a:pt x="0" y="0"/>
                  </a:lnTo>
                  <a:lnTo>
                    <a:pt x="1344" y="0"/>
                  </a:lnTo>
                  <a:lnTo>
                    <a:pt x="1344" y="624"/>
                  </a:lnTo>
                  <a:lnTo>
                    <a:pt x="384" y="624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96360" y="2590200"/>
              <a:ext cx="500760" cy="3070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756680" y="3359160"/>
            <a:ext cx="3167640" cy="7333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A PLA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INGLE LOOP CIRCUI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SE KVL TO DETERMIN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724280" y="4181400"/>
            <a:ext cx="4380480" cy="825120"/>
            <a:chOff x="4724280" y="4181400"/>
            <a:chExt cx="4380480" cy="825120"/>
          </a:xfrm>
        </p:grpSpPr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4724280" y="4181400"/>
                  <a:ext cx="3340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VL:  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k</m:t>
                      </m:r>
                      <m:r>
                        <m:t xml:space="preserve">∗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5</m:t>
                      </m:r>
                      <m:r>
                        <m:t xml:space="preserve">k</m:t>
                      </m:r>
                      <m:r>
                        <m:t xml:space="preserve">∗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3" name=""/>
            <p:cNvSpPr/>
            <p:nvPr/>
          </p:nvSpPr>
          <p:spPr>
            <a:xfrm>
              <a:off x="4763520" y="4486320"/>
              <a:ext cx="4341240" cy="52020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ONE EQUATION, TWO UNKNOWNS. CONTROL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VARIABLE PROVIDES EXTRA EQU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724280" y="5334120"/>
            <a:ext cx="3736440" cy="628560"/>
            <a:chOff x="4724280" y="5334120"/>
            <a:chExt cx="3736440" cy="628560"/>
          </a:xfrm>
        </p:grpSpPr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4724280" y="5638680"/>
                  <a:ext cx="83844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6" name=""/>
            <p:cNvSpPr/>
            <p:nvPr/>
          </p:nvSpPr>
          <p:spPr>
            <a:xfrm>
              <a:off x="4759560" y="5334120"/>
              <a:ext cx="370116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REPLACE AND SOLVE FOR THE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740120" y="5943600"/>
            <a:ext cx="1676160" cy="595440"/>
            <a:chOff x="4740120" y="5943600"/>
            <a:chExt cx="1676160" cy="595440"/>
          </a:xfrm>
        </p:grpSpPr>
        <p:grpSp>
          <p:nvGrpSpPr>
            <p:cNvPr id="68" name=""/>
            <p:cNvGrpSpPr/>
            <p:nvPr/>
          </p:nvGrpSpPr>
          <p:grpSpPr>
            <a:xfrm>
              <a:off x="4740120" y="6248520"/>
              <a:ext cx="1676160" cy="290520"/>
              <a:chOff x="4740120" y="6248520"/>
              <a:chExt cx="1676160" cy="290520"/>
            </a:xfrm>
          </p:grpSpPr>
          <mc:AlternateContent>
            <mc:Choice xmlns:a14="http://schemas.microsoft.com/office/drawing/2010/main" Requires="a14">
              <p:sp>
                <p:nvSpPr>
                  <p:cNvPr id="69" name=""/>
                  <p:cNvSpPr txBox="1"/>
                  <p:nvPr/>
                </p:nvSpPr>
                <p:spPr>
                  <a:xfrm>
                    <a:off x="4740120" y="6248520"/>
                    <a:ext cx="1049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k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0" name=""/>
                  <p:cNvSpPr txBox="1"/>
                  <p:nvPr/>
                </p:nvSpPr>
                <p:spPr>
                  <a:xfrm>
                    <a:off x="5815080" y="6248520"/>
                    <a:ext cx="60120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1" name=""/>
            <p:cNvSpPr/>
            <p:nvPr/>
          </p:nvSpPr>
          <p:spPr>
            <a:xfrm>
              <a:off x="4746960" y="5943600"/>
              <a:ext cx="156744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USE OHM’S L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304920" y="228600"/>
          <a:ext cx="7162560" cy="16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7162560" cy="16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417600" y="1844640"/>
            <a:ext cx="6581520" cy="733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A PLA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F V_s IS KNOWN V_0 CAN BE DETERMINED USING VOLTAGE DIVID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O FIND V_s WE HAVE A SINGLE NODE-PAIR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6320" y="2590920"/>
            <a:ext cx="4152600" cy="1281960"/>
            <a:chOff x="76320" y="2590920"/>
            <a:chExt cx="4152600" cy="1281960"/>
          </a:xfrm>
        </p:grpSpPr>
        <p:graphicFrame>
          <p:nvGraphicFramePr>
            <p:cNvPr id="78" name=""/>
            <p:cNvGraphicFramePr/>
            <p:nvPr/>
          </p:nvGraphicFramePr>
          <p:xfrm>
            <a:off x="76320" y="2590920"/>
            <a:ext cx="4038480" cy="725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2590920"/>
                      <a:ext cx="4038480" cy="7254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0" name=""/>
            <p:cNvSpPr/>
            <p:nvPr/>
          </p:nvSpPr>
          <p:spPr>
            <a:xfrm>
              <a:off x="101160" y="3352680"/>
              <a:ext cx="4127760" cy="52020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ALGEBRAICALLY, THERE ARE TWO UNKNOW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AND JUST ONE EQU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495680" y="2590920"/>
            <a:ext cx="4595040" cy="1217520"/>
            <a:chOff x="4495680" y="2590920"/>
            <a:chExt cx="4595040" cy="1217520"/>
          </a:xfrm>
        </p:grpSpPr>
        <p:sp>
          <p:nvSpPr>
            <p:cNvPr id="82" name=""/>
            <p:cNvSpPr/>
            <p:nvPr/>
          </p:nvSpPr>
          <p:spPr>
            <a:xfrm>
              <a:off x="4536000" y="2590920"/>
              <a:ext cx="4554720" cy="52020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 EQUATION FOR THE CONTROL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VARIABLE PROVIDES THE ADDITIONAL EQU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4502160" y="3279600"/>
                  <a:ext cx="13968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graphicFrame>
          <p:nvGraphicFramePr>
            <p:cNvPr id="84" name=""/>
            <p:cNvGraphicFramePr/>
            <p:nvPr/>
          </p:nvGraphicFramePr>
          <p:xfrm>
            <a:off x="4495680" y="3108240"/>
            <a:ext cx="959040" cy="700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495680" y="3108240"/>
                      <a:ext cx="959040" cy="7002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86" name=""/>
          <p:cNvGrpSpPr/>
          <p:nvPr/>
        </p:nvGrpSpPr>
        <p:grpSpPr>
          <a:xfrm>
            <a:off x="92160" y="3962520"/>
            <a:ext cx="3504960" cy="1092240"/>
            <a:chOff x="92160" y="3962520"/>
            <a:chExt cx="3504960" cy="1092240"/>
          </a:xfrm>
        </p:grpSpPr>
        <p:graphicFrame>
          <p:nvGraphicFramePr>
            <p:cNvPr id="87" name=""/>
            <p:cNvGraphicFramePr/>
            <p:nvPr/>
          </p:nvGraphicFramePr>
          <p:xfrm>
            <a:off x="92160" y="4208400"/>
            <a:ext cx="3504960" cy="846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160" y="4208400"/>
                      <a:ext cx="3504960" cy="84636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9" name=""/>
            <p:cNvSpPr/>
            <p:nvPr/>
          </p:nvSpPr>
          <p:spPr>
            <a:xfrm>
              <a:off x="106920" y="3962520"/>
              <a:ext cx="295452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SUBSTITUTION OF I_0 YIEL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0" y="2743200"/>
            <a:ext cx="4577760" cy="3247920"/>
            <a:chOff x="0" y="2743200"/>
            <a:chExt cx="4577760" cy="3247920"/>
          </a:xfrm>
        </p:grpSpPr>
        <p:sp>
          <p:nvSpPr>
            <p:cNvPr id="91" name=""/>
            <p:cNvSpPr/>
            <p:nvPr/>
          </p:nvSpPr>
          <p:spPr>
            <a:xfrm>
              <a:off x="0" y="2743200"/>
              <a:ext cx="1218960" cy="2514600"/>
            </a:xfrm>
            <a:custGeom>
              <a:avLst/>
              <a:gdLst/>
              <a:ahLst/>
              <a:rect l="l" t="t" r="r" b="b"/>
              <a:pathLst>
                <a:path w="768" h="1584">
                  <a:moveTo>
                    <a:pt x="768" y="384"/>
                  </a:moveTo>
                  <a:lnTo>
                    <a:pt x="720" y="48"/>
                  </a:lnTo>
                  <a:lnTo>
                    <a:pt x="0" y="0"/>
                  </a:lnTo>
                  <a:lnTo>
                    <a:pt x="0" y="432"/>
                  </a:lnTo>
                  <a:lnTo>
                    <a:pt x="720" y="336"/>
                  </a:lnTo>
                  <a:lnTo>
                    <a:pt x="0" y="1008"/>
                  </a:lnTo>
                  <a:lnTo>
                    <a:pt x="96" y="1584"/>
                  </a:lnTo>
                  <a:lnTo>
                    <a:pt x="528" y="1584"/>
                  </a:lnTo>
                  <a:lnTo>
                    <a:pt x="528" y="960"/>
                  </a:lnTo>
                  <a:lnTo>
                    <a:pt x="336" y="816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3080" y="5257800"/>
              <a:ext cx="4234680" cy="733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NOTICE THE CLEVER WAY OF WRITING mA 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HAVE VOLTS IN ALL NUMERATORS AND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SAME UNITS IN DENOMINATO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619440" y="4465800"/>
                <a:ext cx="18669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*/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⇒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4" name=""/>
          <p:cNvGrpSpPr/>
          <p:nvPr/>
        </p:nvGrpSpPr>
        <p:grpSpPr>
          <a:xfrm>
            <a:off x="5638680" y="4130640"/>
            <a:ext cx="2451240" cy="822240"/>
            <a:chOff x="5638680" y="4130640"/>
            <a:chExt cx="2451240" cy="822240"/>
          </a:xfrm>
        </p:grpSpPr>
        <p:sp>
          <p:nvSpPr>
            <p:cNvPr id="95" name=""/>
            <p:cNvSpPr/>
            <p:nvPr/>
          </p:nvSpPr>
          <p:spPr>
            <a:xfrm>
              <a:off x="5951520" y="4130640"/>
              <a:ext cx="1780920" cy="3070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VOLTAGE DI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5638680" y="4394160"/>
                  <a:ext cx="24512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k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)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52280" y="152280"/>
                <a:ext cx="10670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98" name=""/>
          <p:cNvGrpSpPr/>
          <p:nvPr/>
        </p:nvGrpSpPr>
        <p:grpSpPr>
          <a:xfrm>
            <a:off x="1101600" y="6480"/>
            <a:ext cx="8012520" cy="733320"/>
            <a:chOff x="1101600" y="6480"/>
            <a:chExt cx="8012520" cy="733320"/>
          </a:xfrm>
        </p:grpSpPr>
        <p:sp>
          <p:nvSpPr>
            <p:cNvPr id="99" name=""/>
            <p:cNvSpPr/>
            <p:nvPr/>
          </p:nvSpPr>
          <p:spPr>
            <a:xfrm>
              <a:off x="1101600" y="142920"/>
              <a:ext cx="5486400" cy="22860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73080" y="6480"/>
              <a:ext cx="2741040" cy="73332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CL TO THIS NODE.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DEPENDENT SOURCE IS JU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ANOTHER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152280"/>
          <a:ext cx="5419800" cy="22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280"/>
                    <a:ext cx="5419800" cy="225900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6320" y="76320"/>
                <a:ext cx="12189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5817600" y="304920"/>
            <a:ext cx="2207520" cy="9464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A PLA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NE LOOP PROBLEM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ND TH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N USE OHM’S LA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447920" y="838080"/>
            <a:ext cx="1418760" cy="1066680"/>
            <a:chOff x="1447920" y="838080"/>
            <a:chExt cx="1418760" cy="1066680"/>
          </a:xfrm>
        </p:grpSpPr>
        <p:sp>
          <p:nvSpPr>
            <p:cNvPr id="109" name=""/>
            <p:cNvSpPr/>
            <p:nvPr/>
          </p:nvSpPr>
          <p:spPr>
            <a:xfrm>
              <a:off x="1447920" y="838080"/>
              <a:ext cx="1418760" cy="1066680"/>
            </a:xfrm>
            <a:custGeom>
              <a:avLst/>
              <a:gdLst/>
              <a:ahLst/>
              <a:rect l="l" t="t" r="r" b="b"/>
              <a:pathLst>
                <a:path w="768" h="528">
                  <a:moveTo>
                    <a:pt x="0" y="480"/>
                  </a:moveTo>
                  <a:lnTo>
                    <a:pt x="0" y="0"/>
                  </a:lnTo>
                  <a:lnTo>
                    <a:pt x="768" y="0"/>
                  </a:lnTo>
                  <a:lnTo>
                    <a:pt x="768" y="528"/>
                  </a:lnTo>
                  <a:lnTo>
                    <a:pt x="144" y="528"/>
                  </a:lnTo>
                </a:path>
              </a:pathLst>
            </a:custGeom>
            <a:solidFill>
              <a:srgbClr val="ccecff"/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63760" y="900720"/>
              <a:ext cx="1278000" cy="5806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KVL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HIS LO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001600" y="2489040"/>
            <a:ext cx="5057640" cy="1396800"/>
            <a:chOff x="2001600" y="2489040"/>
            <a:chExt cx="5057640" cy="1396800"/>
          </a:xfrm>
        </p:grpSpPr>
        <p:sp>
          <p:nvSpPr>
            <p:cNvPr id="112" name=""/>
            <p:cNvSpPr/>
            <p:nvPr/>
          </p:nvSpPr>
          <p:spPr>
            <a:xfrm>
              <a:off x="2001600" y="2489040"/>
              <a:ext cx="5057640" cy="5806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HE DEPENDENT SOURCE IS ONE MORE 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3" name=""/>
            <p:cNvGraphicFramePr/>
            <p:nvPr/>
          </p:nvGraphicFramePr>
          <p:xfrm>
            <a:off x="2215800" y="3123000"/>
            <a:ext cx="4084920" cy="762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15800" y="3123000"/>
                      <a:ext cx="4084920" cy="7628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15" name=""/>
          <p:cNvGrpSpPr/>
          <p:nvPr/>
        </p:nvGrpSpPr>
        <p:grpSpPr>
          <a:xfrm>
            <a:off x="2154600" y="4011480"/>
            <a:ext cx="5179320" cy="1154160"/>
            <a:chOff x="2154600" y="4011480"/>
            <a:chExt cx="5179320" cy="1154160"/>
          </a:xfrm>
        </p:grpSpPr>
        <p:sp>
          <p:nvSpPr>
            <p:cNvPr id="116" name=""/>
            <p:cNvSpPr/>
            <p:nvPr/>
          </p:nvSpPr>
          <p:spPr>
            <a:xfrm>
              <a:off x="2154600" y="4011480"/>
              <a:ext cx="5179320" cy="5806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HE EQUATION FOR THE CONTROLLING VARI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ROVIDES THE ADDITIONAL EQU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7" name=""/>
            <p:cNvGraphicFramePr/>
            <p:nvPr/>
          </p:nvGraphicFramePr>
          <p:xfrm>
            <a:off x="2454120" y="4586040"/>
            <a:ext cx="1435320" cy="579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454120" y="4586040"/>
                      <a:ext cx="1435320" cy="5796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19" name=""/>
          <p:cNvGrpSpPr/>
          <p:nvPr/>
        </p:nvGrpSpPr>
        <p:grpSpPr>
          <a:xfrm>
            <a:off x="95400" y="5230800"/>
            <a:ext cx="3960360" cy="871560"/>
            <a:chOff x="95400" y="5230800"/>
            <a:chExt cx="3960360" cy="871560"/>
          </a:xfrm>
        </p:grpSpPr>
        <p:sp>
          <p:nvSpPr>
            <p:cNvPr id="120" name=""/>
            <p:cNvSpPr/>
            <p:nvPr/>
          </p:nvSpPr>
          <p:spPr>
            <a:xfrm>
              <a:off x="95400" y="5230800"/>
              <a:ext cx="3960360" cy="33732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REPLACE AND SOLVE FOR CURRENT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Console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1" name=""/>
            <p:cNvGraphicFramePr/>
            <p:nvPr/>
          </p:nvGraphicFramePr>
          <p:xfrm>
            <a:off x="380880" y="5562720"/>
            <a:ext cx="1359000" cy="539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80880" y="5562720"/>
                      <a:ext cx="1359000" cy="5396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23" name=""/>
          <p:cNvGrpSpPr/>
          <p:nvPr/>
        </p:nvGrpSpPr>
        <p:grpSpPr>
          <a:xfrm>
            <a:off x="4589280" y="5257800"/>
            <a:ext cx="3024360" cy="787320"/>
            <a:chOff x="4589280" y="5257800"/>
            <a:chExt cx="3024360" cy="787320"/>
          </a:xfrm>
        </p:grpSpPr>
        <p:sp>
          <p:nvSpPr>
            <p:cNvPr id="124" name=""/>
            <p:cNvSpPr/>
            <p:nvPr/>
          </p:nvSpPr>
          <p:spPr>
            <a:xfrm>
              <a:off x="4589280" y="5306760"/>
              <a:ext cx="1872000" cy="33732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…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AND FINALLY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5" name=""/>
            <p:cNvGraphicFramePr/>
            <p:nvPr/>
          </p:nvGraphicFramePr>
          <p:xfrm>
            <a:off x="6324480" y="5257800"/>
            <a:ext cx="1289160" cy="787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324480" y="5257800"/>
                      <a:ext cx="1289160" cy="78732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pic>
        <p:nvPicPr>
          <p:cNvPr id="127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0"/>
            <a:ext cx="5410080" cy="2768760"/>
            <a:chOff x="0" y="0"/>
            <a:chExt cx="5410080" cy="2768760"/>
          </a:xfrm>
        </p:grpSpPr>
        <p:graphicFrame>
          <p:nvGraphicFramePr>
            <p:cNvPr id="131" name=""/>
            <p:cNvGraphicFramePr/>
            <p:nvPr/>
          </p:nvGraphicFramePr>
          <p:xfrm>
            <a:off x="0" y="880920"/>
            <a:ext cx="5410080" cy="1887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880920"/>
                      <a:ext cx="5410080" cy="18878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0" y="0"/>
                  <a:ext cx="1828800" cy="70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IND  </m:t>
                      </m:r>
                      <m:r>
                        <m:t xml:space="preserve">G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4" name=""/>
          <p:cNvSpPr/>
          <p:nvPr/>
        </p:nvSpPr>
        <p:spPr>
          <a:xfrm>
            <a:off x="5505120" y="457200"/>
            <a:ext cx="3594600" cy="8240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Console"/>
              </a:rPr>
              <a:t>A PLA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NE LOOP ON THE LEFT - KV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NE NODE-PAIR ON RIGHT - K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990720" y="1371600"/>
            <a:ext cx="761400" cy="990360"/>
            <a:chOff x="990720" y="1371600"/>
            <a:chExt cx="761400" cy="990360"/>
          </a:xfrm>
        </p:grpSpPr>
        <p:sp>
          <p:nvSpPr>
            <p:cNvPr id="136" name=""/>
            <p:cNvSpPr/>
            <p:nvPr/>
          </p:nvSpPr>
          <p:spPr>
            <a:xfrm>
              <a:off x="990720" y="1371600"/>
              <a:ext cx="761400" cy="990360"/>
            </a:xfrm>
            <a:custGeom>
              <a:avLst/>
              <a:gdLst/>
              <a:ahLst/>
              <a:rect l="l" t="t" r="r" b="b"/>
              <a:pathLst>
                <a:path w="384" h="528">
                  <a:moveTo>
                    <a:pt x="48" y="384"/>
                  </a:moveTo>
                  <a:lnTo>
                    <a:pt x="48" y="0"/>
                  </a:lnTo>
                  <a:lnTo>
                    <a:pt x="384" y="0"/>
                  </a:lnTo>
                  <a:lnTo>
                    <a:pt x="384" y="528"/>
                  </a:lnTo>
                  <a:lnTo>
                    <a:pt x="0" y="528"/>
                  </a:lnTo>
                </a:path>
              </a:pathLst>
            </a:custGeom>
            <a:solidFill>
              <a:srgbClr val="ccecff"/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01960" y="1461600"/>
              <a:ext cx="50076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157400" y="2743200"/>
            <a:ext cx="3262320" cy="762120"/>
            <a:chOff x="1157400" y="2743200"/>
            <a:chExt cx="3262320" cy="762120"/>
          </a:xfrm>
        </p:grpSpPr>
        <p:graphicFrame>
          <p:nvGraphicFramePr>
            <p:cNvPr id="139" name=""/>
            <p:cNvGraphicFramePr/>
            <p:nvPr/>
          </p:nvGraphicFramePr>
          <p:xfrm>
            <a:off x="1157400" y="3044880"/>
            <a:ext cx="3262320" cy="460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57400" y="3044880"/>
                      <a:ext cx="3262320" cy="4604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41" name=""/>
            <p:cNvSpPr/>
            <p:nvPr/>
          </p:nvSpPr>
          <p:spPr>
            <a:xfrm>
              <a:off x="1159200" y="2743200"/>
              <a:ext cx="50076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200400" y="3429000"/>
            <a:ext cx="4292640" cy="822240"/>
            <a:chOff x="3200400" y="3429000"/>
            <a:chExt cx="4292640" cy="822240"/>
          </a:xfrm>
        </p:grpSpPr>
        <p:graphicFrame>
          <p:nvGraphicFramePr>
            <p:cNvPr id="143" name=""/>
            <p:cNvGraphicFramePr/>
            <p:nvPr/>
          </p:nvGraphicFramePr>
          <p:xfrm>
            <a:off x="3200400" y="3581280"/>
            <a:ext cx="1932120" cy="550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00400" y="3581280"/>
                      <a:ext cx="1932120" cy="5504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"/>
            <p:cNvGraphicFramePr/>
            <p:nvPr/>
          </p:nvGraphicFramePr>
          <p:xfrm>
            <a:off x="5105520" y="3429000"/>
            <a:ext cx="2387520" cy="822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105520" y="3429000"/>
                      <a:ext cx="2387520" cy="8222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47" name=""/>
          <p:cNvSpPr/>
          <p:nvPr/>
        </p:nvSpPr>
        <p:spPr>
          <a:xfrm>
            <a:off x="5057640" y="4267080"/>
            <a:ext cx="252756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LSO A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971800" y="838080"/>
            <a:ext cx="1735920" cy="533160"/>
            <a:chOff x="2971800" y="838080"/>
            <a:chExt cx="1735920" cy="533160"/>
          </a:xfrm>
        </p:grpSpPr>
        <p:sp>
          <p:nvSpPr>
            <p:cNvPr id="149" name=""/>
            <p:cNvSpPr/>
            <p:nvPr/>
          </p:nvSpPr>
          <p:spPr>
            <a:xfrm>
              <a:off x="4206960" y="838080"/>
              <a:ext cx="50076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C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971800" y="1142640"/>
              <a:ext cx="1447560" cy="22860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006560" y="4267080"/>
            <a:ext cx="2041200" cy="1066680"/>
            <a:chOff x="1006560" y="4267080"/>
            <a:chExt cx="2041200" cy="1066680"/>
          </a:xfrm>
        </p:grpSpPr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1008360" y="4581000"/>
                  <a:ext cx="2039400" cy="75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3" name=""/>
            <p:cNvSpPr/>
            <p:nvPr/>
          </p:nvSpPr>
          <p:spPr>
            <a:xfrm>
              <a:off x="1006560" y="4267080"/>
              <a:ext cx="50076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C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4" name=""/>
          <p:cNvGraphicFramePr/>
          <p:nvPr/>
        </p:nvGraphicFramePr>
        <p:xfrm>
          <a:off x="3048120" y="4724280"/>
          <a:ext cx="2514600" cy="628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8120" y="4724280"/>
                    <a:ext cx="2514600" cy="6289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990720" y="5410080"/>
            <a:ext cx="4876200" cy="914040"/>
            <a:chOff x="990720" y="5410080"/>
            <a:chExt cx="4876200" cy="914040"/>
          </a:xfrm>
        </p:grpSpPr>
        <p:graphicFrame>
          <p:nvGraphicFramePr>
            <p:cNvPr id="157" name=""/>
            <p:cNvGraphicFramePr/>
            <p:nvPr/>
          </p:nvGraphicFramePr>
          <p:xfrm>
            <a:off x="990720" y="5410080"/>
            <a:ext cx="2505240" cy="914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990720" y="5410080"/>
                      <a:ext cx="2505240" cy="9140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"/>
            <p:cNvGraphicFramePr/>
            <p:nvPr/>
          </p:nvGraphicFramePr>
          <p:xfrm>
            <a:off x="3497400" y="5410080"/>
            <a:ext cx="2369520" cy="9072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497400" y="5410080"/>
                      <a:ext cx="2369520" cy="9072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pic>
        <p:nvPicPr>
          <p:cNvPr id="161" name="stop" descr=""/>
          <p:cNvPicPr/>
          <p:nvPr/>
        </p:nvPicPr>
        <p:blipFill>
          <a:blip r:embed="rId15"/>
          <a:stretch/>
        </p:blipFill>
        <p:spPr>
          <a:xfrm>
            <a:off x="8609040" y="6324480"/>
            <a:ext cx="514440" cy="514440"/>
          </a:xfrm>
          <a:prstGeom prst="rect">
            <a:avLst/>
          </a:prstGeom>
          <a:ln w="0">
            <a:noFill/>
          </a:ln>
        </p:spPr>
      </p:pic>
      <p:sp>
        <p:nvSpPr>
          <p:cNvPr id="16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4T19:49:34Z</dcterms:created>
  <dc:creator>student</dc:creator>
  <dc:description/>
  <dc:language>en-US</dc:language>
  <cp:lastModifiedBy>Jorge Aravena</cp:lastModifiedBy>
  <dcterms:modified xsi:type="dcterms:W3CDTF">2001-03-22T13:26:09Z</dcterms:modified>
  <cp:revision>8</cp:revision>
  <dc:subject/>
  <dc:title>No Slide Title</dc:title>
</cp:coreProperties>
</file>