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232-5224-462A-A4D1-ADC38301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1E2-FA3F-4B78-9935-5F722A09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43A-3279-49CA-B4EA-FEFD5C85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1D8-00B3-4DCD-9A93-0E6EABCB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054-5D95-4B3C-986A-1ED15E5C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04F-0D05-4FB1-AA2F-9290B08E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F89-DF73-4FF4-B74C-247242C9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9F5-6DBC-4C47-875A-535E3DD4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674-3AFD-436F-AAB4-7A2B03F0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D52-2924-4FE4-9BC2-BBAE2BB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36B-B12F-4E55-B520-D41D6C4F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FC5-2A05-4E78-AC0B-41AC1CC5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DAE3-C7EF-44E0-9048-213084E37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0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5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stop" descr=""/>
          <p:cNvPicPr/>
          <p:nvPr/>
        </p:nvPicPr>
        <p:blipFill>
          <a:blip r:embed="rId3"/>
          <a:stretch/>
        </p:blipFill>
        <p:spPr>
          <a:xfrm>
            <a:off x="8629560" y="63435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105520" y="13716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3716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648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52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1219320"/>
          <a:ext cx="28954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219320"/>
                    <a:ext cx="28954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684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2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3886200"/>
          <a:ext cx="2209680" cy="20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86200"/>
                    <a:ext cx="2209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5943600"/>
          <a:ext cx="34959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943600"/>
                    <a:ext cx="3495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82472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7200" y="2660760"/>
            <a:ext cx="184284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4024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143680" y="487692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00600" y="4876920"/>
            <a:ext cx="3733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72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5056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 rot="10800000">
          <a:off x="5445000" y="396216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5445000" y="396216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eaux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85800" y="51055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28800" y="548640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1-03-19T12:57:51Z</dcterms:modified>
  <cp:revision>18</cp:revision>
  <dc:subject/>
  <dc:title>No Slide Title</dc:title>
</cp:coreProperties>
</file>