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27.wmf" ContentType="image/x-wmf"/>
  <Override PartName="/ppt/media/image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7.wmf" ContentType="image/x-wmf"/>
  <Override PartName="/ppt/media/image10.png" ContentType="image/png"/>
  <Override PartName="/ppt/media/image47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13.png" ContentType="image/png"/>
  <Override PartName="/ppt/media/image53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2A9-BDC4-4A09-BA85-DF19BB15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DDF-58E0-483C-BF0C-B7C1C5E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D63-9FD5-4BF4-B72B-445B8EAB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4AA-27D4-4A0B-B982-6798C14A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F65-CFB6-4372-898C-9FA3CB3C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B55-2E89-4686-ABA8-29564AF9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C7B-D9BC-42F0-95B8-03D353D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416-4A9E-452F-BC77-2A1E556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650-C3AF-4239-AC75-66520B5F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FA8-3FA6-4555-9338-B132285B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AB9-1F52-410C-BC0A-835D562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528-B68F-4DF7-B8A3-81272A0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B876-5691-4A2A-B37B-CAE03925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83" name="stop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7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8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09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8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20T02:52:45Z</dcterms:modified>
  <cp:revision>20</cp:revision>
  <dc:subject/>
  <dc:title>No Slide Title</dc:title>
</cp:coreProperties>
</file>