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599-EA04-42EC-89B3-FE6F41EC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6BE-9AD6-4324-AD2A-D101BD60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145-882D-4709-80D1-74BC9C17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8A6-A3BF-41EE-977D-79FB03A5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4B04-F116-4FA6-8312-2873B3B6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6D9-5DE6-41FF-8850-B6D423A5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51DF-B92D-4690-B4FE-38F9C6C4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0F8-7414-42F3-ADC9-BA85C648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16C-BD28-4FC7-81F3-09FCCD73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F74-7B23-4936-992B-3BC8C4C9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8A5-03F5-4338-BB74-E05A33C5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83F-C391-48F2-8980-ECAFAFBE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5BFE-8568-4ED8-9ECB-6F2F46A55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760" y="519120"/>
            <a:ext cx="4825800" cy="5205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KIRCHHOFF VOLTAGE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58960" y="1616040"/>
            <a:ext cx="749592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ONE OF THE FUNDAMENTAL CONSERVATION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 ELECTRICAL ENGI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42000" y="3402000"/>
            <a:ext cx="5301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IS A CONSERVATION OF ENERGY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NERGY CANNOT BE CREATE NOR DESTROY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9520" y="141120"/>
            <a:ext cx="34725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IRCHHOFF VOLTAGE LAW (KV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040" y="457200"/>
            <a:ext cx="45547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 IS A CONSERVATION OF ENERGY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0" y="777960"/>
            <a:ext cx="476784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POSITIVE CHARGE GAINS ENERGY AS IT MO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A POINT WITH HIGHER VOLTAGE AND REL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ERGY IF IT MOVES TO A POINT WITH L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19320" y="1752480"/>
          <a:ext cx="199368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1993680" cy="1652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3520" y="4114800"/>
          <a:ext cx="358128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114800"/>
                    <a:ext cx="3581280" cy="1584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410080" y="304920"/>
          <a:ext cx="2667240" cy="199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304920"/>
                    <a:ext cx="2667240" cy="19936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302080" y="59688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7162920" y="838080"/>
            <a:ext cx="380880" cy="76212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7816680" y="143676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 flipH="1">
            <a:off x="6248520" y="1752480"/>
            <a:ext cx="1218960" cy="0"/>
          </a:xfrm>
          <a:prstGeom prst="line">
            <a:avLst/>
          </a:prstGeom>
          <a:ln w="255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388200" y="220500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5442120" y="15840"/>
            <a:ext cx="2711160" cy="3070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“THOUGHT EXPERIM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90240" y="2606760"/>
            <a:ext cx="402120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THE CHARGE COMES BACK TO THE S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ITIAL POINT THE NET ENERGY GA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UST BE ZERO (Conservative networ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3368520"/>
            <a:ext cx="42346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THERWISE THE CHARGE COULD END UP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FINITE ENERGY, OR SUPPLY AN INFIN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MOUNT OF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587920" y="4110120"/>
                <a:ext cx="2171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4965120" y="4664160"/>
            <a:ext cx="38077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: THE ALGEBRAIC SUM OF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ROPS AROUND ANY LOOP MUST BE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34120" y="5337000"/>
          <a:ext cx="3276360" cy="119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5337000"/>
                    <a:ext cx="3276360" cy="1197000"/>
                  </a:xfrm>
                  <a:prstGeom prst="rect">
                    <a:avLst/>
                  </a:prstGeom>
                  <a:ln w="93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7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80960" y="-57240"/>
          <a:ext cx="330516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-57240"/>
                    <a:ext cx="330516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23760" y="2957400"/>
                <a:ext cx="25718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3" name=""/>
          <p:cNvGraphicFramePr/>
          <p:nvPr/>
        </p:nvGraphicFramePr>
        <p:xfrm>
          <a:off x="-76320" y="3429000"/>
          <a:ext cx="4321440" cy="25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320" y="3429000"/>
                    <a:ext cx="432144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225440" y="4400640"/>
                <a:ext cx="927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701880" y="3867120"/>
                <a:ext cx="939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379080" y="5883120"/>
            <a:ext cx="14608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bcde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6248520"/>
          <a:ext cx="4149720" cy="41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6248520"/>
                    <a:ext cx="4149720" cy="417240"/>
                  </a:xfrm>
                  <a:prstGeom prst="rect">
                    <a:avLst/>
                  </a:prstGeom>
                  <a:ln w="93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572000" y="1219320"/>
          <a:ext cx="4321080" cy="258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219320"/>
                    <a:ext cx="432108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638680" y="1828800"/>
            <a:ext cx="1397160" cy="1238400"/>
          </a:xfrm>
          <a:custGeom>
            <a:avLst/>
            <a:gdLst/>
            <a:ahLst/>
            <a:rect l="l" t="t" r="r" b="b"/>
            <a:pathLst>
              <a:path w="880" h="780">
                <a:moveTo>
                  <a:pt x="26" y="756"/>
                </a:moveTo>
                <a:cubicBezTo>
                  <a:pt x="79" y="602"/>
                  <a:pt x="5" y="502"/>
                  <a:pt x="2" y="367"/>
                </a:cubicBezTo>
                <a:cubicBezTo>
                  <a:pt x="0" y="253"/>
                  <a:pt x="2" y="138"/>
                  <a:pt x="2" y="24"/>
                </a:cubicBezTo>
                <a:cubicBezTo>
                  <a:pt x="795" y="16"/>
                  <a:pt x="672" y="251"/>
                  <a:pt x="797" y="0"/>
                </a:cubicBezTo>
                <a:cubicBezTo>
                  <a:pt x="880" y="250"/>
                  <a:pt x="867" y="487"/>
                  <a:pt x="867" y="756"/>
                </a:cubicBezTo>
                <a:cubicBezTo>
                  <a:pt x="772" y="739"/>
                  <a:pt x="675" y="749"/>
                  <a:pt x="579" y="733"/>
                </a:cubicBezTo>
                <a:cubicBezTo>
                  <a:pt x="436" y="738"/>
                  <a:pt x="293" y="738"/>
                  <a:pt x="151" y="756"/>
                </a:cubicBezTo>
                <a:cubicBezTo>
                  <a:pt x="133" y="768"/>
                  <a:pt x="118" y="780"/>
                  <a:pt x="96" y="78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30480" y="914400"/>
            <a:ext cx="4127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OOP DOES NOT HAVE TO BE 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067520" y="1981080"/>
                <a:ext cx="3240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486400" y="4648320"/>
                <a:ext cx="2790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819520" y="6172200"/>
            <a:ext cx="53316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30480" y="152280"/>
            <a:ext cx="4127760" cy="733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ROBLEM SOLVING TIP: KVL IS USEF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DETERMINE A VOLTAGE - FIND A LO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CLUDING THE UNKNOWN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34120" y="3809880"/>
                <a:ext cx="32004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AMPLE: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 KNOW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RMINE THE VOLTAGE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9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8560" y="168120"/>
            <a:ext cx="434124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CKGROUND: WHEN DISCUSSING KCL WE SA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NOT ALL POSSIBLE KC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INDEPENDENT. WE SHALL SEE THA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SITUATION ARISES WHEN USING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219320"/>
          <a:ext cx="465768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65768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28760" y="2228760"/>
            <a:ext cx="1143000" cy="2075040"/>
          </a:xfrm>
          <a:custGeom>
            <a:avLst/>
            <a:gdLst/>
            <a:ahLst/>
            <a:rect l="l" t="t" r="r" b="b"/>
            <a:pathLst>
              <a:path w="720" h="1309">
                <a:moveTo>
                  <a:pt x="65" y="0"/>
                </a:moveTo>
                <a:cubicBezTo>
                  <a:pt x="278" y="23"/>
                  <a:pt x="469" y="39"/>
                  <a:pt x="688" y="39"/>
                </a:cubicBezTo>
                <a:cubicBezTo>
                  <a:pt x="691" y="335"/>
                  <a:pt x="692" y="631"/>
                  <a:pt x="696" y="927"/>
                </a:cubicBezTo>
                <a:cubicBezTo>
                  <a:pt x="697" y="992"/>
                  <a:pt x="701" y="1057"/>
                  <a:pt x="704" y="1122"/>
                </a:cubicBezTo>
                <a:cubicBezTo>
                  <a:pt x="711" y="1289"/>
                  <a:pt x="657" y="1286"/>
                  <a:pt x="720" y="1286"/>
                </a:cubicBezTo>
                <a:cubicBezTo>
                  <a:pt x="590" y="1288"/>
                  <a:pt x="460" y="1290"/>
                  <a:pt x="330" y="1293"/>
                </a:cubicBezTo>
                <a:cubicBezTo>
                  <a:pt x="252" y="1295"/>
                  <a:pt x="174" y="1297"/>
                  <a:pt x="96" y="1301"/>
                </a:cubicBezTo>
                <a:cubicBezTo>
                  <a:pt x="70" y="1302"/>
                  <a:pt x="18" y="1309"/>
                  <a:pt x="18" y="1309"/>
                </a:cubicBezTo>
                <a:cubicBezTo>
                  <a:pt x="0" y="942"/>
                  <a:pt x="11" y="569"/>
                  <a:pt x="11" y="20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4648320"/>
          <a:ext cx="3394080" cy="61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648320"/>
                    <a:ext cx="339408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676520" y="1930320"/>
            <a:ext cx="2430360" cy="2524320"/>
          </a:xfrm>
          <a:custGeom>
            <a:avLst/>
            <a:gdLst/>
            <a:ahLst/>
            <a:rect l="l" t="t" r="r" b="b"/>
            <a:pathLst>
              <a:path w="1531" h="1590">
                <a:moveTo>
                  <a:pt x="125" y="8"/>
                </a:moveTo>
                <a:cubicBezTo>
                  <a:pt x="512" y="18"/>
                  <a:pt x="899" y="8"/>
                  <a:pt x="1286" y="0"/>
                </a:cubicBezTo>
                <a:cubicBezTo>
                  <a:pt x="1507" y="8"/>
                  <a:pt x="1431" y="8"/>
                  <a:pt x="1512" y="8"/>
                </a:cubicBezTo>
                <a:cubicBezTo>
                  <a:pt x="1531" y="748"/>
                  <a:pt x="1520" y="221"/>
                  <a:pt x="1520" y="1590"/>
                </a:cubicBezTo>
                <a:cubicBezTo>
                  <a:pt x="1247" y="1580"/>
                  <a:pt x="975" y="1560"/>
                  <a:pt x="701" y="1551"/>
                </a:cubicBezTo>
                <a:cubicBezTo>
                  <a:pt x="468" y="1531"/>
                  <a:pt x="234" y="1513"/>
                  <a:pt x="0" y="1496"/>
                </a:cubicBezTo>
                <a:cubicBezTo>
                  <a:pt x="8" y="1493"/>
                  <a:pt x="23" y="1488"/>
                  <a:pt x="23" y="1488"/>
                </a:cubicBezTo>
                <a:cubicBezTo>
                  <a:pt x="11" y="1040"/>
                  <a:pt x="0" y="589"/>
                  <a:pt x="0" y="1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5181480"/>
          <a:ext cx="3602160" cy="6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5181480"/>
                    <a:ext cx="36021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52280" y="1676520"/>
            <a:ext cx="4343400" cy="2895480"/>
          </a:xfrm>
          <a:custGeom>
            <a:avLst/>
            <a:gdLst/>
            <a:ahLst/>
            <a:rect l="l" t="t" r="r" b="b"/>
            <a:pathLst>
              <a:path w="2736" h="1824">
                <a:moveTo>
                  <a:pt x="96" y="0"/>
                </a:moveTo>
                <a:lnTo>
                  <a:pt x="2736" y="48"/>
                </a:lnTo>
                <a:lnTo>
                  <a:pt x="2736" y="1824"/>
                </a:lnTo>
                <a:lnTo>
                  <a:pt x="0" y="1824"/>
                </a:lnTo>
                <a:lnTo>
                  <a:pt x="0" y="2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5691240"/>
          <a:ext cx="3581280" cy="55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691240"/>
                    <a:ext cx="3581280" cy="555480"/>
                  </a:xfrm>
                  <a:prstGeom prst="rect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60920" y="6340320"/>
            <a:ext cx="40212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THIRD EQUATION IS THE SUM OF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THER TW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35320" y="168120"/>
            <a:ext cx="35946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SNEAK PREVIEW ON THE NUMBER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INEARLY INDEPENDENT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334120" y="679320"/>
                <a:ext cx="29080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CIRCUIT DEFINE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NUMBER OF NODES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     NUMBER OF BRANCH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029200" y="1752480"/>
                <a:ext cx="38098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LINEARLY INDEPEND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KCL EQUATIONS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LINEARLY INDEPEND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KVL EQU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673880" y="3521160"/>
            <a:ext cx="4447800" cy="94644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AMPLE: FOR THE CIRCUIT SHOWN WE HAV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 = 6, B = 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ENCE THERE ARE ONLY TWO INDEPEN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762120"/>
          <a:ext cx="4689360" cy="28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468936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04920" y="304920"/>
                <a:ext cx="4044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VOLTAGE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295280" y="1558800"/>
            <a:ext cx="720720" cy="841680"/>
          </a:xfrm>
          <a:custGeom>
            <a:avLst/>
            <a:gdLst/>
            <a:ahLst/>
            <a:rect l="l" t="t" r="r" b="b"/>
            <a:pathLst>
              <a:path w="454" h="530">
                <a:moveTo>
                  <a:pt x="33" y="0"/>
                </a:moveTo>
                <a:cubicBezTo>
                  <a:pt x="41" y="30"/>
                  <a:pt x="57" y="49"/>
                  <a:pt x="65" y="78"/>
                </a:cubicBezTo>
                <a:cubicBezTo>
                  <a:pt x="70" y="95"/>
                  <a:pt x="70" y="121"/>
                  <a:pt x="88" y="132"/>
                </a:cubicBezTo>
                <a:cubicBezTo>
                  <a:pt x="102" y="141"/>
                  <a:pt x="119" y="143"/>
                  <a:pt x="135" y="148"/>
                </a:cubicBezTo>
                <a:cubicBezTo>
                  <a:pt x="153" y="162"/>
                  <a:pt x="185" y="183"/>
                  <a:pt x="197" y="203"/>
                </a:cubicBezTo>
                <a:cubicBezTo>
                  <a:pt x="208" y="222"/>
                  <a:pt x="205" y="249"/>
                  <a:pt x="220" y="265"/>
                </a:cubicBezTo>
                <a:cubicBezTo>
                  <a:pt x="231" y="277"/>
                  <a:pt x="251" y="275"/>
                  <a:pt x="267" y="280"/>
                </a:cubicBezTo>
                <a:cubicBezTo>
                  <a:pt x="272" y="301"/>
                  <a:pt x="274" y="323"/>
                  <a:pt x="283" y="343"/>
                </a:cubicBezTo>
                <a:cubicBezTo>
                  <a:pt x="287" y="353"/>
                  <a:pt x="299" y="358"/>
                  <a:pt x="306" y="366"/>
                </a:cubicBezTo>
                <a:cubicBezTo>
                  <a:pt x="312" y="373"/>
                  <a:pt x="316" y="382"/>
                  <a:pt x="322" y="390"/>
                </a:cubicBezTo>
                <a:cubicBezTo>
                  <a:pt x="342" y="416"/>
                  <a:pt x="362" y="444"/>
                  <a:pt x="384" y="468"/>
                </a:cubicBezTo>
                <a:cubicBezTo>
                  <a:pt x="404" y="490"/>
                  <a:pt x="433" y="509"/>
                  <a:pt x="454" y="530"/>
                </a:cubicBezTo>
                <a:lnTo>
                  <a:pt x="0" y="506"/>
                </a:lnTo>
                <a:lnTo>
                  <a:pt x="0" y="74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3666960"/>
          <a:ext cx="297324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666960"/>
                    <a:ext cx="2973240" cy="7081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371600" y="1523880"/>
            <a:ext cx="2590920" cy="914400"/>
          </a:xfrm>
          <a:custGeom>
            <a:avLst/>
            <a:gdLst/>
            <a:ahLst/>
            <a:rect l="l" t="t" r="r" b="b"/>
            <a:pathLst>
              <a:path w="1632" h="576">
                <a:moveTo>
                  <a:pt x="0" y="0"/>
                </a:moveTo>
                <a:lnTo>
                  <a:pt x="672" y="576"/>
                </a:lnTo>
                <a:lnTo>
                  <a:pt x="1632" y="576"/>
                </a:lnTo>
                <a:lnTo>
                  <a:pt x="1584" y="48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4429080"/>
          <a:ext cx="406728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429080"/>
                    <a:ext cx="4067280" cy="6192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29040" y="5054760"/>
            <a:ext cx="4234680" cy="30708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IVEN THE CHOICE USE THE SIMPLEST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1447920"/>
            <a:ext cx="1371600" cy="1295280"/>
          </a:xfrm>
          <a:custGeom>
            <a:avLst/>
            <a:gdLst/>
            <a:ahLst/>
            <a:rect l="l" t="t" r="r" b="b"/>
            <a:pathLst>
              <a:path w="864" h="816">
                <a:moveTo>
                  <a:pt x="0" y="768"/>
                </a:moveTo>
                <a:lnTo>
                  <a:pt x="864" y="0"/>
                </a:lnTo>
                <a:lnTo>
                  <a:pt x="816" y="816"/>
                </a:lnTo>
                <a:lnTo>
                  <a:pt x="144" y="81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90720" y="5419800"/>
          <a:ext cx="213516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5419800"/>
                    <a:ext cx="2135160" cy="52380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886640" y="92160"/>
            <a:ext cx="42346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SOURCES ARE HANDLED WITH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65600" y="685800"/>
          <a:ext cx="4478400" cy="254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65600" y="685800"/>
                    <a:ext cx="447840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562720" y="1371600"/>
            <a:ext cx="1143000" cy="1295280"/>
          </a:xfrm>
          <a:custGeom>
            <a:avLst/>
            <a:gdLst/>
            <a:ahLst/>
            <a:rect l="l" t="t" r="r" b="b"/>
            <a:pathLst>
              <a:path w="720" h="816">
                <a:moveTo>
                  <a:pt x="0" y="0"/>
                </a:moveTo>
                <a:lnTo>
                  <a:pt x="720" y="0"/>
                </a:lnTo>
                <a:lnTo>
                  <a:pt x="720" y="816"/>
                </a:lnTo>
                <a:lnTo>
                  <a:pt x="48" y="816"/>
                </a:lnTo>
                <a:lnTo>
                  <a:pt x="48" y="144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638680" y="3352680"/>
          <a:ext cx="2617920" cy="48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3352680"/>
                    <a:ext cx="2617920" cy="482760"/>
                  </a:xfrm>
                  <a:prstGeom prst="rect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7086600" y="1447920"/>
            <a:ext cx="1447920" cy="1218960"/>
          </a:xfrm>
          <a:custGeom>
            <a:avLst/>
            <a:gdLst/>
            <a:ahLst/>
            <a:rect l="l" t="t" r="r" b="b"/>
            <a:pathLst>
              <a:path w="912" h="768">
                <a:moveTo>
                  <a:pt x="96" y="0"/>
                </a:moveTo>
                <a:lnTo>
                  <a:pt x="912" y="0"/>
                </a:lnTo>
                <a:lnTo>
                  <a:pt x="912" y="768"/>
                </a:lnTo>
                <a:lnTo>
                  <a:pt x="0" y="768"/>
                </a:lnTo>
                <a:lnTo>
                  <a:pt x="0" y="96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410080" y="4000680"/>
          <a:ext cx="3132360" cy="48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4000680"/>
                    <a:ext cx="3132360" cy="482400"/>
                  </a:xfrm>
                  <a:prstGeom prst="rect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34" name="geaux" descr=""/>
          <p:cNvPicPr/>
          <p:nvPr/>
        </p:nvPicPr>
        <p:blipFill>
          <a:blip r:embed="rId1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76320" y="76320"/>
          <a:ext cx="264636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6320"/>
                    <a:ext cx="264636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819520" y="533520"/>
                <a:ext cx="15048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990720" y="609480"/>
            <a:ext cx="1066680" cy="914400"/>
          </a:xfrm>
          <a:custGeom>
            <a:avLst/>
            <a:gdLst/>
            <a:ahLst/>
            <a:rect l="l" t="t" r="r" b="b"/>
            <a:pathLst>
              <a:path w="672" h="576">
                <a:moveTo>
                  <a:pt x="0" y="0"/>
                </a:moveTo>
                <a:lnTo>
                  <a:pt x="672" y="576"/>
                </a:lnTo>
                <a:lnTo>
                  <a:pt x="672" y="48"/>
                </a:lnTo>
                <a:lnTo>
                  <a:pt x="96" y="48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5400" y="909720"/>
                <a:ext cx="1307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657600" y="914400"/>
                <a:ext cx="48888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990720" y="533520"/>
            <a:ext cx="1143000" cy="2361960"/>
          </a:xfrm>
          <a:custGeom>
            <a:avLst/>
            <a:gdLst/>
            <a:ahLst/>
            <a:rect l="l" t="t" r="r" b="b"/>
            <a:pathLst>
              <a:path w="720" h="1488">
                <a:moveTo>
                  <a:pt x="720" y="0"/>
                </a:moveTo>
                <a:lnTo>
                  <a:pt x="0" y="1488"/>
                </a:lnTo>
                <a:lnTo>
                  <a:pt x="720" y="1488"/>
                </a:lnTo>
                <a:lnTo>
                  <a:pt x="720" y="144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857160" y="2509920"/>
                <a:ext cx="133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657600" y="1295280"/>
                <a:ext cx="4492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6" name=""/>
          <p:cNvGraphicFramePr/>
          <p:nvPr/>
        </p:nvGraphicFramePr>
        <p:xfrm>
          <a:off x="304920" y="3429000"/>
          <a:ext cx="3943080" cy="21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39430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76200" y="5938920"/>
                <a:ext cx="330516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_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990720" y="4038480"/>
            <a:ext cx="2286000" cy="914400"/>
          </a:xfrm>
          <a:custGeom>
            <a:avLst/>
            <a:gdLst/>
            <a:ahLst/>
            <a:rect l="l" t="t" r="r" b="b"/>
            <a:pathLst>
              <a:path w="1440" h="576">
                <a:moveTo>
                  <a:pt x="48" y="0"/>
                </a:moveTo>
                <a:lnTo>
                  <a:pt x="1440" y="576"/>
                </a:lnTo>
                <a:lnTo>
                  <a:pt x="0" y="576"/>
                </a:lnTo>
                <a:lnTo>
                  <a:pt x="0" y="9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14400" y="4643280"/>
                <a:ext cx="1714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209680" y="3886200"/>
            <a:ext cx="129564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336"/>
                </a:moveTo>
                <a:lnTo>
                  <a:pt x="0" y="0"/>
                </a:lnTo>
                <a:lnTo>
                  <a:pt x="768" y="0"/>
                </a:lnTo>
                <a:lnTo>
                  <a:pt x="816" y="720"/>
                </a:lnTo>
                <a:lnTo>
                  <a:pt x="48" y="72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752480" y="4110120"/>
                <a:ext cx="1714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3" name=""/>
          <p:cNvGraphicFramePr/>
          <p:nvPr/>
        </p:nvGraphicFramePr>
        <p:xfrm>
          <a:off x="4724280" y="152280"/>
          <a:ext cx="3938760" cy="196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52280"/>
                    <a:ext cx="393876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648320" y="1981080"/>
                <a:ext cx="15872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660920" y="2362320"/>
                <a:ext cx="21207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ST  FIND 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FIR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5562720" y="685800"/>
            <a:ext cx="2057400" cy="1066680"/>
          </a:xfrm>
          <a:custGeom>
            <a:avLst/>
            <a:gdLst/>
            <a:ahLst/>
            <a:rect l="l" t="t" r="r" b="b"/>
            <a:pathLst>
              <a:path w="1296" h="672">
                <a:moveTo>
                  <a:pt x="0" y="624"/>
                </a:moveTo>
                <a:lnTo>
                  <a:pt x="0" y="0"/>
                </a:lnTo>
                <a:lnTo>
                  <a:pt x="1296" y="0"/>
                </a:lnTo>
                <a:lnTo>
                  <a:pt x="1296" y="672"/>
                </a:lnTo>
                <a:lnTo>
                  <a:pt x="96" y="672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648320" y="2666880"/>
                <a:ext cx="302256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10080" y="1981080"/>
                <a:ext cx="40500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4883760" y="3063960"/>
            <a:ext cx="3701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SOURCES ARE NOT REAL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FFICULT TO ANALY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49120" y="3597120"/>
            <a:ext cx="434124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MINDER: IN A RESISTOR THE VOLTAG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 DIRECTIONS MUST SATISFY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SSIVE SIGN CONV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952880" y="4495680"/>
          <a:ext cx="1366920" cy="195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495680"/>
                    <a:ext cx="1366920" cy="19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876920" y="5029200"/>
                <a:ext cx="2556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65" name=""/>
          <p:cNvGraphicFramePr/>
          <p:nvPr/>
        </p:nvGraphicFramePr>
        <p:xfrm>
          <a:off x="6781680" y="4876920"/>
          <a:ext cx="1779840" cy="123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81680" y="4876920"/>
                    <a:ext cx="17798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162920" y="5791320"/>
                <a:ext cx="10015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8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28600" y="1046160"/>
          <a:ext cx="701028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46160"/>
                    <a:ext cx="70102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227600" y="162000"/>
            <a:ext cx="247428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MPL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920" y="4267080"/>
            <a:ext cx="850788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need to find a closed path where only one voltage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03320" y="1600200"/>
            <a:ext cx="2349360" cy="120636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808" y="96"/>
                </a:moveTo>
                <a:cubicBezTo>
                  <a:pt x="1032" y="48"/>
                  <a:pt x="1256" y="0"/>
                  <a:pt x="1336" y="96"/>
                </a:cubicBezTo>
                <a:cubicBezTo>
                  <a:pt x="1416" y="192"/>
                  <a:pt x="1480" y="584"/>
                  <a:pt x="1288" y="672"/>
                </a:cubicBezTo>
                <a:cubicBezTo>
                  <a:pt x="1096" y="760"/>
                  <a:pt x="368" y="720"/>
                  <a:pt x="184" y="624"/>
                </a:cubicBezTo>
                <a:cubicBezTo>
                  <a:pt x="0" y="528"/>
                  <a:pt x="88" y="184"/>
                  <a:pt x="184" y="96"/>
                </a:cubicBezTo>
                <a:cubicBezTo>
                  <a:pt x="280" y="8"/>
                  <a:pt x="664" y="96"/>
                  <a:pt x="760" y="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880920" y="4950000"/>
                <a:ext cx="281160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4839840" y="1736640"/>
            <a:ext cx="4932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19240" y="1257480"/>
            <a:ext cx="1994040" cy="1485720"/>
          </a:xfrm>
          <a:custGeom>
            <a:avLst/>
            <a:gdLst/>
            <a:ahLst/>
            <a:rect l="l" t="t" r="r" b="b"/>
            <a:pathLst>
              <a:path w="1256" h="936">
                <a:moveTo>
                  <a:pt x="696" y="936"/>
                </a:moveTo>
                <a:cubicBezTo>
                  <a:pt x="348" y="644"/>
                  <a:pt x="0" y="352"/>
                  <a:pt x="72" y="216"/>
                </a:cubicBezTo>
                <a:cubicBezTo>
                  <a:pt x="144" y="80"/>
                  <a:pt x="1000" y="0"/>
                  <a:pt x="1128" y="120"/>
                </a:cubicBezTo>
                <a:cubicBezTo>
                  <a:pt x="1256" y="240"/>
                  <a:pt x="1048" y="588"/>
                  <a:pt x="840" y="936"/>
                </a:cubicBezTo>
              </a:path>
            </a:pathLst>
          </a:custGeom>
          <a:noFill/>
          <a:ln w="381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533840" y="4929120"/>
                <a:ext cx="327816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877280" y="2209680"/>
            <a:ext cx="5785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32360" y="3195720"/>
            <a:ext cx="157824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st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457200"/>
          <a:ext cx="6400800" cy="29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640080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084640" y="166680"/>
            <a:ext cx="3289680" cy="70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are no loops with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unknown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520" y="3429000"/>
            <a:ext cx="491292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current through the 5k and 10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sistors is the same. Hence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voltage drop across the 5k is one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of the drop across the 10k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60840" y="1355760"/>
            <a:ext cx="1241280" cy="3988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 Vx/2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990720" y="4952880"/>
                <a:ext cx="39733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219320" y="1143000"/>
            <a:ext cx="3657600" cy="1879560"/>
          </a:xfrm>
          <a:custGeom>
            <a:avLst/>
            <a:gdLst/>
            <a:ahLst/>
            <a:rect l="l" t="t" r="r" b="b"/>
            <a:pathLst>
              <a:path w="2304" h="1184">
                <a:moveTo>
                  <a:pt x="248" y="1120"/>
                </a:moveTo>
                <a:cubicBezTo>
                  <a:pt x="124" y="720"/>
                  <a:pt x="0" y="320"/>
                  <a:pt x="296" y="160"/>
                </a:cubicBezTo>
                <a:cubicBezTo>
                  <a:pt x="592" y="0"/>
                  <a:pt x="1744" y="16"/>
                  <a:pt x="2024" y="160"/>
                </a:cubicBezTo>
                <a:cubicBezTo>
                  <a:pt x="2304" y="304"/>
                  <a:pt x="2256" y="864"/>
                  <a:pt x="1976" y="1024"/>
                </a:cubicBezTo>
                <a:cubicBezTo>
                  <a:pt x="1696" y="1184"/>
                  <a:pt x="1020" y="1152"/>
                  <a:pt x="344" y="1120"/>
                </a:cubicBezTo>
              </a:path>
            </a:pathLst>
          </a:custGeom>
          <a:noFill/>
          <a:ln w="381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762120"/>
            <a:ext cx="1917720" cy="2514600"/>
          </a:xfrm>
          <a:custGeom>
            <a:avLst/>
            <a:gdLst/>
            <a:ahLst/>
            <a:rect l="l" t="t" r="r" b="b"/>
            <a:pathLst>
              <a:path w="1208" h="1584">
                <a:moveTo>
                  <a:pt x="152" y="472"/>
                </a:moveTo>
                <a:cubicBezTo>
                  <a:pt x="76" y="852"/>
                  <a:pt x="0" y="1232"/>
                  <a:pt x="152" y="1384"/>
                </a:cubicBezTo>
                <a:cubicBezTo>
                  <a:pt x="304" y="1536"/>
                  <a:pt x="920" y="1584"/>
                  <a:pt x="1064" y="1384"/>
                </a:cubicBezTo>
                <a:cubicBezTo>
                  <a:pt x="1208" y="1184"/>
                  <a:pt x="1160" y="368"/>
                  <a:pt x="1016" y="184"/>
                </a:cubicBezTo>
                <a:cubicBezTo>
                  <a:pt x="872" y="0"/>
                  <a:pt x="336" y="264"/>
                  <a:pt x="200" y="28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4120" y="4114800"/>
                <a:ext cx="2892240" cy="20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4" name="stop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18:43:10Z</dcterms:created>
  <dc:creator>student</dc:creator>
  <dc:description/>
  <dc:language>en-US</dc:language>
  <cp:lastModifiedBy>Jorge Aravena</cp:lastModifiedBy>
  <cp:lastPrinted>2001-01-02T18:27:37Z</cp:lastPrinted>
  <dcterms:modified xsi:type="dcterms:W3CDTF">2001-03-10T22:24:36Z</dcterms:modified>
  <cp:revision>16</cp:revision>
  <dc:subject/>
  <dc:title>No Slide Title</dc:title>
</cp:coreProperties>
</file>