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35.wmf" ContentType="image/x-wmf"/>
  <Override PartName="/ppt/media/image37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41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C50-001F-457B-945E-C93EF2D1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C07-0999-4DCA-94D0-0D31200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596-B4D9-4208-9BE4-4C0873DD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AF6-1D9F-492B-8962-D501F504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73C-2FDC-4F6A-B3B2-0181C587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FF8-8248-4C65-94C6-0B59763D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5AA-38B6-4A02-9940-DB4562E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DC2-6227-488A-9C66-3CD63AC9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57C-1F63-442F-844D-796DFB95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559-02D6-4A30-A73E-DF2B351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2C6-1E18-45D6-80D6-1EF7876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20E-1407-4D7B-9A76-D9F0123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4F17-2534-414C-833D-49DBBC80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png"/><Relationship Id="rId19" Type="http://schemas.openxmlformats.org/officeDocument/2006/relationships/image" Target="../media/image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24280" y="380880"/>
          <a:ext cx="299088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80880"/>
                    <a:ext cx="299088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101520"/>
            <a:ext cx="2923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280" y="473040"/>
            <a:ext cx="4341240" cy="11595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USING KVL AND KCL WE C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ENOUGH EQUATIONS TO ANALYZ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 CIRCUIT. WE NOW START THE STU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SYSTEMATIC, AND EFFICIENT, WAY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THE FUNDAMENTAL CIRCUIT LA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320" y="1660680"/>
          <a:ext cx="2477880" cy="21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660680"/>
                    <a:ext cx="2477880" cy="2149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607480" y="1676520"/>
            <a:ext cx="188748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5 KCL E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R DETERMIN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L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65480" y="92160"/>
            <a:ext cx="391464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: THE SIMPLEST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0" y="3902040"/>
            <a:ext cx="46605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EGIN WITH THE SIMPLEST ON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TEND RESULTS TO MULTIPL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MULTIPLE RESISTORS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2986200"/>
          <a:ext cx="35305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86200"/>
                    <a:ext cx="3530520" cy="519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5486400" y="914400"/>
            <a:ext cx="1298520" cy="1755720"/>
            <a:chOff x="5486400" y="914400"/>
            <a:chExt cx="1298520" cy="1755720"/>
          </a:xfrm>
        </p:grpSpPr>
        <p:sp>
          <p:nvSpPr>
            <p:cNvPr id="53" name=""/>
            <p:cNvSpPr/>
            <p:nvPr/>
          </p:nvSpPr>
          <p:spPr>
            <a:xfrm>
              <a:off x="5486400" y="914400"/>
              <a:ext cx="1298520" cy="1755720"/>
            </a:xfrm>
            <a:custGeom>
              <a:avLst/>
              <a:gdLst/>
              <a:ahLst/>
              <a:rect l="l" t="t" r="r" b="b"/>
              <a:pathLst>
                <a:path w="816" h="1104">
                  <a:moveTo>
                    <a:pt x="0" y="100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104"/>
                  </a:lnTo>
                  <a:lnTo>
                    <a:pt x="96" y="1104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59560" y="1371600"/>
              <a:ext cx="927360" cy="7333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4876920" y="3429000"/>
          <a:ext cx="326520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2652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62520" y="4800600"/>
          <a:ext cx="50180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800600"/>
                    <a:ext cx="5018040" cy="343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352680" y="5181480"/>
          <a:ext cx="1640160" cy="72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5181480"/>
                    <a:ext cx="1640160" cy="725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29200" y="5105520"/>
          <a:ext cx="1905120" cy="16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9200" y="5105520"/>
                    <a:ext cx="19051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934320" y="5181480"/>
          <a:ext cx="20970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181480"/>
                    <a:ext cx="209700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855520" y="6035760"/>
            <a:ext cx="19944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MPORTAN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R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geaux" descr=""/>
          <p:cNvPicPr/>
          <p:nvPr/>
        </p:nvPicPr>
        <p:blipFill>
          <a:blip r:embed="rId17"/>
          <a:stretch/>
        </p:blipFill>
        <p:spPr>
          <a:xfrm>
            <a:off x="84056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576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19520" y="1600200"/>
          <a:ext cx="16761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00200"/>
                    <a:ext cx="1676160" cy="654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736560"/>
                <a:ext cx="173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25080" y="0"/>
            <a:ext cx="359460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MARY OF BASIC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920" y="2519280"/>
            <a:ext cx="4129200" cy="3052800"/>
            <a:chOff x="61920" y="2519280"/>
            <a:chExt cx="4129200" cy="3052800"/>
          </a:xfrm>
        </p:grpSpPr>
        <p:graphicFrame>
          <p:nvGraphicFramePr>
            <p:cNvPr id="73" name=""/>
            <p:cNvGraphicFramePr/>
            <p:nvPr/>
          </p:nvGraphicFramePr>
          <p:xfrm>
            <a:off x="76320" y="2971800"/>
            <a:ext cx="2917800" cy="26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971800"/>
                      <a:ext cx="2917800" cy="26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61920" y="2519280"/>
                  <a:ext cx="412920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AMPLE: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5867280"/>
                <a:ext cx="15238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1523880" y="5562720"/>
          <a:ext cx="178452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562720"/>
                    <a:ext cx="1784520" cy="1004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06040" y="76320"/>
            <a:ext cx="34876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PRACTICAL” POWER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21280" y="4648320"/>
            <a:ext cx="10342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81480" y="457200"/>
          <a:ext cx="3340080" cy="17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"/>
                    <a:ext cx="33400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334120" y="2438280"/>
          <a:ext cx="2896920" cy="166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2438280"/>
                    <a:ext cx="28969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91160" y="4089240"/>
          <a:ext cx="2319120" cy="78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91160" y="4089240"/>
                    <a:ext cx="2319120" cy="7876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086600" y="4038480"/>
          <a:ext cx="195732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4038480"/>
                    <a:ext cx="1957320" cy="8589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05520" y="5029200"/>
          <a:ext cx="2681280" cy="78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5029200"/>
                    <a:ext cx="2681280" cy="7891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819680" y="5959440"/>
            <a:ext cx="338112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OW CAN ONE REDUCE THE LOSS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51200" y="2819520"/>
          <a:ext cx="1797120" cy="1377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51200" y="2819520"/>
                    <a:ext cx="1797120" cy="1377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4" name="geaux" descr=""/>
          <p:cNvPicPr/>
          <p:nvPr/>
        </p:nvPicPr>
        <p:blipFill>
          <a:blip r:embed="rId1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320" y="376200"/>
          <a:ext cx="2533680" cy="2138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6320" y="376200"/>
                    <a:ext cx="25336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3520" y="-27000"/>
            <a:ext cx="420408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CEPT OF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7880" y="320760"/>
            <a:ext cx="4661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ONCEPT WILL OFTEN BE USED TO SIMPL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OF CIRCUITS. WE INTRODUCE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RE WITH A VERY 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066680"/>
          <a:ext cx="464832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64832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8560" y="342900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 FAR AS THE CURRENT IS CONCERNED B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S ARE EQUIVALENT. THE ONE 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HAS ONLY ONE RE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9720" y="4233960"/>
          <a:ext cx="3776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4233960"/>
                    <a:ext cx="3776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96720" y="15840"/>
            <a:ext cx="3487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DIFFERENCE BETWEEN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ION AND 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9720" y="565200"/>
            <a:ext cx="45547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METIMES, FOR PRACTICAL CONSTR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ASONS, COMPONENTS THAT ARE ELECTR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MAY BE PHYSICALLY QUITE A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00760" y="1523880"/>
          <a:ext cx="348768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1523880"/>
                    <a:ext cx="3487680" cy="839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97400" y="2736720"/>
          <a:ext cx="3160800" cy="123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7400" y="2736720"/>
                    <a:ext cx="3160800" cy="123372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75160" y="4376880"/>
          <a:ext cx="3006720" cy="13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75160" y="4376880"/>
                    <a:ext cx="3006720" cy="13921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034600" y="5959440"/>
            <a:ext cx="3487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LL CASES THE RESISTOR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IN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320" y="76320"/>
          <a:ext cx="378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378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954960" y="621360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PONEN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496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NECTO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2513160"/>
            <a:ext cx="1719000" cy="4506840"/>
          </a:xfrm>
          <a:custGeom>
            <a:avLst/>
            <a:gdLst/>
            <a:ahLst/>
            <a:rect l="l" t="t" r="r" b="b"/>
            <a:pathLst>
              <a:path w="1080" h="2840">
                <a:moveTo>
                  <a:pt x="928" y="2496"/>
                </a:moveTo>
                <a:cubicBezTo>
                  <a:pt x="1004" y="2668"/>
                  <a:pt x="1080" y="2840"/>
                  <a:pt x="928" y="2592"/>
                </a:cubicBezTo>
                <a:cubicBezTo>
                  <a:pt x="776" y="2344"/>
                  <a:pt x="32" y="1440"/>
                  <a:pt x="16" y="1008"/>
                </a:cubicBezTo>
                <a:cubicBezTo>
                  <a:pt x="0" y="576"/>
                  <a:pt x="416" y="288"/>
                  <a:pt x="832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743200"/>
            <a:ext cx="165240" cy="4711680"/>
          </a:xfrm>
          <a:custGeom>
            <a:avLst/>
            <a:gdLst/>
            <a:ahLst/>
            <a:rect l="l" t="t" r="r" b="b"/>
            <a:pathLst>
              <a:path w="104" h="2968">
                <a:moveTo>
                  <a:pt x="0" y="2544"/>
                </a:moveTo>
                <a:cubicBezTo>
                  <a:pt x="44" y="2756"/>
                  <a:pt x="88" y="2968"/>
                  <a:pt x="96" y="2544"/>
                </a:cubicBezTo>
                <a:cubicBezTo>
                  <a:pt x="104" y="2120"/>
                  <a:pt x="76" y="1060"/>
                  <a:pt x="48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59200" y="2743200"/>
            <a:ext cx="164880" cy="4635360"/>
          </a:xfrm>
          <a:custGeom>
            <a:avLst/>
            <a:gdLst/>
            <a:ahLst/>
            <a:rect l="l" t="t" r="r" b="b"/>
            <a:pathLst>
              <a:path w="104" h="2920">
                <a:moveTo>
                  <a:pt x="8" y="2544"/>
                </a:moveTo>
                <a:cubicBezTo>
                  <a:pt x="56" y="2548"/>
                  <a:pt x="104" y="2552"/>
                  <a:pt x="104" y="2544"/>
                </a:cubicBezTo>
                <a:cubicBezTo>
                  <a:pt x="104" y="2536"/>
                  <a:pt x="16" y="2920"/>
                  <a:pt x="8" y="2496"/>
                </a:cubicBezTo>
                <a:cubicBezTo>
                  <a:pt x="0" y="2072"/>
                  <a:pt x="28" y="1036"/>
                  <a:pt x="56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200" y="-63360"/>
            <a:ext cx="1104840" cy="3949560"/>
          </a:xfrm>
          <a:custGeom>
            <a:avLst/>
            <a:gdLst/>
            <a:ahLst/>
            <a:rect l="l" t="t" r="r" b="b"/>
            <a:pathLst>
              <a:path w="696" h="2488">
                <a:moveTo>
                  <a:pt x="680" y="136"/>
                </a:moveTo>
                <a:cubicBezTo>
                  <a:pt x="688" y="68"/>
                  <a:pt x="696" y="0"/>
                  <a:pt x="584" y="136"/>
                </a:cubicBezTo>
                <a:cubicBezTo>
                  <a:pt x="472" y="272"/>
                  <a:pt x="0" y="560"/>
                  <a:pt x="8" y="952"/>
                </a:cubicBezTo>
                <a:cubicBezTo>
                  <a:pt x="16" y="1344"/>
                  <a:pt x="324" y="1916"/>
                  <a:pt x="632" y="2488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0560" y="955800"/>
            <a:ext cx="3884040" cy="916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LUSTRATING THE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ETWEEN PHYSICAL LAYOU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0720"/>
            <a:ext cx="1981080" cy="1600200"/>
          </a:xfrm>
          <a:custGeom>
            <a:avLst/>
            <a:gdLst/>
            <a:ahLst/>
            <a:rect l="l" t="t" r="r" b="b"/>
            <a:pathLst>
              <a:path w="1248" h="1008">
                <a:moveTo>
                  <a:pt x="0" y="0"/>
                </a:moveTo>
                <a:lnTo>
                  <a:pt x="0" y="768"/>
                </a:lnTo>
                <a:lnTo>
                  <a:pt x="96" y="864"/>
                </a:lnTo>
                <a:lnTo>
                  <a:pt x="144" y="768"/>
                </a:lnTo>
                <a:lnTo>
                  <a:pt x="1056" y="816"/>
                </a:lnTo>
                <a:lnTo>
                  <a:pt x="1248" y="1008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522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240" y="0"/>
                </a:moveTo>
                <a:lnTo>
                  <a:pt x="48" y="192"/>
                </a:lnTo>
                <a:lnTo>
                  <a:pt x="0" y="1440"/>
                </a:lnTo>
                <a:lnTo>
                  <a:pt x="96" y="1536"/>
                </a:lnTo>
                <a:lnTo>
                  <a:pt x="432" y="1536"/>
                </a:lnTo>
                <a:lnTo>
                  <a:pt x="576" y="1392"/>
                </a:lnTo>
                <a:lnTo>
                  <a:pt x="912" y="1392"/>
                </a:lnTo>
                <a:lnTo>
                  <a:pt x="1056" y="1584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2022480"/>
            <a:ext cx="3022560" cy="368280"/>
            <a:chOff x="4572000" y="2022480"/>
            <a:chExt cx="3022560" cy="368280"/>
          </a:xfrm>
        </p:grpSpPr>
        <p:sp>
          <p:nvSpPr>
            <p:cNvPr id="130" name=""/>
            <p:cNvSpPr/>
            <p:nvPr/>
          </p:nvSpPr>
          <p:spPr>
            <a:xfrm>
              <a:off x="4572000" y="2209680"/>
              <a:ext cx="99072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0760" y="20224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572000" y="2479680"/>
            <a:ext cx="3022560" cy="368280"/>
            <a:chOff x="4572000" y="2479680"/>
            <a:chExt cx="3022560" cy="368280"/>
          </a:xfrm>
        </p:grpSpPr>
        <p:sp>
          <p:nvSpPr>
            <p:cNvPr id="133" name=""/>
            <p:cNvSpPr/>
            <p:nvPr/>
          </p:nvSpPr>
          <p:spPr>
            <a:xfrm>
              <a:off x="4572000" y="2666880"/>
              <a:ext cx="9907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0760" y="24796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668840" y="3597120"/>
            <a:ext cx="3914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TION OF 14.4 KB VOICE/DATA 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02920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4892760"/>
            <a:ext cx="23144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RRESPONDING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715000" y="4427640"/>
          <a:ext cx="205740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27640"/>
                    <a:ext cx="205740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880" y="533520"/>
          <a:ext cx="335304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3353040" cy="3343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390320" y="-4680"/>
            <a:ext cx="580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RST GENERALIZATION: MULTIPL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62160" y="1569960"/>
            <a:ext cx="1068120" cy="1467000"/>
          </a:xfrm>
          <a:custGeom>
            <a:avLst/>
            <a:gdLst/>
            <a:ahLst/>
            <a:rect l="l" t="t" r="r" b="b"/>
            <a:pathLst>
              <a:path w="673" h="924">
                <a:moveTo>
                  <a:pt x="8" y="0"/>
                </a:moveTo>
                <a:cubicBezTo>
                  <a:pt x="178" y="3"/>
                  <a:pt x="349" y="4"/>
                  <a:pt x="519" y="8"/>
                </a:cubicBezTo>
                <a:cubicBezTo>
                  <a:pt x="559" y="9"/>
                  <a:pt x="640" y="16"/>
                  <a:pt x="640" y="16"/>
                </a:cubicBezTo>
                <a:cubicBezTo>
                  <a:pt x="644" y="196"/>
                  <a:pt x="646" y="434"/>
                  <a:pt x="656" y="624"/>
                </a:cubicBezTo>
                <a:cubicBezTo>
                  <a:pt x="658" y="662"/>
                  <a:pt x="662" y="700"/>
                  <a:pt x="665" y="738"/>
                </a:cubicBezTo>
                <a:cubicBezTo>
                  <a:pt x="668" y="781"/>
                  <a:pt x="673" y="868"/>
                  <a:pt x="673" y="868"/>
                </a:cubicBezTo>
                <a:cubicBezTo>
                  <a:pt x="450" y="889"/>
                  <a:pt x="224" y="924"/>
                  <a:pt x="0" y="924"/>
                </a:cubicBezTo>
                <a:cubicBezTo>
                  <a:pt x="0" y="724"/>
                  <a:pt x="0" y="524"/>
                  <a:pt x="0" y="3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32080" y="22240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720" y="36529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KV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2280" y="4038480"/>
                <a:ext cx="4419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30040" y="4505400"/>
            <a:ext cx="39754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llect all sources on on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876920"/>
                <a:ext cx="4190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55840" y="5475240"/>
                <a:ext cx="2039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57200" y="53341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0199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4120" y="5060880"/>
                <a:ext cx="48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567480" y="3962520"/>
                <a:ext cx="363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772400" y="51055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072680" y="380880"/>
            <a:ext cx="42847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sources in series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lgebraically added to form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quivalent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8960" y="1955880"/>
            <a:ext cx="52358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select the reference directio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ve along the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s are subtracted from 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43000" y="1066680"/>
                <a:ext cx="3636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43200" y="25909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90720" y="457200"/>
                <a:ext cx="582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05320" y="2438280"/>
                <a:ext cx="303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6160" y="1136520"/>
                <a:ext cx="190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46200" y="304920"/>
                <a:ext cx="48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664080" y="1085760"/>
                <a:ext cx="257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347920" y="3809880"/>
                <a:ext cx="55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7440" y="2590920"/>
                <a:ext cx="214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" y="233280"/>
          <a:ext cx="39006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39006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240" y="23760"/>
            <a:ext cx="6429240" cy="3988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COND GENERALIZATION: MULTIPLE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1600" y="1224000"/>
            <a:ext cx="1752480" cy="1143000"/>
            <a:chOff x="1371600" y="1224000"/>
            <a:chExt cx="1752480" cy="1143000"/>
          </a:xfrm>
        </p:grpSpPr>
        <p:sp>
          <p:nvSpPr>
            <p:cNvPr id="176" name=""/>
            <p:cNvSpPr/>
            <p:nvPr/>
          </p:nvSpPr>
          <p:spPr>
            <a:xfrm>
              <a:off x="1371600" y="122400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2880" y="1528920"/>
              <a:ext cx="14608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304920" y="3205080"/>
          <a:ext cx="325728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205080"/>
                    <a:ext cx="3257280" cy="397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3662280"/>
          <a:ext cx="418284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662280"/>
                    <a:ext cx="4182840" cy="727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33520" y="4424400"/>
          <a:ext cx="3450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24400"/>
                    <a:ext cx="3450960" cy="3636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28600" y="4805280"/>
          <a:ext cx="1700280" cy="8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805280"/>
                    <a:ext cx="1700280" cy="871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0" y="5491080"/>
          <a:ext cx="1957320" cy="93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5491080"/>
                    <a:ext cx="1957320" cy="9334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17000" y="6329520"/>
            <a:ext cx="434124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 FOR MULTIPLE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5796000"/>
                <a:ext cx="1600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724280" y="584280"/>
            <a:ext cx="3996000" cy="2481120"/>
            <a:chOff x="4724280" y="584280"/>
            <a:chExt cx="3996000" cy="2481120"/>
          </a:xfrm>
        </p:grpSpPr>
        <p:graphicFrame>
          <p:nvGraphicFramePr>
            <p:cNvPr id="191" name=""/>
            <p:cNvGraphicFramePr/>
            <p:nvPr/>
          </p:nvGraphicFramePr>
          <p:xfrm>
            <a:off x="4724280" y="888840"/>
            <a:ext cx="3996000" cy="2176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888840"/>
                      <a:ext cx="3996000" cy="217656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562720" y="58428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6095880" y="1617840"/>
            <a:ext cx="1447560" cy="761760"/>
            <a:chOff x="6095880" y="1617840"/>
            <a:chExt cx="1447560" cy="761760"/>
          </a:xfrm>
        </p:grpSpPr>
        <p:sp>
          <p:nvSpPr>
            <p:cNvPr id="195" name=""/>
            <p:cNvSpPr/>
            <p:nvPr/>
          </p:nvSpPr>
          <p:spPr>
            <a:xfrm>
              <a:off x="6095880" y="161784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7240" y="177012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029200" y="3141720"/>
          <a:ext cx="344484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3141720"/>
                    <a:ext cx="3444840" cy="4284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95880" y="3598920"/>
          <a:ext cx="106848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3598920"/>
                    <a:ext cx="1068480" cy="3049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6553080" y="1389240"/>
            <a:ext cx="2438280" cy="1269360"/>
            <a:chOff x="6553080" y="1389240"/>
            <a:chExt cx="2438280" cy="1269360"/>
          </a:xfrm>
        </p:grpSpPr>
        <p:sp>
          <p:nvSpPr>
            <p:cNvPr id="202" name=""/>
            <p:cNvSpPr/>
            <p:nvPr/>
          </p:nvSpPr>
          <p:spPr>
            <a:xfrm>
              <a:off x="6553080" y="1389240"/>
              <a:ext cx="1066680" cy="1218960"/>
            </a:xfrm>
            <a:custGeom>
              <a:avLst/>
              <a:gdLst/>
              <a:ahLst/>
              <a:rect l="l" t="t" r="r" b="b"/>
              <a:pathLst>
                <a:path w="672" h="768">
                  <a:moveTo>
                    <a:pt x="0" y="48"/>
                  </a:moveTo>
                  <a:lnTo>
                    <a:pt x="672" y="768"/>
                  </a:lnTo>
                  <a:lnTo>
                    <a:pt x="672" y="0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619760" y="2366640"/>
                  <a:ext cx="13716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OP 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18160" y="4000680"/>
                <a:ext cx="40003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76920" y="4437000"/>
                <a:ext cx="3962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 ON 30k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O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1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6320" y="61920"/>
            <a:ext cx="415836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“INVERSE”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47880" y="5667480"/>
                <a:ext cx="2784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NVERSE</m:t>
                        </m:r>
                        <m:r>
                          <m:rPr>
                            <m:lit/>
                            <m:nor/>
                          </m:rPr>
                          <m:t xml:space="preserve">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4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1" name=""/>
          <p:cNvGraphicFramePr/>
          <p:nvPr/>
        </p:nvGraphicFramePr>
        <p:xfrm>
          <a:off x="0" y="407880"/>
          <a:ext cx="487692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7880"/>
                    <a:ext cx="4876920" cy="2498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04920" y="3429000"/>
            <a:ext cx="4038480" cy="2055960"/>
            <a:chOff x="304920" y="3429000"/>
            <a:chExt cx="4038480" cy="2055960"/>
          </a:xfrm>
        </p:grpSpPr>
        <p:graphicFrame>
          <p:nvGraphicFramePr>
            <p:cNvPr id="214" name=""/>
            <p:cNvGraphicFramePr/>
            <p:nvPr/>
          </p:nvGraphicFramePr>
          <p:xfrm>
            <a:off x="304920" y="3733920"/>
            <a:ext cx="403848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3733920"/>
                      <a:ext cx="4038480" cy="175104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371600" y="3429000"/>
                  <a:ext cx="138420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MPUTE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4952880" y="19080"/>
          <a:ext cx="389412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080"/>
                    <a:ext cx="389412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6553080" y="1219320"/>
            <a:ext cx="1447560" cy="761760"/>
            <a:chOff x="6553080" y="1219320"/>
            <a:chExt cx="1447560" cy="761760"/>
          </a:xfrm>
        </p:grpSpPr>
        <p:sp>
          <p:nvSpPr>
            <p:cNvPr id="220" name=""/>
            <p:cNvSpPr/>
            <p:nvPr/>
          </p:nvSpPr>
          <p:spPr>
            <a:xfrm>
              <a:off x="6553080" y="12193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4440" y="1371600"/>
              <a:ext cx="1278000" cy="459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724280" y="2411280"/>
                <a:ext cx="43434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7086600" y="1066680"/>
            <a:ext cx="990720" cy="121932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0"/>
                </a:moveTo>
                <a:lnTo>
                  <a:pt x="624" y="768"/>
                </a:lnTo>
                <a:lnTo>
                  <a:pt x="624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4120" y="2698920"/>
                <a:ext cx="33526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4876920" y="3483000"/>
          <a:ext cx="4190760" cy="182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83000"/>
                    <a:ext cx="419076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07200" y="4292640"/>
                <a:ext cx="307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867280" y="5835600"/>
                <a:ext cx="2222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19920" y="5349960"/>
            <a:ext cx="26344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VERSE DIVIDER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685800"/>
          <a:ext cx="461952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6195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0520" y="533520"/>
            <a:ext cx="92736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43000" y="1676520"/>
            <a:ext cx="1447560" cy="761760"/>
            <a:chOff x="1143000" y="1676520"/>
            <a:chExt cx="1447560" cy="761760"/>
          </a:xfrm>
        </p:grpSpPr>
        <p:sp>
          <p:nvSpPr>
            <p:cNvPr id="237" name=""/>
            <p:cNvSpPr/>
            <p:nvPr/>
          </p:nvSpPr>
          <p:spPr>
            <a:xfrm>
              <a:off x="1143000" y="16765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360" y="182880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04920" y="4019400"/>
                <a:ext cx="28065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93920" y="4019400"/>
                <a:ext cx="76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80880" y="4400640"/>
                <a:ext cx="2438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95480" y="440064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880" y="4781520"/>
                <a:ext cx="2044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1523880" y="1447920"/>
            <a:ext cx="533520" cy="228600"/>
            <a:chOff x="1523880" y="1447920"/>
            <a:chExt cx="533520" cy="228600"/>
          </a:xfrm>
        </p:grpSpPr>
        <p:sp>
          <p:nvSpPr>
            <p:cNvPr id="245" name=""/>
            <p:cNvSpPr/>
            <p:nvPr/>
          </p:nvSpPr>
          <p:spPr>
            <a:xfrm>
              <a:off x="1523880" y="144792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1601640" y="148608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4920" y="5138640"/>
                <a:ext cx="4343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SSIVE SIGN CONVENTIO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0880" y="5543640"/>
                <a:ext cx="2590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S' LAW:  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0880" y="6153120"/>
                <a:ext cx="2590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5029200" y="228600"/>
            <a:ext cx="3843360" cy="4267080"/>
            <a:chOff x="5029200" y="228600"/>
            <a:chExt cx="3843360" cy="4267080"/>
          </a:xfrm>
        </p:grpSpPr>
        <p:graphicFrame>
          <p:nvGraphicFramePr>
            <p:cNvPr id="251" name=""/>
            <p:cNvGraphicFramePr/>
            <p:nvPr/>
          </p:nvGraphicFramePr>
          <p:xfrm>
            <a:off x="5029200" y="457200"/>
            <a:ext cx="3843360" cy="403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457200"/>
                      <a:ext cx="384336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111640" y="228600"/>
              <a:ext cx="9273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1295280"/>
            <a:ext cx="1904760" cy="1066680"/>
            <a:chOff x="5867280" y="1295280"/>
            <a:chExt cx="1904760" cy="1066680"/>
          </a:xfrm>
        </p:grpSpPr>
        <p:grpSp>
          <p:nvGrpSpPr>
            <p:cNvPr id="255" name=""/>
            <p:cNvGrpSpPr/>
            <p:nvPr/>
          </p:nvGrpSpPr>
          <p:grpSpPr>
            <a:xfrm>
              <a:off x="6324480" y="1600200"/>
              <a:ext cx="1447560" cy="761760"/>
              <a:chOff x="6324480" y="1600200"/>
              <a:chExt cx="1447560" cy="761760"/>
            </a:xfrm>
          </p:grpSpPr>
          <p:sp>
            <p:nvSpPr>
              <p:cNvPr id="256" name=""/>
              <p:cNvSpPr/>
              <p:nvPr/>
            </p:nvSpPr>
            <p:spPr>
              <a:xfrm>
                <a:off x="6324480" y="1600200"/>
                <a:ext cx="1447560" cy="761760"/>
              </a:xfrm>
              <a:custGeom>
                <a:avLst/>
                <a:gdLst/>
                <a:ahLst/>
                <a:rect l="l" t="t" r="r" b="b"/>
                <a:pathLst>
                  <a:path w="1104" h="720">
                    <a:moveTo>
                      <a:pt x="0" y="576"/>
                    </a:moveTo>
                    <a:lnTo>
                      <a:pt x="0" y="0"/>
                    </a:lnTo>
                    <a:lnTo>
                      <a:pt x="1104" y="0"/>
                    </a:lnTo>
                    <a:lnTo>
                      <a:pt x="1104" y="720"/>
                    </a:lnTo>
                    <a:lnTo>
                      <a:pt x="96" y="72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05480" y="1752480"/>
                <a:ext cx="1186560" cy="459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DETERMINE 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USING KV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867280" y="12952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477120" y="137160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876920" y="4876920"/>
                <a:ext cx="3746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-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k*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k*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k*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442280" y="5130720"/>
                <a:ext cx="170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781680" y="4114800"/>
                <a:ext cx="6987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781680" y="3581280"/>
                <a:ext cx="13716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5410080" y="1371600"/>
            <a:ext cx="2743200" cy="1066680"/>
            <a:chOff x="5410080" y="1371600"/>
            <a:chExt cx="2743200" cy="1066680"/>
          </a:xfrm>
        </p:grpSpPr>
        <p:sp>
          <p:nvSpPr>
            <p:cNvPr id="265" name=""/>
            <p:cNvSpPr/>
            <p:nvPr/>
          </p:nvSpPr>
          <p:spPr>
            <a:xfrm>
              <a:off x="5562720" y="1371600"/>
              <a:ext cx="2590560" cy="1066680"/>
            </a:xfrm>
            <a:custGeom>
              <a:avLst/>
              <a:gdLst/>
              <a:ahLst/>
              <a:rect l="l" t="t" r="r" b="b"/>
              <a:pathLst>
                <a:path w="1632" h="672">
                  <a:moveTo>
                    <a:pt x="1632" y="672"/>
                  </a:moveTo>
                  <a:lnTo>
                    <a:pt x="0" y="0"/>
                  </a:lnTo>
                  <a:lnTo>
                    <a:pt x="0" y="576"/>
                  </a:lnTo>
                  <a:lnTo>
                    <a:pt x="1152" y="57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410080" y="1981080"/>
                  <a:ext cx="1168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FOR 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952880" y="5791320"/>
                <a:ext cx="259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934320" y="6095880"/>
                <a:ext cx="1371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3520" y="0"/>
            <a:ext cx="2438280" cy="1371600"/>
            <a:chOff x="533520" y="0"/>
            <a:chExt cx="2438280" cy="1371600"/>
          </a:xfrm>
        </p:grpSpPr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838080" y="0"/>
                  <a:ext cx="148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3" name=""/>
            <p:cNvSpPr/>
            <p:nvPr/>
          </p:nvSpPr>
          <p:spPr>
            <a:xfrm flipV="1">
              <a:off x="2971800" y="228240"/>
              <a:ext cx="0" cy="1066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33520" y="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5800" y="228600"/>
            <a:ext cx="3264840" cy="990720"/>
            <a:chOff x="685800" y="228600"/>
            <a:chExt cx="3264840" cy="990720"/>
          </a:xfrm>
        </p:grpSpPr>
        <p:sp>
          <p:nvSpPr>
            <p:cNvPr id="276" name=""/>
            <p:cNvSpPr/>
            <p:nvPr/>
          </p:nvSpPr>
          <p:spPr>
            <a:xfrm>
              <a:off x="2916360" y="228600"/>
              <a:ext cx="103428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28600"/>
              <a:ext cx="2133720" cy="9907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1344" y="0"/>
                  </a:moveTo>
                  <a:lnTo>
                    <a:pt x="0" y="0"/>
                  </a:lnTo>
                  <a:lnTo>
                    <a:pt x="96" y="624"/>
                  </a:lnTo>
                  <a:lnTo>
                    <a:pt x="1344" y="624"/>
                  </a:lnTo>
                  <a:lnTo>
                    <a:pt x="1344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04880" y="281160"/>
            <a:ext cx="2190600" cy="2616840"/>
            <a:chOff x="704880" y="281160"/>
            <a:chExt cx="2190600" cy="2616840"/>
          </a:xfrm>
        </p:grpSpPr>
        <p:sp>
          <p:nvSpPr>
            <p:cNvPr id="279" name=""/>
            <p:cNvSpPr/>
            <p:nvPr/>
          </p:nvSpPr>
          <p:spPr>
            <a:xfrm>
              <a:off x="1394280" y="2590920"/>
              <a:ext cx="135432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R 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4880" y="281160"/>
              <a:ext cx="2190600" cy="2130120"/>
            </a:xfrm>
            <a:custGeom>
              <a:avLst/>
              <a:gdLst/>
              <a:ahLst/>
              <a:rect l="l" t="t" r="r" b="b"/>
              <a:pathLst>
                <a:path w="1380" h="1342">
                  <a:moveTo>
                    <a:pt x="1380" y="15"/>
                  </a:moveTo>
                  <a:cubicBezTo>
                    <a:pt x="1000" y="0"/>
                    <a:pt x="614" y="15"/>
                    <a:pt x="234" y="10"/>
                  </a:cubicBezTo>
                  <a:cubicBezTo>
                    <a:pt x="144" y="5"/>
                    <a:pt x="95" y="10"/>
                    <a:pt x="16" y="10"/>
                  </a:cubicBezTo>
                  <a:cubicBezTo>
                    <a:pt x="13" y="275"/>
                    <a:pt x="0" y="540"/>
                    <a:pt x="0" y="805"/>
                  </a:cubicBezTo>
                  <a:cubicBezTo>
                    <a:pt x="0" y="940"/>
                    <a:pt x="3" y="1075"/>
                    <a:pt x="8" y="1210"/>
                  </a:cubicBezTo>
                  <a:cubicBezTo>
                    <a:pt x="9" y="1227"/>
                    <a:pt x="11" y="1342"/>
                    <a:pt x="31" y="1319"/>
                  </a:cubicBezTo>
                  <a:cubicBezTo>
                    <a:pt x="459" y="1332"/>
                    <a:pt x="889" y="1327"/>
                    <a:pt x="1317" y="1327"/>
                  </a:cubicBezTo>
                  <a:cubicBezTo>
                    <a:pt x="1325" y="801"/>
                    <a:pt x="1202" y="928"/>
                    <a:pt x="1333" y="797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505320" y="106668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600200"/>
            <a:ext cx="114300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205740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07:19Z</dcterms:created>
  <dc:creator>Jorge Aravena</dc:creator>
  <dc:description/>
  <dc:language>en-US</dc:language>
  <cp:lastModifiedBy>Jorge Aravena</cp:lastModifiedBy>
  <dcterms:modified xsi:type="dcterms:W3CDTF">2001-03-22T13:25:42Z</dcterms:modified>
  <cp:revision>23</cp:revision>
  <dc:subject/>
  <dc:title>No Slide Title</dc:title>
</cp:coreProperties>
</file>