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A9B-2AA5-4967-A092-2BECF2E0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125-1B0D-4603-9A4A-1248CAD5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4CF-005B-4C5F-AB23-336CDBDD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B2E-063B-4D65-9117-7DB04603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87B8-6610-4CD1-AFFA-EBAD4CD9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305-298D-43CF-BCE6-28174958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D44-5F45-4CCF-B665-C5A4C76A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123-5F8A-4D31-ADA0-4A1D5C8F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082-EF14-4C5E-90FD-A46F8845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724-D393-4BEC-96CD-ABD4F5BE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E98-B17A-434E-B068-DB36AE3F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0B3-351A-4580-A744-7B79FF3B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30E5-7034-4425-814A-2663EB87DD2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1592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572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clustering or unsupervised learning no training data, with class labeling, are available.  The goal becomes: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roup the data into a number of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ensibl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usters (groups)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This unravels similarities and differences among the availabl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gine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ioinforma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cial Sci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dic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and Web M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perform clustering of a data set,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 clustering criterion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first be adopted.  Different clustering criteria lead, in general, to different clus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5D5-A308-49CC-8674-41492CA29A4B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893960" y="4379760"/>
            <a:ext cx="6999120" cy="2001960"/>
            <a:chOff x="1893960" y="4379760"/>
            <a:chExt cx="6999120" cy="2001960"/>
          </a:xfrm>
        </p:grpSpPr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909800" y="4379760"/>
                  <a:ext cx="698328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∃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ℜ</m:t>
                      </m:r>
                      <m:r>
                        <m:t xml:space="preserve">: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&lt;+</m:t>
                      </m:r>
                      <m:r>
                        <m:t xml:space="preserve">∞</m:t>
                      </m:r>
                      <m:r>
                        <m:t xml:space="preserve">,</m:t>
                      </m:r>
                      <m:r>
                        <m:t xml:space="preserve">∀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∈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1893960" y="5797440"/>
                  <a:ext cx="406080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∀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∈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1893960" y="5110200"/>
                  <a:ext cx="3270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∀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∈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ROXIMITY MEASUR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4152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tween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6400" indent="-1994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ssimilarity meas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between vector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is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the following proper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700360" y="2913120"/>
                <a:ext cx="30240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71E-4A55-4A30-A932-54831B8D7203}" type="slidenum">
              <a:t>10</a:t>
            </a:fld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918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 add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riangular inequalit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etric dissimilarity meas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908000" y="1085760"/>
            <a:ext cx="5472360" cy="1190880"/>
            <a:chOff x="1908000" y="1085760"/>
            <a:chExt cx="5472360" cy="1190880"/>
          </a:xfrm>
        </p:grpSpPr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1908000" y="1085760"/>
                  <a:ext cx="4608720" cy="6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if</m:t>
                      </m:r>
                      <m:r>
                        <m:rPr>
                          <m:lit/>
                          <m:nor/>
                        </m:rPr>
                        <m:t xml:space="preserve">and</m:t>
                      </m:r>
                      <m:r>
                        <m:rPr>
                          <m:lit/>
                          <m:nor/>
                        </m:rPr>
                        <m:t xml:space="preserve">only</m:t>
                      </m:r>
                      <m:r>
                        <m:rPr>
                          <m:lit/>
                          <m:nor/>
                        </m:rPr>
                        <m:t xml:space="preserve">if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908000" y="1703520"/>
                  <a:ext cx="5472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z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≤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z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∀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z</m:t>
                          </m:r>
                        </m:e>
                      </m:bar>
                      <m:r>
                        <m:t xml:space="preserve">∈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55F-32E1-435D-B760-18E2EF80874F}" type="slidenum">
              <a:t>11</a:t>
            </a:fld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415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milarity 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between ve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is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the following proper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795320" y="2492280"/>
                <a:ext cx="6824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ℜ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+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733840" y="1052640"/>
                <a:ext cx="30286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795320" y="3860640"/>
                <a:ext cx="39434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857240" y="3141720"/>
                <a:ext cx="3146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4B1-BC10-45E6-A9EC-FBCFB025D324}" type="slidenum">
              <a:t>12</a:t>
            </a:fld>
          </a:p>
        </p:txBody>
      </p:sp>
    </p:spTree>
  </p:cSld>
  <p:transition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82072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in addi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etr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imilarity meas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etween s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, i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oximity meas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ssimilarity meas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to satisfy the relations of dissimilarity measure between vectors, 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ahoma"/>
              </a:rPr>
              <a:t> ‘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are used in place of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imilarly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ilarity measur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889280" y="1052640"/>
                <a:ext cx="4122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rPr>
                        <m:lit/>
                        <m:nor/>
                      </m:rPr>
                      <m:t xml:space="preserve">only</m:t>
                    </m:r>
                    <m:r>
                      <m:rPr>
                        <m:lit/>
                        <m:nor/>
                      </m:rPr>
                      <m:t xml:space="preserve">if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6560" y="1704960"/>
                <a:ext cx="63817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00360" y="4149720"/>
                <a:ext cx="2519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℘</m:t>
                    </m:r>
                    <m:r>
                      <m:t xml:space="preserve">:</m:t>
                    </m:r>
                    <m:r>
                      <m:t xml:space="preserve">U</m:t>
                    </m:r>
                    <m:r>
                      <m:t xml:space="preserve">×</m:t>
                    </m:r>
                    <m:r>
                      <m:t xml:space="preserve">U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FE4-8080-4F77-AFAB-D43D06F2F5A0}" type="slidenum">
              <a:t>13</a:t>
            </a:fld>
          </a:p>
        </p:txBody>
      </p:sp>
    </p:spTree>
  </p:cSld>
  <p:transition>
    <p:random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ahoma"/>
              </a:rPr>
              <a:t>PROXIMITY MEASURES BETWEEN VECTORS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907560"/>
            <a:ext cx="784692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valued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similarity measures (DM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Weighte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 metric D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esting instances are obtained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eighted Manhatt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r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eighted Euclid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r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411280" y="2637000"/>
                <a:ext cx="37432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3778-97BE-46B4-89FC-A04930ABEAEF}" type="slidenum">
              <a:t>14</a:t>
            </a:fld>
          </a:p>
        </p:txBody>
      </p:sp>
    </p:spTree>
  </p:cSld>
  <p:transition>
    <p:random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89000"/>
            <a:ext cx="79898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ther meas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the maximum and the minimum values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feature, among the vector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ependence on the current data 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612720"/>
                <a:ext cx="41767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0360" y="2882880"/>
                <a:ext cx="316692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3CE-7789-4294-9CC7-D68FE4D88FF6}" type="slidenum">
              <a:t>15</a:t>
            </a:fld>
          </a:p>
        </p:txBody>
      </p:sp>
    </p:spTree>
  </p:cSld>
  <p:transition>
    <p:random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ilarity meas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Inner prod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Tanimoto meas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41600" y="1413000"/>
                <a:ext cx="38466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ner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347920" y="2817720"/>
                <a:ext cx="40384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340000" y="4048200"/>
                <a:ext cx="32400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320-45B4-4520-A1E2-2D75A368622C}" type="slidenum">
              <a:t>16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-valued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{0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…,k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1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a set of symbols an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{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…,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30000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=[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number of places wher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symbol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symb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everal proximity measures can be expressed as combinations of the elements o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(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similarity measur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amming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number of places wher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ff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700360" y="1700280"/>
                <a:ext cx="129528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l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80000" y="4437000"/>
                <a:ext cx="266364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/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/>
                        </m:nary>
                      </m:e>
                      <m:li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780000" y="5724360"/>
                <a:ext cx="26636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2D0-3BC4-450C-AE54-840B629F9433}" type="slidenum">
              <a:t>17</a:t>
            </a:fld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ilarity measu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animoto meas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s that exclu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s that inclu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851280" y="533520"/>
                <a:ext cx="29527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484360" y="1924200"/>
                <a:ext cx="15112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214880" y="1917720"/>
                <a:ext cx="15112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3040200"/>
                <a:ext cx="8636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796000" y="3040200"/>
                <a:ext cx="1440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l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716360" y="4178160"/>
                <a:ext cx="774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A598-6B75-4586-9DE5-D5A8DD7C05F0}" type="slidenum">
              <a:t>18</a:t>
            </a:fld>
          </a:p>
        </p:txBody>
      </p:sp>
    </p:spTree>
  </p:cSld>
  <p:transition>
    <p:random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xed-valued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the coordinates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the vector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he rest are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iscre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ethods for measuring the proximity between two suc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opt a proximity measure (PM) suitable for real-valued vec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rt the real-valued features to discrete ones and employ a discrete P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ore general case of mixed-valued vecto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r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ominal, ordinal, interval-scaled, ratio-scaled features are treated separat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B07F-CFB3-4B62-BD4E-BA3184EA5AA4}" type="slidenum">
              <a:t>19</a:t>
            </a:fld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imple 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4000" y="2008080"/>
            <a:ext cx="8623080" cy="3990600"/>
            <a:chOff x="324000" y="2008080"/>
            <a:chExt cx="8623080" cy="3990600"/>
          </a:xfrm>
        </p:grpSpPr>
        <p:sp>
          <p:nvSpPr>
            <p:cNvPr id="44" name=""/>
            <p:cNvSpPr/>
            <p:nvPr/>
          </p:nvSpPr>
          <p:spPr>
            <a:xfrm>
              <a:off x="324000" y="2008080"/>
              <a:ext cx="2643120" cy="1271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9880" y="2008080"/>
              <a:ext cx="2643120" cy="1271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02880" y="2138400"/>
              <a:ext cx="143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lue shark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heep, ca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11440" y="2133720"/>
              <a:ext cx="21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izard, sparrow, viper, seagull, gold fish, frog, red mul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837040" y="2092320"/>
              <a:ext cx="3093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66760" indent="-266760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eriod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Two clus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eriod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Clustering criterion:</a:t>
              </a:r>
              <a:br>
                <a:rPr sz="2200"/>
              </a:br>
              <a:r>
                <a:rPr b="0" lang="en-US" sz="2200" spc="-1" strike="noStrike">
                  <a:solidFill>
                    <a:srgbClr val="3333cc"/>
                  </a:solidFill>
                  <a:latin typeface="Tahoma"/>
                </a:rPr>
                <a:t>How mammals bear</a:t>
              </a:r>
              <a:br>
                <a:rPr sz="2200"/>
              </a:br>
              <a:r>
                <a:rPr b="0" lang="en-US" sz="2200" spc="-1" strike="noStrike">
                  <a:solidFill>
                    <a:srgbClr val="3333cc"/>
                  </a:solidFill>
                  <a:latin typeface="Tahoma"/>
                </a:rPr>
                <a:t>their progen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4317840"/>
              <a:ext cx="2643120" cy="12718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79880" y="4317840"/>
              <a:ext cx="2643120" cy="12718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51040" y="4626000"/>
              <a:ext cx="168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old fish, red mullet, blue sha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13600" y="4508640"/>
              <a:ext cx="2049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heep, sparrow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og, cat, seagull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izard, frog, vi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29200" y="4564080"/>
              <a:ext cx="3017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eriod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Two clus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eriod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Clustering criterion:</a:t>
              </a:r>
              <a:br>
                <a:rPr sz="2200"/>
              </a:br>
              <a:r>
                <a:rPr b="0" lang="en-US" sz="2200" spc="-1" strike="noStrike">
                  <a:solidFill>
                    <a:srgbClr val="3333cc"/>
                  </a:solidFill>
                  <a:latin typeface="Tahoma"/>
                </a:rPr>
                <a:t>Existence of lung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73D-54A4-4A86-A725-B5F5C996226D}" type="slidenum">
              <a:t>2</a:t>
            </a:fld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imilarity function between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above defini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f at least one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undefined or both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are equal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Otherwi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are binary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therwi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are nominal or ordinal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q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wise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are interval or ratio scaled-valu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interval wher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of the vectors of th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59280" y="4365720"/>
                <a:ext cx="38163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|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627280" y="549360"/>
                <a:ext cx="3313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B37-608F-4B85-B607-3C5EE12E99CF}" type="slidenum">
              <a:t>20</a:t>
            </a:fld>
          </a:p>
        </p:txBody>
      </p:sp>
    </p:spTree>
  </p:cSld>
  <p:transition>
    <p:random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260280"/>
            <a:ext cx="8569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ere the value of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th coordinate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s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the outcome of a measuring devi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oser the coordin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o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the more likely the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ossess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does not possess)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th characteristi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pproache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 certainty about the possession or not of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th feature fro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reas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ossible similarity measure that can quantify the above i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92360" y="4113360"/>
                <a:ext cx="504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692360" y="4941720"/>
                <a:ext cx="29509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q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826920" y="404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0E70-1E9A-4F45-860C-E7DC732529D0}" type="slidenum">
              <a:t>21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713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s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or some vectors of the data set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, some features values are unkn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ays to face the 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ard all vectors with missing values (not recommended for small data s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the mean val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availa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feature values over that data set and substitute the miss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feature values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both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-t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ature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available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wise. Th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PM  between two scala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the average proximities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tween all feature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ong all components.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f bo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available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therwi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325600" y="3602160"/>
                <a:ext cx="32544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t xml:space="preserve">i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76720" y="5513400"/>
                <a:ext cx="2016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237-99F7-4513-A2E7-3C1DC916CD3A}" type="slidenum">
              <a:t>22</a:t>
            </a:fld>
          </a:p>
        </p:txBody>
      </p:sp>
    </p:spTree>
  </p:cSld>
  <p:transition>
    <p:random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ROXIMITY FUNCTIONS BETWEEN A VECTOR AND A SE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89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l points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contribute to the definition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050920" y="3141720"/>
                <a:ext cx="32418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052720" y="4357800"/>
                <a:ext cx="3024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22560" y="5589720"/>
                <a:ext cx="28810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℘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292720" y="5734080"/>
            <a:ext cx="34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cardinalit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F49-2D5A-4913-B3C5-205669539440}" type="slidenum">
              <a:t>23</a:t>
            </a:fld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 representative(s)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contributes to the definition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ase: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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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 representatives 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mean vec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mean cen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median cen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ther representatives (e.g., hyperplanes, hyperspheres) ar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in certain applications (e.g., object identification using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ustering techniqu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908000" y="2100240"/>
                <a:ext cx="17272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35120" y="3533760"/>
                <a:ext cx="45925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:</m:t>
                    </m:r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m</m:t>
                                </m:r>
                              </m:e>
                            </m:ba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  <m:r>
                      <m:t xml:space="preserve">≤</m:t>
                    </m:r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28640" y="4724280"/>
                <a:ext cx="79470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d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med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d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ed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4500720" y="2205000"/>
            <a:ext cx="464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cardinality 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2843280"/>
            <a:ext cx="223200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: a dissimilarity meas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788000" y="3213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132000" y="2852640"/>
            <a:ext cx="360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987280" y="3645000"/>
            <a:ext cx="381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11640" y="3645000"/>
            <a:ext cx="10810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D2D-D2E6-4382-86E6-2499B53F6D31}" type="slidenum">
              <a:t>24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ROXIMITY FUNCTIONS BETWEEN SE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64072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points of each set contribute to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 (measure but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ric, only i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imilarity measu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 (measure but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ric, only i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dissimilarity measu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 (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measure, even i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measu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08000" y="3057480"/>
                <a:ext cx="3888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8000" y="4624560"/>
                <a:ext cx="3743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979640" y="5805360"/>
                <a:ext cx="38876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℘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,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F9F4-36C8-4A11-9385-BCCFC78A6788}" type="slidenum">
              <a:t>25</a:t>
            </a:fld>
          </a:p>
        </p:txBody>
      </p:sp>
    </p:spTree>
  </p:cSld>
  <p:transition>
    <p:random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represented by its representative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 proximity function (it is a measure provided that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measure)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ximity functions between 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be derived from the above functions if we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050920" y="2495520"/>
                <a:ext cx="2737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℘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351080" y="3273480"/>
                <a:ext cx="3384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℘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CAD2-E727-4388-BF41-31D294489F5E}" type="slidenum">
              <a:t>26</a:t>
            </a:fld>
          </a:p>
        </p:txBody>
      </p:sp>
    </p:spTree>
  </p:cSld>
  <p:transition>
    <p:random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720720"/>
            <a:ext cx="8642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oices of proximity functions between sets may lead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otally 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ustering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measures between vectors in the same proximity function between sets may lead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otally 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ustering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only way to achieve a proper clustering i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y trial and erro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,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aking into account the opinion of an expert in the field of appli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A44-7CBB-4530-8C4E-F488396D782E}" type="slidenum">
              <a:t>27</a:t>
            </a:fld>
          </a:p>
        </p:txBody>
      </p:sp>
    </p:spTree>
  </p:cSld>
  <p:transition>
    <p:random/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ing task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eature Selection: Information rich features-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arsimon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ximity Measure:  This quantifies the term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ilar or dissimil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ustering Criterion:  This consists of a cost function or some type of ru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ustering Algorithm:  This consists of the set of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ep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llowed to reveal the structure, based on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ilarity measure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the adopte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riter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idation of the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pretation of the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4DA-938A-4FAE-BF7C-A016FCCB8C4F}" type="slidenum">
              <a:t>3</a:t>
            </a:fld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pending on the similarity measure, the clustering criterion and the clustering algorithm different clusters may result. 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Subjectivity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is a reality to live with from now 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imple example:  How many clusters?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47640" y="3068640"/>
            <a:ext cx="5567040" cy="1349280"/>
            <a:chOff x="1547640" y="3068640"/>
            <a:chExt cx="5567040" cy="1349280"/>
          </a:xfrm>
        </p:grpSpPr>
        <p:sp>
          <p:nvSpPr>
            <p:cNvPr id="57" name=""/>
            <p:cNvSpPr/>
            <p:nvPr/>
          </p:nvSpPr>
          <p:spPr>
            <a:xfrm>
              <a:off x="1547640" y="3068640"/>
              <a:ext cx="2590560" cy="1349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23760" y="3123000"/>
              <a:ext cx="2590920" cy="129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268360" y="3141720"/>
            <a:ext cx="4222080" cy="1242720"/>
            <a:chOff x="2268360" y="3141720"/>
            <a:chExt cx="4222080" cy="1242720"/>
          </a:xfrm>
        </p:grpSpPr>
        <p:sp>
          <p:nvSpPr>
            <p:cNvPr id="60" name=""/>
            <p:cNvSpPr/>
            <p:nvPr/>
          </p:nvSpPr>
          <p:spPr>
            <a:xfrm>
              <a:off x="2268360" y="3141720"/>
              <a:ext cx="1246320" cy="594000"/>
            </a:xfrm>
            <a:prstGeom prst="ellipse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68360" y="3790440"/>
              <a:ext cx="1246320" cy="594000"/>
            </a:xfrm>
            <a:prstGeom prst="ellipse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44120" y="3790440"/>
              <a:ext cx="1246320" cy="594000"/>
            </a:xfrm>
            <a:prstGeom prst="ellipse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44120" y="3196440"/>
              <a:ext cx="1246320" cy="540360"/>
            </a:xfrm>
            <a:prstGeom prst="ellipse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7380360" y="357336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 or 4 ?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EB1-3582-4CB4-A136-6F5809FAF424}" type="slidenum">
              <a:t>4</a:t>
            </a:fld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application areas for clust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reduction. All data vectors within a cluster are substituted (represented) by the corresponding cluster represent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ypothesis gener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ypothesis test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diction based on grou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F46-8689-4AC2-A956-ABB7AEE02886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440" y="-27360"/>
            <a:ext cx="7342200" cy="53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ustering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 algn="just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ard Clustering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Each point belongs to a single clu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cluste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defined a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arti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ts (clusters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o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-1872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-1872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-1872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n addition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ata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mor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imil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each other and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ess simil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the data in the rest of the clusters.  Quantifying the terms similar-dissimilar depends on the types of clusters that ar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xp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underlie the structu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484360" y="690480"/>
                <a:ext cx="25099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556000" y="2646360"/>
                <a:ext cx="25923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∅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627280" y="3282840"/>
                <a:ext cx="12952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t xml:space="preserve">U</m:t>
                            </m:r>
                          </m:e>
                          <m:lim>
                            <m:r>
                              <m:t xml:space="preserve">m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463840" y="4221000"/>
                <a:ext cx="5367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∅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3E1-B769-436B-8061-960C5915CDE4}" type="slidenum">
              <a:t>6</a:t>
            </a:fld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2468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 Each point belongs to all clusters up to som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egr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fuzzy clustering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usters is characterized b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050920" y="2435400"/>
                <a:ext cx="36007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→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050920" y="2881440"/>
                <a:ext cx="31608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124000" y="3699000"/>
                <a:ext cx="36003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7B1-A8B1-4E07-8A60-9EC248ED55ED}" type="slidenum">
              <a:t>7</a:t>
            </a:fld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979640" y="2997360"/>
                <a:ext cx="47656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lose  to  1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high grade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mbership of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to cluster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022480" y="4076640"/>
                <a:ext cx="38750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lose  to  0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grade of membershi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1619280" y="2708280"/>
            <a:ext cx="5329080" cy="273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556000" y="1844640"/>
                <a:ext cx="3136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1116000" y="596880"/>
            <a:ext cx="662472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are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embership functio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br>
              <a:rPr sz="2200"/>
            </a:b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us, each 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belongs to any cluster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up to 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ome degree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”, depending on the value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1EA-3EFB-4F64-98A9-EFD96571C6C7}" type="slidenum">
              <a:t>8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YPES OF FEATUR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respect to the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ntinuou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he domain is a continuous subset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scre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he domain is a finite discrete se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Bina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dichotomous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domain consists of two possible value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respect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lative significance of the values they t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m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values code states, e.g., the sex of an individual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rd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values are meaningfully ordered, e.g., the rating of the services of a hotel (poor, good, very good, excellent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terval-scal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difference of two values is meaningful but their ratio is meaningless, e.g., temperatur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atio-scal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ratio of two values is meaningful, e.g., weigh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73F-A611-47F1-8FD5-98188CD8FD1E}" type="slidenum">
              <a:t>9</a:t>
            </a:fld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12-21T16:28:50Z</dcterms:modified>
  <cp:revision>695</cp:revision>
  <dc:subject/>
  <dc:title>PowerPoint Presentation</dc:title>
</cp:coreProperties>
</file>