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CE70-05CA-4959-903B-DE1FB4005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29B6-1F6A-47D7-A568-54DBCEB4C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406F-68B2-4998-8607-5DA2F538D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FA91-23FC-4A68-A32D-BA3D9D744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5255-D9FC-4F97-B954-D44E05F8E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B9C3-D267-4184-AE40-96DC90B24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FF5C-24E0-4884-ACAE-BAEBE32DE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1597-E3AC-4427-B5E7-7BCD985E4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64FD-0691-484A-8632-9968E9230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CF1F-2B91-4D51-8938-6B63B4CE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20AA-0215-40F4-8CB1-142E9CBA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D83C-94E5-44F7-9868-CC4130D7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AD39A-A4AA-44D4-8B35-66008544946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CLUSTERING ALGORITHM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02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possible cluster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Question: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how many ways th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oints can b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igned into m group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Answe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c99"/>
                </a:solidFill>
                <a:latin typeface="Tahoma"/>
              </a:rPr>
              <a:t>Examples</a:t>
            </a:r>
            <a:r>
              <a:rPr b="0" lang="el-GR" sz="2200" spc="-1" strike="noStrike">
                <a:solidFill>
                  <a:srgbClr val="00cc99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2195640" y="3205080"/>
                <a:ext cx="417672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,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!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m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i</m:t>
                                  </m:r>
                                </m:e>
                              </m:mr>
                            </m:m>
                          </m:e>
                        </m:d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1906560" y="4870440"/>
                <a:ext cx="2665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,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375</m:t>
                    </m:r>
                    <m:r>
                      <m:rPr>
                        <m:lit/>
                        <m:nor/>
                      </m:rPr>
                      <m:t xml:space="preserve">10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908000" y="5300640"/>
                <a:ext cx="338472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rPr>
                        <m:lit/>
                        <m:nor/>
                      </m:rPr>
                      <m:t xml:space="preserve">232</m:t>
                    </m:r>
                    <m:r>
                      <m:rPr>
                        <m:lit/>
                        <m:nor/>
                      </m:rPr>
                      <m:t xml:space="preserve">115</m:t>
                    </m:r>
                    <m:r>
                      <m:rPr>
                        <m:lit/>
                        <m:nor/>
                      </m:rPr>
                      <m:t xml:space="preserve">90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906560" y="5713560"/>
                <a:ext cx="288144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,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!!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EDB0-BBC1-4A9C-BB4B-58BE382BF5C0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08000" y="43920"/>
            <a:ext cx="8856720" cy="681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MBSAS, a modification of BS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BSAS a decision for a data vect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reached prior to the final cluster formation, which is determined after all vectors have been presented to the algorith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BSAS deals with the above drawback,  at the cost of presenting the data twice to the algorith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MBSA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onsists of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luster determination phase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first pass on the data)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ich is the same as BSAS with the exception that no vector is assigned to an already formed cluster. At the end of this phase, each cluster consists of a single elemen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pattern classification phase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second pass on the data)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ere each one of the unassigned vector is assigned to its closest clust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Remark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BSAS, a decision for a vector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uring the pattern classification phase is reached taking into account all clust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BSAS is  sensitive to the order of presentation of the vecto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BSAS requires two passes on the data. Its complexity i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F8BE-F781-45F4-9F3C-6CF2F1B832B8}" type="slidenum">
              <a:t>10</a:t>
            </a:fld>
          </a:p>
        </p:txBody>
      </p:sp>
    </p:spTree>
  </p:cSld>
  <p:transition>
    <p:random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08000" y="115560"/>
            <a:ext cx="88567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he maxmi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e the set of all points that have been chosen to form clusters up to the current iteration step. Th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ormation of cluster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carried out as follow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ach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-W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etermin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in</a:t>
            </a:r>
            <a:r>
              <a:rPr b="1" i="1" lang="en-US" sz="20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y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: d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=max</a:t>
            </a:r>
            <a:r>
              <a:rPr b="0" i="1" lang="en-US" sz="20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X-W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greater than a prespecified threshold th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vector forms a new clu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luster determination phase of the algorithm termina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 {if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the formation of the clusters, each unassigned vector is assigned to its closest clust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A477-E4F1-45E3-B579-25695F37B7BF}" type="slidenum">
              <a:t>11</a:t>
            </a:fld>
          </a:p>
        </p:txBody>
      </p:sp>
    </p:spTree>
  </p:cSld>
  <p:transition>
    <p:random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08000" y="404280"/>
            <a:ext cx="90360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Remark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5960" indent="-285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maxmin algorithm is more computationally demanding than MBS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5960" indent="-285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ever, it is expected to produce better clustering resul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42EF-A10F-47DD-A7BC-388296BE74E1}" type="slidenum">
              <a:t>12</a:t>
            </a:fld>
          </a:p>
        </p:txBody>
      </p:sp>
    </p:spTree>
  </p:cSld>
  <p:transition>
    <p:random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08000" y="404280"/>
            <a:ext cx="88567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Refinement st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problem of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loseness of cluster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“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n all the above algorithms it may happen that two formed clusters lie very close to each oth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A simple merging proced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Fi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such tha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i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,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=1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,…,m,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≠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en \{ </a:t>
            </a:r>
            <a:r>
              <a:rPr b="0" i="1" lang="en-US" sz="2000" spc="-1" strike="noStrike">
                <a:solidFill>
                  <a:srgbClr val="cccc00"/>
                </a:solidFill>
                <a:latin typeface="Times New Roman"/>
              </a:rPr>
              <a:t>M</a:t>
            </a:r>
            <a:r>
              <a:rPr b="0" lang="en-US" sz="2000" spc="-1" strike="noStrike" baseline="-25000">
                <a:solidFill>
                  <a:srgbClr val="cccc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cccc00"/>
                </a:solidFill>
                <a:latin typeface="Tahoma"/>
              </a:rPr>
              <a:t> is a user-defined threshol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\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g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elimin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necessary, update the cluster representative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name the cluster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respective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=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 to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 {if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4664-0EEC-4768-B34B-BFEA91826A30}" type="slidenum">
              <a:t>13</a:t>
            </a:fld>
          </a:p>
        </p:txBody>
      </p:sp>
    </p:spTree>
  </p:cSld>
  <p:transition>
    <p:random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08000" y="476280"/>
            <a:ext cx="885672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problem of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ensitivity to the order of data present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“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 vector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may have been assigned to a clust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at the current stage but another clust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may be formed at a later stage that lies closer to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A simple reassignment proced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uch tha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i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=1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,…,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\{ </a:t>
            </a:r>
            <a:r>
              <a:rPr b="0" i="1" lang="en-US" sz="1800" spc="-1" strike="noStrike">
                <a:solidFill>
                  <a:srgbClr val="cccc00"/>
                </a:solidFill>
                <a:latin typeface="Times New Roman"/>
              </a:rPr>
              <a:t>b</a:t>
            </a:r>
            <a:r>
              <a:rPr b="0" lang="en-US" sz="1800" spc="-1" strike="noStrike">
                <a:solidFill>
                  <a:srgbClr val="cccc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cccc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cccc00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cccc00"/>
                </a:solidFill>
                <a:latin typeface="Tahoma"/>
              </a:rPr>
              <a:t> is the index of the cluster that lies closet to </a:t>
            </a:r>
            <a:r>
              <a:rPr b="0" i="1" lang="en-US" sz="1800" spc="-1" strike="noStrike" u="sng">
                <a:solidFill>
                  <a:srgbClr val="cccc00"/>
                </a:solidFill>
                <a:uFillTx/>
                <a:latin typeface="Times New Roman"/>
              </a:rPr>
              <a:t>x</a:t>
            </a:r>
            <a:r>
              <a:rPr b="0" i="1" lang="en-US" sz="1800" spc="-1" strike="noStrike" baseline="-25000">
                <a:solidFill>
                  <a:srgbClr val="cccc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\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 {for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: 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necessary, update representati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 {for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2694-1EC7-43A5-9675-91067F53CAAB}" type="slidenum">
              <a:t>14</a:t>
            </a:fld>
          </a:p>
        </p:txBody>
      </p:sp>
    </p:spTree>
  </p:cSld>
  <p:transition>
    <p:random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08000" y="476280"/>
            <a:ext cx="885672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two-threshold sequential scheme (TTSA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formation of the clusters, as well as the assignment of vectors to clusters, is carried out concurrently (like BSAS and unlike MBSAS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wo thresholds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re emplo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general ide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the following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the dista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m its closest cluster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is greater than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e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new cluster represented by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form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lt;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ssigned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decision is postponed to a later sta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 {if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unassigned vectors are presented iteratively to the algorithm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until all of them are classifi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5BB3-E29D-4073-85AD-A507E58C2F9B}" type="slidenum">
              <a:t>15</a:t>
            </a:fld>
          </a:p>
        </p:txBody>
      </p:sp>
    </p:spTree>
  </p:cSld>
  <p:transition>
    <p:random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08000" y="476280"/>
            <a:ext cx="885672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Remark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practice, a few passes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of the data set are require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TSAS is less sensitive to the order of data presentation, compared to BS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BE1D-E520-42A5-9D8A-956C8B423A1B}" type="slidenum">
              <a:t>16</a:t>
            </a:fld>
          </a:p>
        </p:txBody>
      </p:sp>
    </p:spTree>
  </p:cSld>
  <p:transition>
    <p:random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way o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sider only a small fraction of clusterings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select a “sensible” clustering among the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Question 1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hich fraction of clusterings is considere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Question 2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hat “sensible” mean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nswer depends on the specific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clustering algorith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the specific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criteria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be adop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F78E-1914-4D85-B86F-1A06266CD077}" type="slidenum">
              <a:t>2</a:t>
            </a:fld>
          </a:p>
        </p:txBody>
      </p:sp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MAJOR CATEGORIES OF CLUSTERING ALGORITHM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equential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single clustering is produced. One or few sequential passes on the dat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ierarchical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 sequence of (nested) clusterings is produc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gglomerativ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trix the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raph the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visiv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binations of the above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e.g.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the Chameleon algorithm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D08D-BB3F-43B1-AD04-7707ECACC947}" type="slidenum">
              <a:t>3</a:t>
            </a:fld>
          </a:p>
        </p:txBody>
      </p:sp>
    </p:spTree>
  </p:cSld>
  <p:transition>
    <p:random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260280"/>
            <a:ext cx="77724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ost function optimization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most of the cases a 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ing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ustering is obtain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Hard clustering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each point belongs exclusively to a single cluster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 hard clustering algorithms (e.g.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mean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medoids algorith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ture decompositi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anch and boun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ulated annea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istic annea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undary det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de seek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tic clustering algorith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Fuzzy clustering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each point belongs to more than one clusters simultaneously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Possibilistic clustering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t is based on the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possibilit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a point to belong to a cluster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5411-101E-4B67-8485-9A07D4717D4F}" type="slidenum">
              <a:t>4</a:t>
            </a:fld>
          </a:p>
        </p:txBody>
      </p:sp>
    </p:spTree>
  </p:cSld>
  <p:transition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54900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ther schem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gorithms based on graph the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.g., Minimum Spanning Tree, regions of influence, directed trees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etitive learning algorithms (basic competitive learning scheme, Kohonen self organizing maps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bspace clustering algorithm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morphology clustering algorithm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41B7-88F8-4210-AB1E-3AB87F45108F}" type="slidenum">
              <a:t>5</a:t>
            </a:fld>
          </a:p>
        </p:txBody>
      </p:sp>
    </p:spTree>
  </p:cSld>
  <p:transition>
    <p:random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80840" y="1341360"/>
            <a:ext cx="753588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ommon traits shared by  these algorithms ar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67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2440" indent="-1764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or very few passes on the data are requir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2440" indent="-1764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number of clusters is not known a-priori, except (possibly) an upper bound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2440" indent="-1764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lusters are defined with the aid o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05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ppropriately defined dista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a point from a clust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05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threshold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ssociated with the distanc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EQUENTIAL CLUSTERING ALGORITHM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3671-77A2-4F9C-A55D-22C26DB0C1C2}" type="slidenum">
              <a:t>6</a:t>
            </a:fld>
          </a:p>
        </p:txBody>
      </p:sp>
    </p:spTree>
  </p:cSld>
  <p:transition>
    <p:random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79280" y="115560"/>
            <a:ext cx="87854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Basic Sequential Clustering Algorithm (BSA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\{</a:t>
            </a:r>
            <a:r>
              <a:rPr b="0" lang="en-US" sz="1800" spc="-1" strike="noStrike">
                <a:solidFill>
                  <a:srgbClr val="cccc00"/>
                </a:solidFill>
                <a:latin typeface="Tahoma"/>
              </a:rPr>
              <a:t>number of cluster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\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: 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necessary, update representatives (*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 {if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 {for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*) When the mean vect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used as representative of the clust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lements, the updating in the light of a new vect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eco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5229360"/>
            <a:ext cx="489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A6BE-F294-4472-ABBE-D5CE75B36ED6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08000" y="115560"/>
            <a:ext cx="88567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c99"/>
                </a:solidFill>
                <a:latin typeface="Tahoma"/>
              </a:rPr>
              <a:t>Remark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order of presentation of the dat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the algorithm plays important role in the clustering results.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Different order of presentation may lead to totally different clustering result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in terms of the number of clusters as well as the clusters themselv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BSAS the decision for a vector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reached prior to the final cluster formation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SAS perform a single pass on the data. Its complexity i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lusters are represented by point representatives, compact clusters are favor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D315-A842-42F0-9E8A-0FF7B08184BA}" type="slidenum">
              <a:t>8</a:t>
            </a:fld>
          </a:p>
        </p:txBody>
      </p:sp>
    </p:spTree>
  </p:cSld>
  <p:transition>
    <p:random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50560" y="115920"/>
            <a:ext cx="84978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Estimating the number of clusters in the data set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SA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enote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SA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lgorithm when the dissimilarity threshold is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tep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u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im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SA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each time presenting the data in a different or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timate the number of cluster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l-GR" sz="2000" spc="-1" strike="noStrike" baseline="-25000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s the most frequent number resulting from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uns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SA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o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l-GR" sz="2000" spc="-1" strike="noStrike" baseline="-25000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ersus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identify the number of cluster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s the one corresponding to the widest flat region in the above grap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044720" y="3933720"/>
          <a:ext cx="6983280" cy="261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3933720"/>
                    <a:ext cx="6983280" cy="26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7523280" y="644688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Times New Roman"/>
              </a:rPr>
              <a:t>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EC8C-C316-4563-84BA-C8D359E00802}" type="slidenum">
              <a:t>9</a:t>
            </a:fld>
          </a:p>
        </p:txBody>
      </p:sp>
    </p:spTree>
  </p:cSld>
  <p:transition>
    <p:random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2T18:14:25Z</dcterms:created>
  <dc:creator>Jim</dc:creator>
  <dc:description/>
  <dc:language>en-US</dc:language>
  <cp:lastModifiedBy>ST</cp:lastModifiedBy>
  <dcterms:modified xsi:type="dcterms:W3CDTF">2006-12-21T16:31:41Z</dcterms:modified>
  <cp:revision>629</cp:revision>
  <dc:subject/>
  <dc:title>PowerPoint Presentation</dc:title>
</cp:coreProperties>
</file>