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5B7-3267-4C4A-BFE6-086AEC22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ABD-49AF-44C0-8341-767A3B89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029-638F-46A2-8ECE-286D5B97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98C-FB14-4317-8D7C-BC62508E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856-59C2-444F-92F2-94193C98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2F2-DD36-46D3-B981-F584E84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359D-D174-4E89-A9B9-4B661C23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810-53D2-4F9D-94CA-2EBDCB3C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9EB-30EA-4DD0-BF7E-EA375DF4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7D9-FB96-480B-A544-1B22440F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3340-7275-4C63-9D85-81458A3E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597-F89E-485F-BEA8-4DDBBC8B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1B0-8071-422E-8CC2-962F7F401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450040" y="5391000"/>
          <a:ext cx="35146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50040" y="5391000"/>
                    <a:ext cx="35146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965920" y="1844640"/>
          <a:ext cx="134280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65920" y="1844640"/>
                    <a:ext cx="1342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inpu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439272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I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nput node should appea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591120" indent="-59112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ew element appears on the schemat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2349360"/>
            <a:ext cx="2305080" cy="358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435640" y="3429000"/>
          <a:ext cx="3591000" cy="12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4290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72000" y="3429000"/>
            <a:ext cx="2305080" cy="28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445000"/>
            <a:ext cx="194328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RLC schematic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1851120"/>
          <a:ext cx="1554120" cy="200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51120"/>
                    <a:ext cx="1554120" cy="20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68375"/>
              <a:gd name="adj2" fmla="val 11593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EW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tart a new sch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262400" y="3500280"/>
          <a:ext cx="398160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2400" y="3500280"/>
                    <a:ext cx="39816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50920" y="4941720"/>
            <a:ext cx="3673440" cy="1727280"/>
          </a:xfrm>
          <a:prstGeom prst="wedgeRoundRectCallout">
            <a:avLst>
              <a:gd name="adj1" fmla="val 131287"/>
              <a:gd name="adj2" fmla="val -72611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raw the schematic;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the button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RND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V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, and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6732720" y="2852640"/>
          <a:ext cx="21812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2852640"/>
                    <a:ext cx="21812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24000" y="1809720"/>
          <a:ext cx="118080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809720"/>
                    <a:ext cx="11808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elete the OUT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79833"/>
              <a:gd name="adj2" fmla="val 18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LET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delete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789360"/>
            <a:ext cx="4321080" cy="1368360"/>
          </a:xfrm>
          <a:prstGeom prst="wedgeRoundRectCallout">
            <a:avLst>
              <a:gd name="adj1" fmla="val 113263"/>
              <a:gd name="adj2" fmla="val -5626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delete. 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397400" y="5608800"/>
          <a:ext cx="4638600" cy="113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7400" y="5608800"/>
                    <a:ext cx="463860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08000" y="5734080"/>
            <a:ext cx="3024000" cy="936720"/>
          </a:xfrm>
          <a:prstGeom prst="wedgeRoundRectCallout">
            <a:avLst>
              <a:gd name="adj1" fmla="val 89578"/>
              <a:gd name="adj2" fmla="val 13560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left mouse button to de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64000" y="4098960"/>
          <a:ext cx="3695760" cy="27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4098960"/>
                    <a:ext cx="369576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6724800" y="2060640"/>
          <a:ext cx="2095200" cy="14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24800" y="2060640"/>
                    <a:ext cx="209520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C1 elemen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844640"/>
            <a:ext cx="3810240" cy="936720"/>
          </a:xfrm>
          <a:prstGeom prst="wedgeRoundRectCallout">
            <a:avLst>
              <a:gd name="adj1" fmla="val -81583"/>
              <a:gd name="adj2" fmla="val -18643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change element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213000"/>
            <a:ext cx="4321440" cy="1368360"/>
          </a:xfrm>
          <a:prstGeom prst="wedgeRoundRectCallout">
            <a:avLst>
              <a:gd name="adj1" fmla="val 123069"/>
              <a:gd name="adj2" fmla="val -94777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near the node of the element you want to edit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element appears in gre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5661000"/>
            <a:ext cx="3024360" cy="936720"/>
          </a:xfrm>
          <a:prstGeom prst="wedgeRoundRectCallout">
            <a:avLst>
              <a:gd name="adj1" fmla="val 130893"/>
              <a:gd name="adj2" fmla="val 39662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\it C}_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change </a:t>
            </a:r>
            <a:r>
              <a:rPr b="0" lang="en-US" sz="2400" spc="-1" strike="noStrike">
                <a:solidFill>
                  <a:srgbClr val="000066"/>
                </a:solidFill>
                <a:latin typeface="Courier New"/>
              </a:rPr>
              <a:t>C1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66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874880"/>
          <a:ext cx="933480" cy="126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1874880"/>
                    <a:ext cx="933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755640" y="4797360"/>
            <a:ext cx="3384720" cy="576360"/>
          </a:xfrm>
          <a:prstGeom prst="wedgeRoundRectCallout">
            <a:avLst>
              <a:gd name="adj1" fmla="val 83115"/>
              <a:gd name="adj2" fmla="val 1363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hange the color to ‘r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24360" y="1628640"/>
            <a:ext cx="4057560" cy="258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8028000" y="4200480"/>
          <a:ext cx="942840" cy="265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28000" y="4200480"/>
                    <a:ext cx="94284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09440" y="476280"/>
          <a:ext cx="933480" cy="26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440" y="476280"/>
                    <a:ext cx="9334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ave the schematic to fil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429000"/>
            <a:ext cx="3817800" cy="936720"/>
          </a:xfrm>
          <a:prstGeom prst="wedgeRoundRectCallout">
            <a:avLst>
              <a:gd name="adj1" fmla="val -31703"/>
              <a:gd name="adj2" fmla="val -100509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ave as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save schematic to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157720"/>
            <a:ext cx="4321080" cy="647640"/>
          </a:xfrm>
          <a:prstGeom prst="wedgeRoundRectCallout">
            <a:avLst>
              <a:gd name="adj1" fmla="val 59222"/>
              <a:gd name="adj2" fmla="val -247305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ype the name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00360" y="5921280"/>
            <a:ext cx="4824360" cy="936720"/>
          </a:xfrm>
          <a:prstGeom prst="wedgeRoundRectCallout">
            <a:avLst>
              <a:gd name="adj1" fmla="val 62865"/>
              <a:gd name="adj2" fmla="val -19324"/>
              <a:gd name="adj3" fmla="val 16667"/>
            </a:avLst>
          </a:prstGeom>
          <a:solidFill>
            <a:srgbClr val="ffffcc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PEN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button to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pen existing schematic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410080" cy="47815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ombine schematic with other plots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2349360"/>
            <a:ext cx="3816360" cy="863640"/>
          </a:xfrm>
          <a:prstGeom prst="wedgeRectCallout">
            <a:avLst>
              <a:gd name="adj1" fmla="val -53245"/>
              <a:gd name="adj2" fmla="val 119300"/>
            </a:avLst>
          </a:prstGeom>
          <a:solidFill>
            <a:srgbClr val="dfffff"/>
          </a:solidFill>
          <a:ln w="38160">
            <a:solidFill>
              <a:srgbClr val="000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ubplot(2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firtdfa(0,0,4,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s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a MATLAB toolbox for creating schematics of filters and system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By mouse point-and-click you draw schematics in MATLAB figure window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hematics are saved as M-files that can be called as standalone MATLAB func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Use these functions in your MATLAB scripts to illustrate or document the filter realization on which you wor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to install DrawFil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s distributed in compressed form as the file DF28.zip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compress DF28.zip with path names;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if you decompres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in the folder C:\afd, you obtai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C:\afd\DrawFilt\albu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dd DrawFilt to MATLAB path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directory (folder) has to be appended to the MATLAB path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example, add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rawFil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to the MATLAB path with the command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Courier New"/>
              </a:rPr>
              <a:t>path(path,'C:\afd\DrawFilt'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79280" y="2662200"/>
          <a:ext cx="8669520" cy="23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62200"/>
                    <a:ext cx="8669520" cy="23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ange to the working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80000" y="3174840"/>
            <a:ext cx="439236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52600" y="2355840"/>
          <a:ext cx="62150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2355840"/>
                    <a:ext cx="62150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DrawFil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13160" y="38098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960" y="42840"/>
            <a:ext cx="86680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Let’s draw resis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48243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he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butto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rst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oint and click where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node should appea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You can draw only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horizontal or vertical elem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537160" y="1700280"/>
          <a:ext cx="357192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37160" y="1700280"/>
                    <a:ext cx="35719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995640" y="2276640"/>
            <a:ext cx="165600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508720" y="3619440"/>
            <a:ext cx="357192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445000" y="5459400"/>
          <a:ext cx="3591000" cy="12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45000" y="5459400"/>
                    <a:ext cx="359100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932360" y="3213000"/>
            <a:ext cx="208764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40000" y="3933720"/>
            <a:ext cx="547200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564000" y="1844640"/>
          <a:ext cx="551484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844640"/>
                    <a:ext cx="551484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635280" y="3716280"/>
          <a:ext cx="537228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716280"/>
                    <a:ext cx="53722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835440" y="5573880"/>
          <a:ext cx="5200560" cy="109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35440" y="5573880"/>
                    <a:ext cx="52005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rompts tell you what to do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2268000"/>
            <a:ext cx="3168720" cy="41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a button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1st nod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SISTOR 2nd nod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2637000"/>
            <a:ext cx="4103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3716280"/>
            <a:ext cx="446544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5300640"/>
            <a:ext cx="4464000" cy="1081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Miroslav Lutovac, Dejan Tosic</dc:creator>
  <dc:description/>
  <dc:language>en-US</dc:language>
  <cp:lastModifiedBy>nn</cp:lastModifiedBy>
  <dcterms:modified xsi:type="dcterms:W3CDTF">2005-03-05T03:18:54Z</dcterms:modified>
  <cp:revision>53</cp:revision>
  <dc:subject/>
  <dc:title>DrawFilt</dc:title>
</cp:coreProperties>
</file>