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D6E4-8EFB-4584-8F6E-5D1347125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5E48-4286-43D6-ACE2-975EE02B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5CFD-E458-4C40-8123-26E6CF729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6F9E-BD5A-40B4-BF8F-B6570C108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54EB-D1D3-4184-956F-89CE7855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D3C9-2C2A-4CA5-BCB9-6E13D067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3AF5-35C0-4E22-9429-C1353A9A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8E53-C077-4B42-81FC-0B1209BE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C207-1F98-4AF9-9109-062F9C36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0C9E-203A-4695-9801-B2187CFD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EF38-FFE0-48E1-8125-507D9C85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82BC-7E74-465B-8117-DCA7D715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D04F-E0A0-49F2-A364-BEAF111FB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Review Signal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194000" y="1625760"/>
            <a:ext cx="4896000" cy="36702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 code for sine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8600" y="2060280"/>
            <a:ext cx="814680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s  = 1.8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s = 10;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i = pi/3;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1 = -0.1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step = 0.01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2 = 0.2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 = t1:tstep:t2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 = Xs*sin(2*pi*fs*t+fi)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lot(t, x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label('t'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ylabel('x_s'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itle('x_s(t) = X_s sin(2 \pi f_s t + \phi_s)'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rid 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95640" y="1306440"/>
            <a:ext cx="5038920" cy="37782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dvanced 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 cod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3640" y="2420640"/>
            <a:ext cx="856908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s  = 1.8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s = 10;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i = pi/3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1 = -0.1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2 = 0.2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 = [t1, t2]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 = inline('Xs*sin(2*pi*fs*t+fi)','t','Xs','fs','fi')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plot(x,t,2e-3,1,'-',Xs,fs,fi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label('t'); ylabel('x_s'); grid 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itle('x_s(t) = X_s sin(2 \pi f_s t + \phi_s)'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95640" y="2997360"/>
            <a:ext cx="5038920" cy="37782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xponential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408480" y="1574640"/>
                <a:ext cx="22683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179280" y="2660760"/>
            <a:ext cx="6264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inline('Xe*exp(b*t)','t','Xe','b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e  = 0.8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 = -0.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1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2 = 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 = [t1, t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plot(x,t,2e-3,1,'-',Xe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t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x_e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x_e(t) = X_e e^{b t}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ri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97440" y="2963880"/>
            <a:ext cx="5038560" cy="37782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Unit step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267000" y="1380960"/>
                <a:ext cx="260820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250920" y="2997360"/>
            <a:ext cx="360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inline('t&gt;0', 't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1 = -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2 = 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 = [t1, t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plot(x, 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t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u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Unit step signal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xis([t -0.1 1.1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24560" y="3000240"/>
            <a:ext cx="4411440" cy="3308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ulse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348000" y="1413000"/>
                <a:ext cx="244008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ε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&lt;</m:t>
                            </m:r>
                            <m:r>
                              <m:t xml:space="preserve">t</m:t>
                            </m:r>
                            <m:r>
                              <m:t xml:space="preserve">≤</m:t>
                            </m:r>
                            <m:r>
                              <m:t xml:space="preserve">ε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250920" y="2646360"/>
            <a:ext cx="705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inline('(1/e)*((t&gt;0)&amp;(t&lt;=e))','t','e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 = 1/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1 = -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2 =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 = [t1, t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plot(x,t,1e-5,1000,'-',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(gca,'FontSize',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t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p_\epsilon(t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xis([t -0.1 1.1/e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Pulse function, \epsilon = 1/100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Unit impulse signal (Dirac delta)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203640" y="2133720"/>
                <a:ext cx="26416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ε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278160" y="3454560"/>
                <a:ext cx="2490840" cy="57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568680" y="4430880"/>
                <a:ext cx="1963800" cy="13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ausal signal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signal is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causal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f it is zero for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&lt; 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ausal signals are readily created by multiplying any continuous signal by the unit step sign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instant when the signal begins is called the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starting ti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usually take the starting time to b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zer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064040" y="2205000"/>
            <a:ext cx="5038560" cy="3778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ausal signals in 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1967040"/>
            <a:ext cx="410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B = 0.0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a = 0.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f = 0.5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phi = 3*pi/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 = -5:0.05: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 = B^a*exp(-a*t).*sin(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2*pi*f*t+phi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u = x.*(t&gt;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u = (t&gt;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plot(t,x,t,u,t,x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x(t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label('t (s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ext(0,1.2,'u(t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ext(-4,-1.1,'x(t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ext(5,-.6,'x(t)*u(t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axis([t(1) t(end) -1.5 1.5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Discrete-time signal – Sequence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(discrete-time signal, discrete signal, data sequence, or sample set) is a collection of ordered sampl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 practical applications we process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inite-length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sequenc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existing sequence is often a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ampled version of a continuous sign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349360" y="1346040"/>
                <a:ext cx="438624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k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inusoidal sequen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4600" y="2421000"/>
            <a:ext cx="1292400" cy="403200"/>
          </a:xfrm>
          <a:prstGeom prst="borderCallout1">
            <a:avLst>
              <a:gd name="adj1" fmla="val 18750"/>
              <a:gd name="adj2" fmla="val -8333"/>
              <a:gd name="adj3" fmla="val -70865"/>
              <a:gd name="adj4" fmla="val 272606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164360" y="2349360"/>
            <a:ext cx="1728720" cy="719280"/>
          </a:xfrm>
          <a:prstGeom prst="borderCallout1">
            <a:avLst>
              <a:gd name="adj1" fmla="val 18750"/>
              <a:gd name="adj2" fmla="val -8333"/>
              <a:gd name="adj3" fmla="val -29578"/>
              <a:gd name="adj4" fmla="val -47842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hase in radian (r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36000" y="3645000"/>
            <a:ext cx="1728720" cy="431640"/>
          </a:xfrm>
          <a:prstGeom prst="borderCallout1">
            <a:avLst>
              <a:gd name="adj1" fmla="val 18750"/>
              <a:gd name="adj2" fmla="val -8333"/>
              <a:gd name="adj3" fmla="val -362500"/>
              <a:gd name="adj4" fmla="val -87879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ample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89080" y="2963880"/>
            <a:ext cx="5038560" cy="3778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740720" y="4508640"/>
            <a:ext cx="1143000" cy="431640"/>
          </a:xfrm>
          <a:prstGeom prst="borderCallout1">
            <a:avLst>
              <a:gd name="adj1" fmla="val 18750"/>
              <a:gd name="adj2" fmla="val -8333"/>
              <a:gd name="adj3" fmla="val -494851"/>
              <a:gd name="adj4" fmla="val -216111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tinuous or analog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screte-time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asic analog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asic discrete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Quantized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gital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usal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andom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presentation of signals in M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LA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xponential sequen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502080" y="1555920"/>
                <a:ext cx="20797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179280" y="2660760"/>
            <a:ext cx="3816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e  = 0.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 = 0.75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1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2 =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 = k1:k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e*a.^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em(k,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x_e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x_{e,k} = X_e a^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97440" y="2530440"/>
            <a:ext cx="503856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Unit step sequen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303720" y="1380960"/>
                <a:ext cx="25336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250920" y="2997360"/>
            <a:ext cx="396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1 = -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2 =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 = k1:k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(k&gt;=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em(k,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u_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Unit step sequence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xis([k1 k2 -0.1 1.1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97440" y="2746440"/>
            <a:ext cx="503856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067280" y="2819520"/>
            <a:ext cx="5038560" cy="37782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Unit impulse sequen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303720" y="1380960"/>
                <a:ext cx="25336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250920" y="2997360"/>
            <a:ext cx="432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1 = -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2 =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 = k1:k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(k==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em(k,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\delta_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Unit impulse sequence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xis([k1 k2 -0.1 1.1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ausal sequen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sequence that is nonzero only over a finite interval of indices is called a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finite-length sequen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sequence whose samples are zero-valued for negative indices is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caus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Anti-causal sequenc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can have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onzero samples only for negative indic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ausal sequences in 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1557360"/>
            <a:ext cx="4248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B = 0.94; a = 0.1; f = 0.3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k = -10:1:2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 = (B.^k).*cos(2*pi*f*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u = (k&gt;=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ux = x.*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ubplot(3,1,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tem(k,u,'g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u_k','FontSize',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axis([k(1) k(end) -2 2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ubplot(3,1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tem(k,x,'b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x_k','FontSize',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ubplot(3,1,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tem(k,ux,'r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x_k u_k','FontSize',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label('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axis([k(1) k(end) -2 2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284720" y="1341360"/>
            <a:ext cx="47592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Quantized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purpose of sampling a continuous signal is to transmit, store, or process a limited number of samples that are represented by a limited number of digi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y using fewer digits we attain faster transmission and smaller storage requirements for the inform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utilize th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quantized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samples rather than the true samples of infinite accurac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hoice of digits for quant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hoice of digits for quantization should be done properly: in transmitting, storing, and processing we prefer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ess digi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ith too small a number of digits we can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os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nformation from the original signa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wo opposing requirements must be satisfied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Minimize number of digits to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acilitate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the signal transmission or storing, and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Maximize number of digits to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ep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the quantization error as low as necessary in order to preserve the inform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gital signal in 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2001960"/>
            <a:ext cx="432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 = 0:3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 = 0.2+2*sin(0.245*t+0.1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d = 0.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q = d*round(x/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plot(t,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hol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tem(t,xq,'r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hold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x(t), x_q(kT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label('t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legend('analog signal',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'digital (quantized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122720" y="1538280"/>
            <a:ext cx="495000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terministic and random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gnal that can be described by an explicit mathematical form is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determinist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terministic signal can be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periodic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aperiod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eriodic signal consists of a basic shape of finite duration that is replicated infinitel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gnal that cannot be described in an explicit mathematical form is called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rando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 also known as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nondeterministic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stochast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603600" y="2251080"/>
            <a:ext cx="5502240" cy="38703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andom signal in 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1633680"/>
            <a:ext cx="547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k = 0:1:5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 = </a:t>
            </a:r>
            <a:r>
              <a:rPr b="1" lang="fr-FR" sz="1800" spc="-1" strike="noStrike">
                <a:solidFill>
                  <a:srgbClr val="800000"/>
                </a:solidFill>
                <a:latin typeface="Courier New"/>
              </a:rPr>
              <a:t>rand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(size(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m = mean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 = std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tem(k,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hol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plot([k(1) k(end)]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[m m],'r',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[k(1) k(end)]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[s s],'g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hold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label('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x_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tick = [0 s m 1]; set(gca,'YTick',yti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legend('random seq'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'mean','st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itle('Uniformly distributed samples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hat is a signal?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signal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a physical quantity, or quality, which conveys inform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xample: voice of my friend is a signal which causes me to perform certain actions or react in a particular wa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y friend's voice is called an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excit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y action or reaction is called 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respons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495600" y="1822320"/>
            <a:ext cx="5613480" cy="43434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andom signal in 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1633680"/>
            <a:ext cx="547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k = 0:1:5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 = </a:t>
            </a:r>
            <a:r>
              <a:rPr b="1" lang="fr-FR" sz="1800" spc="-1" strike="noStrike">
                <a:solidFill>
                  <a:srgbClr val="800000"/>
                </a:solidFill>
                <a:latin typeface="Courier New"/>
              </a:rPr>
              <a:t>randn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(size(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m = mean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 = std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tem(k,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hol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plot([k(1) k(end)]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[m m],'r'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[k(1) k(end)]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[s s],'g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hold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label('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x_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legend('random seq'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'mean','st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tick = sort([-2 s m 2]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et(gca,'YTick',yti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itle('Normally distributed samples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hat is signal processing?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conversion from excitation to response is called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signal processing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typical reason for signal processing is to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liminate or reduc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n undesirable sign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onver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the original signal into a form that is suitable for further processing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ne fundamental representation of a signal is as a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unction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at least one independent variabl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hat is a waveform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variation of the signal value as a function of the independent variable is called a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wavefor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independent variable often represents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e define a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signal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s a function of one independent variable that contains information about the behavior or nature of a phenomen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e assume that the independent variable is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im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even in cases where the independent variable is a physical quantity other than tim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ontinuous or analog signal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Continuous signal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a signal that exists at every instant of ti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 the jargon of the trade, a continuous signal is often referred to as 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continuous tim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analog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independent variable is a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ontinuou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variabl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ntinuous signal can assum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ny valu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ver a continuous range of numb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screte-time signal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signal defined only for discrete values of time is called 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discrete-time signal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r simply a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discrete sign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iscrete signal can be obtained by taking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ample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an analog signal at discrete instants of ti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Digital signal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a discrete-time signal whose values are represented by digi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hat is sampling?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Sampling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capturing a signal at an instant in ti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ampling means taking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mplitude value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the signal at certain time instanc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Uniform sampling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sampling every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units of ti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506760" y="4484520"/>
                <a:ext cx="5294520" cy="7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±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±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419640" y="5373720"/>
                <a:ext cx="128556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495360" y="5229360"/>
            <a:ext cx="1871640" cy="1152360"/>
          </a:xfrm>
          <a:prstGeom prst="wedgeRoundRectCallout">
            <a:avLst>
              <a:gd name="adj1" fmla="val 100722"/>
              <a:gd name="adj2" fmla="val 12398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ing frequency or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ampling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35640" y="5816520"/>
            <a:ext cx="2089080" cy="792360"/>
          </a:xfrm>
          <a:prstGeom prst="wedgeRoundRectCallout">
            <a:avLst>
              <a:gd name="adj1" fmla="val -86930"/>
              <a:gd name="adj2" fmla="val 4912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tep or </a:t>
            </a:r>
            <a:br>
              <a:rPr sz="1800"/>
            </a:b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ample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538360" y="1631880"/>
                <a:ext cx="40086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7245360" y="4797360"/>
            <a:ext cx="1584360" cy="647640"/>
          </a:xfrm>
          <a:prstGeom prst="borderCallout1">
            <a:avLst>
              <a:gd name="adj1" fmla="val 18750"/>
              <a:gd name="adj2" fmla="val -8333"/>
              <a:gd name="adj3" fmla="val -393138"/>
              <a:gd name="adj4" fmla="val -11953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requency in Hertz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15920" y="2938320"/>
            <a:ext cx="5038920" cy="3778560"/>
          </a:xfrm>
          <a:prstGeom prst="rect">
            <a:avLst/>
          </a:prstGeom>
          <a:ln w="9360">
            <a:solidFill>
              <a:srgbClr val="c0c0c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inusoidal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4600" y="2421000"/>
            <a:ext cx="1292400" cy="403200"/>
          </a:xfrm>
          <a:prstGeom prst="borderCallout1">
            <a:avLst>
              <a:gd name="adj1" fmla="val 18750"/>
              <a:gd name="adj2" fmla="val -8333"/>
              <a:gd name="adj3" fmla="val -34250"/>
              <a:gd name="adj4" fmla="val 289189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64360" y="2349360"/>
            <a:ext cx="1728720" cy="719280"/>
          </a:xfrm>
          <a:prstGeom prst="borderCallout1">
            <a:avLst>
              <a:gd name="adj1" fmla="val 18750"/>
              <a:gd name="adj2" fmla="val -8333"/>
              <a:gd name="adj3" fmla="val -18324"/>
              <a:gd name="adj4" fmla="val -63453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hase in radian (r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36000" y="3645000"/>
            <a:ext cx="1728720" cy="718920"/>
          </a:xfrm>
          <a:prstGeom prst="borderCallout1">
            <a:avLst>
              <a:gd name="adj1" fmla="val 18750"/>
              <a:gd name="adj2" fmla="val -8333"/>
              <a:gd name="adj3" fmla="val -200662"/>
              <a:gd name="adj4" fmla="val -95685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ime in seconds 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nn</cp:lastModifiedBy>
  <dcterms:modified xsi:type="dcterms:W3CDTF">2004-11-29T14:55:22Z</dcterms:modified>
  <cp:revision>73</cp:revision>
  <dc:subject>Analog and Digital  Filter Design</dc:subject>
  <dc:title>Rewiev signals</dc:title>
</cp:coreProperties>
</file>