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B58-63D9-4205-95FC-5486878C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568-E455-47A9-97B0-72CF0B94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EAA-F3A4-4E7E-A3B5-BD85C415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F61-09FB-45DF-948F-5AC12EA4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B80-49A4-4890-85A8-FEEF2ADA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BF1-EAE9-4B48-AF06-C70C5078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081-D775-4FD1-929D-9867588F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4D6-45C8-48FC-B884-74DFF04B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83C-0D74-4C1C-9030-87594F3F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6CD-4A40-4E4F-BEED-0F9FFC48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BFF-AF17-40FF-8F47-318CEDE1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B70-26D9-4FAF-83A8-B5CC95A5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8240-F456-4DD6-97DE-31F72C29F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ystem transfer function,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oles and zeros, pole-zero pairing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oot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140360" y="1268280"/>
          <a:ext cx="4829040" cy="54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268280"/>
                    <a:ext cx="482904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8000" y="2006640"/>
            <a:ext cx="4032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[1 0.4 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[0.2 0.3 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 = roots(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roots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lot(real(z),imag(z),'ro',…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l(p),imag(p),'bx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-1 0.1 -2.5 2.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real par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imaginary par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gend('zeros','po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033640" y="4365720"/>
          <a:ext cx="50767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4365720"/>
                    <a:ext cx="50767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lity factor (Q-factor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63640" y="1579680"/>
          <a:ext cx="558180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1579680"/>
                    <a:ext cx="55818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871720" y="2924280"/>
          <a:ext cx="340056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71720" y="2924280"/>
                    <a:ext cx="3400560" cy="1047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524720" y="5084640"/>
          <a:ext cx="13143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24720" y="5084640"/>
                    <a:ext cx="1314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348000" y="5445000"/>
          <a:ext cx="244800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5445000"/>
                    <a:ext cx="2448000" cy="9144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732720" y="2708280"/>
            <a:ext cx="2016000" cy="792000"/>
          </a:xfrm>
          <a:prstGeom prst="wedgeRoundRectCallout">
            <a:avLst>
              <a:gd name="adj1" fmla="val -64407"/>
              <a:gd name="adj2" fmla="val 92282"/>
              <a:gd name="adj3" fmla="val 1666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x-conjugate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mplex pole-zero pai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676600" y="2133720"/>
          <a:ext cx="379080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2133720"/>
                    <a:ext cx="3790800" cy="15811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233880" y="4062240"/>
          <a:ext cx="267624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3880" y="4062240"/>
                    <a:ext cx="26762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50920" y="53006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reduce the sensitivity of a transfer function with respect to deviations of the coefficient values, it is preferable to represent the transfer function by a product of the first-order and second-order transf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4360" y="2001960"/>
          <a:ext cx="7046640" cy="46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01960"/>
                    <a:ext cx="7046640" cy="46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148360" y="1616040"/>
          <a:ext cx="3733560" cy="138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616040"/>
                    <a:ext cx="3733560" cy="1381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11280" y="1828800"/>
          <a:ext cx="704052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28800"/>
                    <a:ext cx="704052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859280" y="1557360"/>
          <a:ext cx="3772080" cy="146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557360"/>
                    <a:ext cx="3772080" cy="1467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53880" y="1835280"/>
          <a:ext cx="695484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1835280"/>
                    <a:ext cx="69548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transfer func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67280" y="1557360"/>
          <a:ext cx="3781440" cy="16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557360"/>
                    <a:ext cx="3781440" cy="16668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38240" y="1700280"/>
          <a:ext cx="695484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700280"/>
                    <a:ext cx="69548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48360" y="4149720"/>
          <a:ext cx="3819600" cy="15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4149720"/>
                    <a:ext cx="3819600" cy="1542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9280" y="1673280"/>
          <a:ext cx="656460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73280"/>
                    <a:ext cx="65646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76720" y="2289240"/>
          <a:ext cx="3934080" cy="15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2289240"/>
                    <a:ext cx="3934080" cy="15714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867280" y="5805360"/>
          <a:ext cx="298152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5805360"/>
                    <a:ext cx="2981520" cy="8575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08000" y="2060640"/>
          <a:ext cx="700884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060640"/>
                    <a:ext cx="700884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mplitude equaliz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264280" y="1301760"/>
          <a:ext cx="3771720" cy="16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4280" y="1301760"/>
                    <a:ext cx="37717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pair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mposition of the numerator and the denominator into products of constant terms, and the first-order and the second-order fun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ructing the first-order and the second-order rational functions by pairing the numerator and denominator ter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quently used: pairing the poles with highe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-factors with zeros that are as close as possible to the po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n s domai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n z domai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ole-zero-gain represent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s, roo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z, zplane, tf2pzk, tf2s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pairing criteri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aximal dynamic rang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: a ratio of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(a) the maximum magnitude response computed over the whole frequency range to (b) the minimum magnitude response in the passba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aximal signal-to-noise rati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inimal sensitiv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crete-time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transfer func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nsider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single-input, single-output, discrete-time LTI system described by means of a linear constant-coefficients difference equ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assume a causal excitation – in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is the ratio of the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and the input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831000" y="5527800"/>
                <a:ext cx="2133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z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is a rational function in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s a ratio of two polynomials in the complex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e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LTI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ny properties of LTI systems can be closely associated with the characteristics of the transfer function in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pla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5495760"/>
          <a:ext cx="191484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5495760"/>
                    <a:ext cx="19148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781440" y="5734080"/>
          <a:ext cx="439092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1440" y="5734080"/>
                    <a:ext cx="4390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s and zero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denomin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o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mpute the poles from the equation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denomin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numer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obtain the zeros from the equati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numer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repres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871720" y="5300640"/>
          <a:ext cx="34005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1720" y="5300640"/>
                    <a:ext cx="34005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020000" y="364644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z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20000" y="428472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6560" y="6027840"/>
            <a:ext cx="71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lynomial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ave real coefficients, so zeros and poles must be real or occur in complex conjugat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38320" y="1700280"/>
          <a:ext cx="3267360" cy="16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38320" y="1700280"/>
                    <a:ext cx="326736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576600" y="4641840"/>
          <a:ext cx="199080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6600" y="4641840"/>
                    <a:ext cx="19908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586320" y="4005360"/>
          <a:ext cx="197136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6320" y="4005360"/>
                    <a:ext cx="1971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14720" y="2894040"/>
          <a:ext cx="471456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894040"/>
                    <a:ext cx="47145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700360" y="1751040"/>
          <a:ext cx="372420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1751040"/>
                    <a:ext cx="37242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st-order sections &amp; biquad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4360" y="1341360"/>
            <a:ext cx="1871640" cy="647640"/>
          </a:xfrm>
          <a:prstGeom prst="wedgeRoundRectCallout">
            <a:avLst>
              <a:gd name="adj1" fmla="val -155935"/>
              <a:gd name="adj2" fmla="val 57842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first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4360" y="2421000"/>
            <a:ext cx="1871640" cy="647640"/>
          </a:xfrm>
          <a:prstGeom prst="wedgeRoundRectCallout">
            <a:avLst>
              <a:gd name="adj1" fmla="val -132865"/>
              <a:gd name="adj2" fmla="val 5171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second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0971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s described by the first-order transfer function we call </a:t>
            </a:r>
            <a:br>
              <a:rPr sz="1800"/>
            </a:b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first-order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40971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system characterized by the second-order transfer function we call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ratic sec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5516640"/>
            <a:ext cx="792144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transfer function can be expressed a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roduct of first-order and second-order transfer functions, s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LTI system can be resolved into first-order sections and biqu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can be expressed in terms of 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z</a:t>
            </a:r>
            <a:r>
              <a:rPr b="0" lang="en-US" sz="4000" spc="-1" strike="noStrike" baseline="30000">
                <a:solidFill>
                  <a:srgbClr val="800000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73000" y="2008080"/>
          <a:ext cx="739944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2008080"/>
                    <a:ext cx="739944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11280" y="51944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quotient of two polynomials is called a rational function and the highest power in the polynomials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the ration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3933720"/>
            <a:ext cx="5472000" cy="1008000"/>
          </a:xfrm>
          <a:prstGeom prst="cloudCallout">
            <a:avLst>
              <a:gd name="adj1" fmla="val 27574"/>
              <a:gd name="adj2" fmla="val -12732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presentation is preferred in the DSP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freqz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63520" y="2492280"/>
          <a:ext cx="6818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492280"/>
                    <a:ext cx="6818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plan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4130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plane(B,A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gend('zeros','po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66840" y="2744640"/>
          <a:ext cx="48103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744640"/>
                    <a:ext cx="48103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inuous-time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f2zpk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z,p,k] = tf2zp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408480" y="2476440"/>
          <a:ext cx="236376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476440"/>
                    <a:ext cx="236376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f2so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os = tf2so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538280" y="2614680"/>
          <a:ext cx="606744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2614680"/>
                    <a:ext cx="60674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364000" y="4797360"/>
          <a:ext cx="2514600" cy="12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797360"/>
                    <a:ext cx="25146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63520" y="4702320"/>
          <a:ext cx="3228840" cy="74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520" y="4702320"/>
                    <a:ext cx="322884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24000" y="5589720"/>
          <a:ext cx="3809880" cy="77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5589720"/>
                    <a:ext cx="38098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lity factor (Q-factor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708280"/>
            <a:ext cx="2016000" cy="792000"/>
          </a:xfrm>
          <a:prstGeom prst="wedgeRoundRectCallout">
            <a:avLst>
              <a:gd name="adj1" fmla="val -64407"/>
              <a:gd name="adj2" fmla="val 92282"/>
              <a:gd name="adj3" fmla="val 1666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x-conjugate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57520" y="1546200"/>
          <a:ext cx="56289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546200"/>
                    <a:ext cx="56289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819520" y="2919240"/>
          <a:ext cx="3504960" cy="10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19240"/>
                    <a:ext cx="3504960" cy="10195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4920" y="4365720"/>
          <a:ext cx="906300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4365720"/>
                    <a:ext cx="90630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895480" y="5373720"/>
          <a:ext cx="3353040" cy="117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373720"/>
                    <a:ext cx="3353040" cy="1171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50920" y="2565360"/>
          <a:ext cx="581184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65360"/>
                    <a:ext cx="581184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3080" y="1650960"/>
          <a:ext cx="899964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0" y="1650960"/>
                    <a:ext cx="89996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292720" y="4292640"/>
          <a:ext cx="3267000" cy="100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292640"/>
                    <a:ext cx="32670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6840" y="1441440"/>
          <a:ext cx="89517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441440"/>
                    <a:ext cx="89517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565360"/>
          <a:ext cx="5811840" cy="394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565360"/>
                    <a:ext cx="58118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508720" y="371628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transfer func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2637000"/>
          <a:ext cx="5943600" cy="40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5943600" cy="40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95160" y="1484280"/>
          <a:ext cx="775188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" y="1484280"/>
                    <a:ext cx="7751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877000" y="371628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2565360"/>
          <a:ext cx="598320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65360"/>
                    <a:ext cx="598320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04840" y="1557360"/>
          <a:ext cx="873288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4840" y="1557360"/>
                    <a:ext cx="8732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5651640" y="407664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2492280"/>
          <a:ext cx="59054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59054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258920" y="1413000"/>
          <a:ext cx="609588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413000"/>
                    <a:ext cx="60958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443640" y="3125880"/>
          <a:ext cx="238140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3125880"/>
                    <a:ext cx="23814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5877000" y="407664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pair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mposition of the numerator and the denominator into products of constant terms, the first-order and the second-order polynomi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ructing the first-order and the second-order rational functions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y pairing the numerator and denominator ter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quently used: pairing the poles with higher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with zeros that are as close as possible to those po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transfer func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nsider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single-input, single-output, continuous-time LTI system described by means of a linear constant-coefficients differential equ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assume a causal excitation – in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is the ratio of the output Laplace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and the input Laplace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831000" y="5527800"/>
                <a:ext cx="2133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is a rational function in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s a ratio of two polynomials in the complex frequenc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j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LTI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ny properties of LTI systems can be closely associated with the characteristics of the transfer function in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pla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00280" y="5516640"/>
          <a:ext cx="75168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5516640"/>
                    <a:ext cx="7516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s and zero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denomin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o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mpute the poles from the equation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denomin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numer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obtain the zeros from the equati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numer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repres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938320" y="1916280"/>
          <a:ext cx="326736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8320" y="1916280"/>
                    <a:ext cx="32673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584520" y="4573440"/>
          <a:ext cx="192420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4520" y="4573440"/>
                    <a:ext cx="1924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643200" y="4005360"/>
          <a:ext cx="185760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3200" y="4005360"/>
                    <a:ext cx="18576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871720" y="5300640"/>
          <a:ext cx="340056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71720" y="5300640"/>
                    <a:ext cx="34005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020000" y="364644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z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428472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06560" y="6027840"/>
            <a:ext cx="71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lynomial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ave real coefficients, so zeros and poles must be real or occur in complex conjugat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st-order sections &amp; biquad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43040" y="1650960"/>
          <a:ext cx="40579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3040" y="1650960"/>
                    <a:ext cx="4057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085840" y="2781360"/>
          <a:ext cx="497232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5840" y="2781360"/>
                    <a:ext cx="49723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164360" y="1341360"/>
            <a:ext cx="1871640" cy="647640"/>
          </a:xfrm>
          <a:prstGeom prst="wedgeRoundRectCallout">
            <a:avLst>
              <a:gd name="adj1" fmla="val -162384"/>
              <a:gd name="adj2" fmla="val 433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first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360" y="2421000"/>
            <a:ext cx="1871640" cy="647640"/>
          </a:xfrm>
          <a:prstGeom prst="wedgeRoundRectCallout">
            <a:avLst>
              <a:gd name="adj1" fmla="val -139314"/>
              <a:gd name="adj2" fmla="val 558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second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40971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s described by the first-order transfer function we call </a:t>
            </a:r>
            <a:br>
              <a:rPr sz="1800"/>
            </a:b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first-order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40971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system characterized by the second-order transfer function we call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ratic sec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5516640"/>
            <a:ext cx="792144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transfer function can be expressed a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roduct of first-order and second-order transfer functions, s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LTI system can be resolved into first-order sections and biqu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16240" y="1468440"/>
          <a:ext cx="484848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468440"/>
                    <a:ext cx="48484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4000" y="2457360"/>
            <a:ext cx="331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[1 0.4 1]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[0.2 0.3 1]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 = 0.1:0.01:10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 = freqs(B,A,w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 = abs(H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angle(H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plot(2,1,1);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log(w,M); grid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Magnitude'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H = freqs(B,A,w)'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plot(2,1,2);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milogx(w,P); grid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Phase (rad)'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\omega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66880" y="1614600"/>
          <a:ext cx="19047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6880" y="1614600"/>
                    <a:ext cx="1904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29T01:38:51Z</dcterms:modified>
  <cp:revision>323</cp:revision>
  <dc:subject>Analog and Digital  Filter Design</dc:subject>
  <dc:title>System transfer function, poles and zeros, pole-zero pairing</dc:title>
</cp:coreProperties>
</file>