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CDA-C17F-45C2-87A0-BC2291E3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8A5-3ACD-43D7-B319-DC40F921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134-85E0-4574-80EA-736706B9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A25-ADC1-427F-AFA8-6C9A0733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9E0-1B1B-427B-A0D2-B3908491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566-81B3-47AD-854F-82E6346C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3EC-63DB-4C52-B3CC-D11F57BA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899-5900-4FF1-AB0B-D8FC5AEC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981-D0B3-4D87-A62B-2826C17B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7CC-A9B2-486C-94FC-6A2AD57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469-5A3E-418D-A8BD-44EBD73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0A2-EE79-4A3B-915E-31B6543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5DF-9DCE-439D-970A-50750E45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esig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 (1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 (2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2: Realization - Cascade of programmable biqu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3: Study of imperfections - Sensitivity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TLAB script Lecture07design.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ascade of programmable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nsitivity analysi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2-03T22:57:43Z</dcterms:modified>
  <cp:revision>369</cp:revision>
  <dc:subject>Analog and Digital  Filter Design</dc:subject>
  <dc:title>Design of an analog filter</dc:title>
</cp:coreProperties>
</file>