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B29-087C-4F8B-B28D-9EEF24DF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8C1-5089-484C-88CC-0522DE7E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EB6-9F1C-4075-9576-3D248F52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06E-BE11-4834-98E4-0548D087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7F0-1D2C-4761-A631-8EC50AE1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159-E306-47DC-AA64-939F896F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4BF-C3B1-4426-BE68-6E7EF6C7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E11-8118-4BED-A8E4-89C3815F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BB1-5B06-477A-8228-1E7A6041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594-F3BF-4133-AA12-A5DEF09A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F82-6632-42FB-B031-DE83D73E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D79-C993-42CA-A7D0-092D9261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E0D1-D659-4E4A-B233-049A9117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rogrammable analog ch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30800" y="69840"/>
            <a:ext cx="4705200" cy="443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403280" y="321300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p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iqua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iqua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57400" y="271440"/>
          <a:ext cx="6831000" cy="63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71440"/>
                    <a:ext cx="68310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with 3 biqu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43280" y="1628640"/>
            <a:ext cx="341136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57360" y="2309760"/>
            <a:ext cx="4229280" cy="223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use Anadigm c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39760" y="266760"/>
          <a:ext cx="686592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266760"/>
                    <a:ext cx="68659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of one 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94160" y="44280"/>
            <a:ext cx="4714920" cy="4819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080" y="4428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403280" y="325116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ss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94160" y="44280"/>
            <a:ext cx="4714920" cy="48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080" y="4428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03280" y="325116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p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er and gai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1480" y="523800"/>
            <a:ext cx="7601040" cy="5810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88000" y="3068640"/>
            <a:ext cx="2160360" cy="792000"/>
          </a:xfrm>
          <a:prstGeom prst="wedgeRoundRectCallout">
            <a:avLst>
              <a:gd name="adj1" fmla="val -108337"/>
              <a:gd name="adj2" fmla="val 154009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rat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95480" y="266760"/>
          <a:ext cx="695484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266760"/>
                    <a:ext cx="69548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804000" y="4797360"/>
            <a:ext cx="2160720" cy="792360"/>
          </a:xfrm>
          <a:prstGeom prst="wedgeRoundRectCallout">
            <a:avLst>
              <a:gd name="adj1" fmla="val -81004"/>
              <a:gd name="adj2" fmla="val -151000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plementation with 2 biqu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7360" y="133200"/>
            <a:ext cx="3733920" cy="3800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30800" y="115920"/>
            <a:ext cx="4705200" cy="4438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15880" y="3213000"/>
            <a:ext cx="7477200" cy="356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27280" y="260280"/>
            <a:ext cx="2160720" cy="792360"/>
          </a:xfrm>
          <a:prstGeom prst="wedgeRoundRectCallout">
            <a:avLst>
              <a:gd name="adj1" fmla="val -124504"/>
              <a:gd name="adj2" fmla="val 245791"/>
              <a:gd name="adj3" fmla="val 16667"/>
            </a:avLst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ssb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20:22:52Z</dcterms:created>
  <dc:creator>Miroslav Lutovac and Dejan Tosic</dc:creator>
  <dc:description/>
  <dc:language>en-US</dc:language>
  <cp:lastModifiedBy>nn</cp:lastModifiedBy>
  <dcterms:modified xsi:type="dcterms:W3CDTF">2005-02-03T23:23:58Z</dcterms:modified>
  <cp:revision>26</cp:revision>
  <dc:subject>Analog and Digital  Filter Design</dc:subject>
  <dc:title>Implementation of an analog filter</dc:title>
</cp:coreProperties>
</file>