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EF6B-FC7B-45DA-9EE0-3BDA2B0D4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2C74-3B65-490A-AA09-9714596EB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FEFA-47B3-458B-9145-760A3FA0A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B591-F694-483C-903C-F07407D05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6D73-9A47-4E78-911E-629AC455C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A828-03DB-45FC-8E43-E84767930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D441-8046-4BC9-B1A1-4411BF06A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AED3-3F08-40CF-8B85-4DE3165DB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3EC4-A3E7-4DA9-A0BD-1B2203066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7BFE-9486-43E4-A0BB-0C7D6B31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A8A2-D759-4EE5-BD9F-6496BDEF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27F8-014A-4ECE-AD47-96BEC77D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F24CE-B08B-40B7-90E3-0CB25352A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Analog and Digital Filter Design </a:t>
            </a:r>
            <a:br>
              <a:rPr sz="3200"/>
            </a:b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Classical analog filter design: </a:t>
            </a:r>
            <a:br>
              <a:rPr sz="3200"/>
            </a:b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Op amp and RLC realization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221000"/>
            <a:ext cx="64404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iroslav Lutovac and Dejan Tosic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Example biquad desig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866960" y="1743120"/>
            <a:ext cx="5410080" cy="4781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6669000" y="2924280"/>
                <a:ext cx="1627200" cy="11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300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50920" y="476280"/>
            <a:ext cx="87138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% Given a second-order lowpass transfer function we ident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p = 2300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p = 2*pi*fp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Qp = 1.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% Choose K &lt;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K  = 0.6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% Choose 0.1 &lt; P=R3/R1 &lt;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  = 3.3865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% Choose C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ano = 10^(-9); Cx = 3.3*nano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4 = C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% Compute element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2 = 2*Qp^2*Cx*(1+(1+P^2)/(2*P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1 = 1/(wp*Cx*Qp*(1+P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3 = P*R1; R11 = R1/K; R12 = R1/(1-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% Generate transfer function in terms of element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um = R1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n = [(C2*C4*R11*R12*R3) (C4*R11*R12+C4*R11*R3+C4*R12*R3) (R11+R12)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 = 0:80:8000; w = i*2*pi*f; H = num./polyval(den,w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ubplot(2,1,1); drawlplq(0,0,4,5,10,'b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ubplot(2,1,2); plot(f,abs(H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Highpass Low-Q-factor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968400" y="1413000"/>
          <a:ext cx="720864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8400" y="1413000"/>
                    <a:ext cx="720864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2114640" y="5430960"/>
          <a:ext cx="4914720" cy="123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14640" y="5430960"/>
                    <a:ext cx="4914720" cy="123804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Bandpass low-Q-factor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971640" y="1557360"/>
          <a:ext cx="7202520" cy="441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557360"/>
                    <a:ext cx="7202520" cy="44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4245120" y="5229360"/>
          <a:ext cx="4790880" cy="153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45120" y="5229360"/>
                    <a:ext cx="4790880" cy="153324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Bandreject low-Q-factor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944640" y="1484280"/>
          <a:ext cx="7256520" cy="435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4640" y="1484280"/>
                    <a:ext cx="7256520" cy="435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250920" y="5300640"/>
          <a:ext cx="4734000" cy="130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5300640"/>
                    <a:ext cx="4734000" cy="130500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Allpass low-Q-factor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006560" y="1528920"/>
          <a:ext cx="7132680" cy="427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6560" y="1528920"/>
                    <a:ext cx="7132680" cy="42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266760" y="5035680"/>
          <a:ext cx="4809960" cy="156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760" y="5035680"/>
                    <a:ext cx="4809960" cy="156204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Lowpass medium-Q-factor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947880" y="1292400"/>
          <a:ext cx="725004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7880" y="1292400"/>
                    <a:ext cx="72500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250920" y="5297400"/>
          <a:ext cx="48006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5297400"/>
                    <a:ext cx="4800600" cy="137160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Highpass medium-Q-factor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990720" y="1349280"/>
          <a:ext cx="7164360" cy="474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349280"/>
                    <a:ext cx="7164360" cy="474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338040" y="5373720"/>
          <a:ext cx="4810320" cy="120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8040" y="5373720"/>
                    <a:ext cx="4810320" cy="120024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Bandpass medium-Q-factor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981000" y="1268280"/>
          <a:ext cx="7183440" cy="522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1000" y="1268280"/>
                    <a:ext cx="7183440" cy="52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123840" y="5589720"/>
          <a:ext cx="3584520" cy="115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3840" y="5589720"/>
                    <a:ext cx="3584520" cy="115884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Bandreject medium-Q-factor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025640" y="1484280"/>
          <a:ext cx="7094520" cy="517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5640" y="1484280"/>
                    <a:ext cx="7094520" cy="51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4427640" y="5326200"/>
          <a:ext cx="4486320" cy="1342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7640" y="5326200"/>
                    <a:ext cx="4486320" cy="134280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assification of analog filter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ctive RC filter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Low Q-, Medium Q-, High Q-factor filter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lbum of op amp RC biquad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Example biquad desig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ATLAB script Lecture08lplq.m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Allpass medium-Q-factor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020600" y="1484280"/>
          <a:ext cx="7104240" cy="516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0600" y="1484280"/>
                    <a:ext cx="7104240" cy="516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4356000" y="5113440"/>
          <a:ext cx="4581720" cy="162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5113440"/>
                    <a:ext cx="4581720" cy="162864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Lowpass notch medium-Q-factor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009800" y="1197000"/>
          <a:ext cx="7126200" cy="491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9800" y="1197000"/>
                    <a:ext cx="7126200" cy="49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209520" y="5373720"/>
          <a:ext cx="4867200" cy="131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9520" y="5373720"/>
                    <a:ext cx="4867200" cy="131436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Highpass notch medium-Q factor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990720" y="1268280"/>
          <a:ext cx="7164360" cy="531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268280"/>
                    <a:ext cx="7164360" cy="531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108000" y="5516640"/>
          <a:ext cx="4924440" cy="1247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8000" y="5516640"/>
                    <a:ext cx="4924440" cy="124776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Lowpass high-Q-factor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862280" y="1413000"/>
          <a:ext cx="537372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2280" y="1413000"/>
                    <a:ext cx="537372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2327400" y="5418000"/>
          <a:ext cx="4476600" cy="132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27400" y="5418000"/>
                    <a:ext cx="4476600" cy="132408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Highpass high-Q-factor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908000" y="1390680"/>
          <a:ext cx="5297760" cy="390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390680"/>
                    <a:ext cx="5297760" cy="39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2305080" y="5427720"/>
          <a:ext cx="4533840" cy="131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05080" y="5427720"/>
                    <a:ext cx="4533840" cy="131436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Bandpass high-Q-factor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920960" y="1268280"/>
          <a:ext cx="5243400" cy="392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0960" y="1268280"/>
                    <a:ext cx="5243400" cy="392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2338560" y="5157720"/>
          <a:ext cx="4466880" cy="16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38560" y="5157720"/>
                    <a:ext cx="4466880" cy="160020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Bandreject high-Q-factor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908000" y="1341360"/>
          <a:ext cx="5308920" cy="383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341360"/>
                    <a:ext cx="5308920" cy="38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2314440" y="5402160"/>
          <a:ext cx="4515120" cy="126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14440" y="5402160"/>
                    <a:ext cx="4515120" cy="126684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Lowpass notch high-Q-factor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908000" y="1444680"/>
          <a:ext cx="5254920" cy="37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444680"/>
                    <a:ext cx="5254920" cy="37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2271600" y="5340240"/>
          <a:ext cx="4600800" cy="125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71600" y="5340240"/>
                    <a:ext cx="4600800" cy="125748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Highpass notch high-Q-factor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979640" y="1531800"/>
          <a:ext cx="5138640" cy="36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531800"/>
                    <a:ext cx="5138640" cy="36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2224080" y="5373720"/>
          <a:ext cx="4695840" cy="127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24080" y="5373720"/>
                    <a:ext cx="4695840" cy="127620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General-purpose realiz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971640" y="1500120"/>
          <a:ext cx="7202520" cy="385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500120"/>
                    <a:ext cx="7202520" cy="38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1692360" y="6021360"/>
            <a:ext cx="568800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KHN filter (Kerwin-Huelsman-Newcom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Analog filter realization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fter having accomplished the approximation step, the filter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ransfer function is know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Next, the designer must choose a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realization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, that is, an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lectric circui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nalog filters can be classified on the basis of their constituent component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urther reading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28720" y="2565360"/>
            <a:ext cx="5688000" cy="2669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. D. Lutovac, D. V. Tošić, B. L. Ev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Filter Design for Signal Processing 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Using MATLAB and Mathema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ntice Hall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pper Saddle  River, New Jersey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SBN 0-201-36130-2, (c)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877080" y="2924280"/>
            <a:ext cx="1542960" cy="1885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042920" y="573408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http://kondor.etf.bg.ac.yu/~lutovac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assification of analog filter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Passive RLC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filte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Operational amplifier RC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filters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(op amp active RC filters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witched-capacitor (SC) filte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perational transconductance amplifier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(OTA) filte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urrent-conveyor (CC) filte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icrowave filte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lectromechanical filte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rystal filte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Passive RLC filter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Consist of passive macrocomponents: resistors, capacitors, and inductors (coils and transformers)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Do not require a power supply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Drawbacks: 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"/>
              </a:rPr>
              <a:t>Exhibit a significant passband loss, 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"/>
              </a:rPr>
              <a:t>Inductors cannot be miniaturized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Practical at frequencies up to a few hundred MHz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Important in deriving realizations of some </a:t>
            </a:r>
            <a:br>
              <a:rPr sz="2600"/>
            </a:b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active filters, such as active RC, OTA, and </a:t>
            </a:r>
            <a:br>
              <a:rPr sz="2600"/>
            </a:b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current-conveyor filter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Active RC filter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an be reduced in size and weight, especially when implemented as integrated circui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nufacturing can be automated with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igh production yiel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de out of resistors, capacitors, and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perational amplifi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isadvantages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Require a power supply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Output signal can be distorted if the input signal is too large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Extra noise is generated in active devices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perate over the frequency rage from 0.1 Hz to 500 kHz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800000"/>
                </a:solidFill>
                <a:latin typeface="Arial"/>
              </a:rPr>
              <a:t>Op amp active RC filter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Realization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Classification of </a:t>
            </a:r>
            <a:br>
              <a:rPr sz="4000"/>
            </a:b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biquadratic realizations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Low Q-factor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realizations (Q &lt; 2) exhibit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no problems with tolerances, no need for tuning, minimal number of passive components, and only one operational amplifi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Medium Q-factor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realizations (2 &lt; Q &lt; 20) selected on the basis of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inimum gain-sensitivity product, simple tuning,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inimal number of passive components, and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nly one operational amplifi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High Q-factor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realizations (20 &lt; Q) require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wo operational amplifiers, sensitivities are lower than the sensitivity of single-amplifier biquad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Lowpass low-Q-factor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944640" y="1341360"/>
          <a:ext cx="7256520" cy="393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4640" y="1341360"/>
                    <a:ext cx="7256520" cy="393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2176560" y="5408640"/>
          <a:ext cx="4771800" cy="133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76560" y="5408640"/>
                    <a:ext cx="4771800" cy="133344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22:06:30Z</dcterms:created>
  <dc:creator>Miroslav Lutovac and Dejan Tosic</dc:creator>
  <dc:description/>
  <dc:language>en-US</dc:language>
  <cp:lastModifiedBy>nn</cp:lastModifiedBy>
  <dcterms:modified xsi:type="dcterms:W3CDTF">2005-02-11T01:34:59Z</dcterms:modified>
  <cp:revision>404</cp:revision>
  <dc:subject>Analog and Digital  Filter Design</dc:subject>
  <dc:title>Classical analog filter design: Op Amp and RLC realization</dc:title>
</cp:coreProperties>
</file>