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8FD-B1FD-4534-B459-7C40E643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006-C1BC-4108-911B-9C2BF63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538-279B-4D05-8538-9873826F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892-D800-440B-B9E4-77A00DBC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7F4-1E15-47A3-9738-51A7DD6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740-4568-4D19-8198-6467EEA7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A3F9-C0F5-434A-9421-89DD1DC4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81C-B734-4B3C-9E46-5152F196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42F-1CA0-4628-BA22-E27DF6E0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1D8-CC76-47C3-9C01-8A55372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78C-6812-4A6C-A663-CA4D5878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DAB-DF3A-429F-B29B-7782B22F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02E-DA08-4FAF-BA30-3CDA1FE87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Specification of an analog filter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Magnitude-tolerance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90760" y="1566720"/>
          <a:ext cx="6164280" cy="37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0760" y="1566720"/>
                    <a:ext cx="6164280" cy="37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338560" y="5384880"/>
          <a:ext cx="4466880" cy="78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8560" y="5384880"/>
                    <a:ext cx="4466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ripple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95440" y="1504800"/>
          <a:ext cx="6153120" cy="38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504800"/>
                    <a:ext cx="615312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724120" y="5430960"/>
          <a:ext cx="369576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4120" y="5430960"/>
                    <a:ext cx="36957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38360" y="1438200"/>
          <a:ext cx="586728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438200"/>
                    <a:ext cx="586728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643120" y="5568840"/>
          <a:ext cx="38577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5568840"/>
                    <a:ext cx="38577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ain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90840" y="1457280"/>
          <a:ext cx="596232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0840" y="1457280"/>
                    <a:ext cx="596232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633760" y="5459400"/>
          <a:ext cx="38764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33760" y="5459400"/>
                    <a:ext cx="3876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acteristic-function-limit specification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19280" y="1628640"/>
          <a:ext cx="5905440" cy="36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628640"/>
                    <a:ext cx="5905440" cy="36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509920" y="5416560"/>
          <a:ext cx="412416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5416560"/>
                    <a:ext cx="4124160" cy="676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We convert all specs into characteristic-function-limit spec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773360"/>
          <a:ext cx="246708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246708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03640" y="1484280"/>
          <a:ext cx="2657520" cy="15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484280"/>
                    <a:ext cx="265752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307200" y="1844640"/>
          <a:ext cx="265752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7200" y="1844640"/>
                    <a:ext cx="26575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8000" y="5013360"/>
          <a:ext cx="2533680" cy="175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5013360"/>
                    <a:ext cx="25336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516720" y="5084640"/>
          <a:ext cx="2523960" cy="165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5084640"/>
                    <a:ext cx="252396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535120" y="3500280"/>
          <a:ext cx="3981600" cy="234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35120" y="3500280"/>
                    <a:ext cx="3981600" cy="23432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258920" y="2637000"/>
            <a:ext cx="108108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258920" y="4797360"/>
            <a:ext cx="108108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05080" y="4797360"/>
            <a:ext cx="1079640" cy="1224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04000" y="2637000"/>
            <a:ext cx="936720" cy="1655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21000"/>
            <a:ext cx="0" cy="1008000"/>
          </a:xfrm>
          <a:prstGeom prst="line">
            <a:avLst/>
          </a:prstGeom>
          <a:ln w="76320">
            <a:solidFill>
              <a:srgbClr val="ff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09300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e pp.247-248 for conversion form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totype elliptic approxim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71480" y="1419120"/>
          <a:ext cx="5801040" cy="40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1480" y="1419120"/>
                    <a:ext cx="5801040" cy="40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095640" y="5641920"/>
          <a:ext cx="29527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5641920"/>
                    <a:ext cx="2952720" cy="6667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liptic design parameter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elliptic rational function; it is a ratio of two polynomials in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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selectivity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ripple fact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0" i="1" lang="en-US" sz="3200" spc="-1" strike="noStrike">
                <a:solidFill>
                  <a:srgbClr val="800000"/>
                </a:solidFill>
                <a:latin typeface="Arial"/>
              </a:rPr>
              <a:t>actual passband ed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95640" y="5589720"/>
            <a:ext cx="2952720" cy="66672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141" name=""/>
          <p:cNvGraphicFramePr/>
          <p:nvPr/>
        </p:nvGraphicFramePr>
        <p:xfrm>
          <a:off x="6732720" y="5516640"/>
          <a:ext cx="160020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5516640"/>
                    <a:ext cx="1600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52760" y="3495600"/>
          <a:ext cx="403848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2760" y="3495600"/>
                    <a:ext cx="40384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433520" y="4241880"/>
          <a:ext cx="627696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4241880"/>
                    <a:ext cx="6276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55640" y="1989000"/>
          <a:ext cx="28764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989000"/>
                    <a:ext cx="28764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003640" y="2131920"/>
            <a:ext cx="3745080" cy="1152720"/>
          </a:xfrm>
          <a:prstGeom prst="wedgeRoundRectCallout">
            <a:avLst>
              <a:gd name="adj1" fmla="val -87305"/>
              <a:gd name="adj2" fmla="val -38152"/>
              <a:gd name="adj3" fmla="val 16667"/>
            </a:avLst>
          </a:prstGeom>
          <a:solidFill>
            <a:srgbClr val="ffffcc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t of all quadrupl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for a given specification, is called the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desig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exam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FDesign D5 altern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mportance of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ays in presenting the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ic filter functions: frequency response, attenuation, gain, characteristic function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totype elliptic approxi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liptic design paramet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sp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design example Lecture12.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sign a lowpass filter that satisfies the following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0.2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40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real life, practical element values are significant to about 3 digits, temperature changes element values, etc., so we choose a more restrictive specific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p = 3000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s = 3225 H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p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.0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 =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sign strateg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oose RLC singly terminated ladder realization with complex zer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ore two design alternatives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atlab default design D3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Minimal Q-factor design D5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AFDesign to find transfer fun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ute element values (see previous lectur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und element values to 3 digits of prec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alidate desig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default design is D3a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90880" y="1484280"/>
          <a:ext cx="316224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1484280"/>
                    <a:ext cx="316224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5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3a violates given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51640" y="3213000"/>
            <a:ext cx="1584360" cy="1152720"/>
          </a:xfrm>
          <a:prstGeom prst="wedgeRectCallout">
            <a:avLst>
              <a:gd name="adj1" fmla="val -107814"/>
              <a:gd name="adj2" fmla="val 112532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3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red) viola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229360"/>
            <a:ext cx="1513080" cy="1152360"/>
          </a:xfrm>
          <a:prstGeom prst="wedgeRectCallout">
            <a:avLst>
              <a:gd name="adj1" fmla="val 187564"/>
              <a:gd name="adj2" fmla="val -128925"/>
            </a:avLst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blue) satisfi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given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 valu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66960" y="1600200"/>
            <a:ext cx="5410080" cy="478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879480" y="1341360"/>
          <a:ext cx="1676520" cy="29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9480" y="1341360"/>
                    <a:ext cx="1676520" cy="295272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7020000" y="3141720"/>
          <a:ext cx="1790640" cy="360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141720"/>
                    <a:ext cx="1790640" cy="3600360"/>
                  </a:xfrm>
                  <a:prstGeom prst="rect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mportance of filter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sually, the filter specification is giv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many cases the designer has to establish the specification by himsel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pecification is the most important prerequisite for the filter desig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specification is too restrictive (e.g., very low passband and stopband tolerances, narrow transition region), the filter may not be feasible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ow to choose specification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proper selection of the specification must be done according to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nature of signals (i.e., frequency bands and the corresponding levels of the desired and undesired signals or noise)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e available hardware (element tolerances, parasitic effects, etc.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re are several ways in presenting the analog filter specific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 and phas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20800" y="2084400"/>
          <a:ext cx="389592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0" y="2084400"/>
                    <a:ext cx="389592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08000" y="3627360"/>
            <a:ext cx="3313080" cy="505080"/>
          </a:xfrm>
          <a:prstGeom prst="wedgeRoundRectCallout">
            <a:avLst>
              <a:gd name="adj1" fmla="val 64662"/>
              <a:gd name="adj2" fmla="val 136162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68800"/>
            <a:ext cx="2594160" cy="505080"/>
          </a:xfrm>
          <a:prstGeom prst="wedgeRoundRectCallout">
            <a:avLst>
              <a:gd name="adj1" fmla="val 93208"/>
              <a:gd name="adj2" fmla="val 142138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8000" y="1536840"/>
          <a:ext cx="326700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1536840"/>
                    <a:ext cx="32670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697360" y="1593720"/>
          <a:ext cx="326736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7360" y="1593720"/>
                    <a:ext cx="326736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995640" y="3916440"/>
                <a:ext cx="248436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995640" y="5716440"/>
                <a:ext cx="2529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−</m:t>
                    </m:r>
                    <m:r>
                      <m:t xml:space="preserve">ζ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81560" y="2060640"/>
                <a:ext cx="2170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8000" y="1557360"/>
            <a:ext cx="2881440" cy="503280"/>
          </a:xfrm>
          <a:prstGeom prst="wedgeRoundRectCallout">
            <a:avLst>
              <a:gd name="adj1" fmla="val 65263"/>
              <a:gd name="adj2" fmla="val 15062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5734080"/>
                <a:ext cx="41259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79280" y="6237360"/>
            <a:ext cx="3313080" cy="504720"/>
          </a:xfrm>
          <a:prstGeom prst="wedgeRoundRectCallout">
            <a:avLst>
              <a:gd name="adj1" fmla="val 79708"/>
              <a:gd name="adj2" fmla="val -60064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quency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200" y="3429000"/>
            <a:ext cx="3313440" cy="504720"/>
          </a:xfrm>
          <a:prstGeom prst="wedgeRoundRectCallout">
            <a:avLst>
              <a:gd name="adj1" fmla="val -2421"/>
              <a:gd name="adj2" fmla="val 134907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gnitud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284640"/>
            <a:ext cx="2593800" cy="504720"/>
          </a:xfrm>
          <a:prstGeom prst="wedgeRoundRectCallout">
            <a:avLst>
              <a:gd name="adj1" fmla="val -60833"/>
              <a:gd name="adj2" fmla="val 14811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a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4508640"/>
                <a:ext cx="30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48360" y="4564080"/>
                <a:ext cx="341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oss and characteristic func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ss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35440" y="2131920"/>
                <a:ext cx="32382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612880" y="4583160"/>
                <a:ext cx="39038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573360"/>
            <a:ext cx="2232000" cy="792360"/>
          </a:xfrm>
          <a:prstGeom prst="wedgeRoundRectCallout">
            <a:avLst>
              <a:gd name="adj1" fmla="val 56685"/>
              <a:gd name="adj2" fmla="val 159819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aracteristic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ttenuation and gai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84464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en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247840" y="2997360"/>
                <a:ext cx="461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79280" y="3986280"/>
            <a:ext cx="2232000" cy="503280"/>
          </a:xfrm>
          <a:prstGeom prst="wedgeRoundRectCallout">
            <a:avLst>
              <a:gd name="adj1" fmla="val 68703"/>
              <a:gd name="adj2" fmla="val 147791"/>
              <a:gd name="adj3" fmla="val 16667"/>
            </a:avLst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59080" y="5138640"/>
                <a:ext cx="4390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gnitude-limit specifica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638360" y="1552680"/>
          <a:ext cx="586728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1552680"/>
                    <a:ext cx="586728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44720" y="6308640"/>
            <a:ext cx="705636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assume that the maximal value of the magnitude response is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3240" y="5492880"/>
          <a:ext cx="44575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5492880"/>
                    <a:ext cx="44575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3-04T02:51:52Z</dcterms:modified>
  <cp:revision>511</cp:revision>
  <dc:subject>Analog and Digital  Filter Design</dc:subject>
  <dc:title>Specification of an analog filter</dc:title>
</cp:coreProperties>
</file>