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3C4-05AC-41C6-9A53-A3153F31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30E-8A49-4A68-B700-C553CE4D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E7A-97C5-4F7D-8AFC-2B890B11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126-5C4E-4619-8558-63DC2BD8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091-5396-45EC-A976-86CEC248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5B3-F1F3-4D0D-9970-BABEEFD4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DF3-0CA6-442C-A812-EF52B6C2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1622-7254-4FE8-9E70-2D1830C5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7D4-8127-4E64-96A2-FAB46E26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2D2-B2D3-42BD-B076-BAC3098A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EC0-BCFA-46B5-BA58-7247F874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9DE-923B-4A58-AB9A-BCF6B24D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B0CA-0D18-4A2C-9FF4-64A2524B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assical digital filter desig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3: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udy of imperfec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1413000"/>
            <a:ext cx="1655640" cy="718920"/>
          </a:xfrm>
          <a:prstGeom prst="wedgeRoundRectCallout">
            <a:avLst>
              <a:gd name="adj1" fmla="val -89884"/>
              <a:gd name="adj2" fmla="val 207837"/>
              <a:gd name="adj3" fmla="val 16667"/>
            </a:avLst>
          </a:prstGeom>
          <a:solidFill>
            <a:srgbClr val="3399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968720" cy="1576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64000" y="2790720"/>
            <a:ext cx="4610160" cy="3733920"/>
          </a:xfrm>
          <a:prstGeom prst="rect">
            <a:avLst/>
          </a:prstGeom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1: Approximation - Select Chebyshev Type 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2: Realization - Cascade of biqu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3: Study of imperfections - Quantiz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o design ste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1: Approxi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2: Realiz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tep 3: Study of imperfect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ep 4: Implem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LAB FDAtool docu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363080" cy="5419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rt with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0360" y="465300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4292640"/>
            <a:ext cx="3743280" cy="187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1848"/>
          <a:stretch/>
        </p:blipFill>
        <p:spPr>
          <a:xfrm>
            <a:off x="866880" y="1413000"/>
            <a:ext cx="7410240" cy="5256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lect Chebyshev Type I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60360" y="6164280"/>
            <a:ext cx="1656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rt coefficients: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File, Expor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19330"/>
          <a:stretch/>
        </p:blipFill>
        <p:spPr>
          <a:xfrm>
            <a:off x="900000" y="1714680"/>
            <a:ext cx="7410600" cy="480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2009520" cy="2638440"/>
          </a:xfrm>
          <a:prstGeom prst="rect">
            <a:avLst/>
          </a:prstGeom>
          <a:ln w="7632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2: Realiz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rect-form II biquad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48872"/>
          <a:stretch/>
        </p:blipFill>
        <p:spPr>
          <a:xfrm>
            <a:off x="1042920" y="2421000"/>
            <a:ext cx="72295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6190"/>
          <a:stretch/>
        </p:blipFill>
        <p:spPr>
          <a:xfrm>
            <a:off x="866880" y="1628640"/>
            <a:ext cx="7410240" cy="4997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3: Study of imperfections: Quantiz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77000"/>
            <a:ext cx="64764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494172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5372280"/>
            <a:ext cx="504720" cy="288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341360"/>
            <a:ext cx="2087640" cy="719280"/>
          </a:xfrm>
          <a:prstGeom prst="wedgeRoundRectCallout">
            <a:avLst>
              <a:gd name="adj1" fmla="val -167564"/>
              <a:gd name="adj2" fmla="val 222847"/>
              <a:gd name="adj3" fmla="val 16667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spec is viola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crease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6880" y="1600200"/>
            <a:ext cx="7410240" cy="5068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300720" y="5445000"/>
            <a:ext cx="180036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3355920"/>
            <a:ext cx="180036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do step 2: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53431"/>
          <a:stretch/>
        </p:blipFill>
        <p:spPr>
          <a:xfrm>
            <a:off x="471600" y="2492280"/>
            <a:ext cx="82008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3-21T02:00:47Z</dcterms:modified>
  <cp:revision>407</cp:revision>
  <dc:subject>Analog and Digital  Filter Design</dc:subject>
  <dc:title>Classical digital filter design</dc:title>
</cp:coreProperties>
</file>