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DCF-2184-4FC1-8A7F-5B7A1A7B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7EC-9B2F-4135-9C86-A75924D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9EE-D2C7-41C8-A838-F732DAA5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D4F-0F7A-4E74-AE6F-5C9C7AD3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4EB-583E-4974-9242-583CA45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B44-DA6E-4EC3-89A5-B1DA26F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403-A289-40AA-ACB8-26DF28C8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A53-D652-419B-9BA4-DC11BAF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5F7-CE46-4C8F-A234-3747B3A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C70-B4D8-4091-9AE8-F1C4FAB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886-238C-4F5D-8324-0B818F2E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A56-3912-4C37-9014-7EB6E47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FF3D-4B2B-4831-9C49-468B6DA5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Finite precision effec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mit cycles and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input sequence to a digital filter is a constant sequence or if it varies slowly, then the output sequence may oscill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ose small-amplitude oscillations are caused by rounding errors, or truncating errors, and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imit-cycle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s generated by additions can result in undesirable large-amplitude oscillations that are called 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oth limit-cycle oscillations and overflow oscillations settle the filter into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linea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e of ope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a result of roundoff operations, sometimes the output sequence can beco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output sequence does not follow the input sequence the phenomen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ead band effec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gnal quantization err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practical digital systems the input sequence can be of higher precision compared to the precision of the DSP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DSP system operates with B bits then we have to quantize the sequence to B b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ation err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difference between the higher precision sequence value and the value obtained after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undoff noi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en fixed-point arithmetic is used, and quantization to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bits is performed after each multiplication, the variance of output noise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type of quantization is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90840" y="3409920"/>
            <a:ext cx="23335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R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59280" y="3359160"/>
            <a:ext cx="4038480" cy="3309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628640"/>
            <a:ext cx="547200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22;    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[0 0.4 0.5 1];  % Frequenc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1 0 0];      % Magnitud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[1 5];          % Weigh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2928960"/>
            <a:ext cx="561672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err,res] = firgr(N,F,A,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360" y="1557360"/>
            <a:ext cx="2232000" cy="1008000"/>
          </a:xfrm>
          <a:prstGeom prst="wedgeRoundRectCallout">
            <a:avLst>
              <a:gd name="adj1" fmla="val 34069"/>
              <a:gd name="adj2" fmla="val 89685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rg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5300640"/>
            <a:ext cx="4104000" cy="1008000"/>
          </a:xfrm>
          <a:prstGeom prst="wedgeRoundRectCallout">
            <a:avLst>
              <a:gd name="adj1" fmla="val -49226"/>
              <a:gd name="adj2" fmla="val -18559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fir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4240" y="1484280"/>
            <a:ext cx="3292200" cy="397080"/>
          </a:xfrm>
          <a:prstGeom prst="wedgeRoundRectCallout">
            <a:avLst>
              <a:gd name="adj1" fmla="val 2003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FIR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3360" y="1725480"/>
            <a:ext cx="3564000" cy="500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274840"/>
            <a:ext cx="2016360" cy="290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1989000"/>
            <a:ext cx="352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5960" y="1895400"/>
            <a:ext cx="703872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Bits1 = 8; % Use 8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CoeffWordLength',nBits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51480" y="3500280"/>
            <a:ext cx="4341240" cy="322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66960" y="2349360"/>
            <a:ext cx="5410080" cy="427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18440" y="4005360"/>
            <a:ext cx="2622240" cy="397080"/>
          </a:xfrm>
          <a:prstGeom prst="wedgeRoundRectCallout">
            <a:avLst>
              <a:gd name="adj1" fmla="val -48259"/>
              <a:gd name="adj2" fmla="val 17789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ite wordlength eff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zations v. s.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e location for quantized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flow arithmetic oper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 cycles and overflow oscil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ad band eff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quantization err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off 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LAB examp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0280" y="1766880"/>
            <a:ext cx="5118480" cy="203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sin(2*pi*f1*k) + 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8,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60046"/>
              <a:gd name="adj2" fmla="val -300587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8, and fraction length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8520" y="1413000"/>
            <a:ext cx="77245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51480" y="2565360"/>
            <a:ext cx="4341240" cy="419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FI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23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8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Mode: 'AvoidOverflow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638172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1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 and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6829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5289480" cy="3743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ifica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413000"/>
            <a:ext cx="6624720" cy="1620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 = 9;         % Filt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 0.5;       % Cutoff frequ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p = 0.01;     % Maximum pass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= 40;       % Minimum stopband atten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2928960"/>
            <a:ext cx="5616720" cy="212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z,p,k]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[b,a]   = ellip(N,Ap,As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fvt = fvtool(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1773360"/>
            <a:ext cx="3167280" cy="792000"/>
          </a:xfrm>
          <a:prstGeom prst="wedgeRoundRectCallout">
            <a:avLst>
              <a:gd name="adj1" fmla="val -925"/>
              <a:gd name="adj2" fmla="val 160018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es the 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661000"/>
            <a:ext cx="4103640" cy="1008000"/>
          </a:xfrm>
          <a:prstGeom prst="wedgeRoundRectCallout">
            <a:avLst>
              <a:gd name="adj1" fmla="val -56537"/>
              <a:gd name="adj2" fmla="val -113620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vt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graphical user interface that allows you to analyze digital filters using the hand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f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1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9840" y="1484280"/>
            <a:ext cx="2962800" cy="397080"/>
          </a:xfrm>
          <a:prstGeom prst="wedgeRoundRectCallout">
            <a:avLst>
              <a:gd name="adj1" fmla="val 20027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s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557360"/>
            <a:ext cx="84978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1 = copy(H); % Keep a copy of the origin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1,'Arithmetic','fixed','CoeffWordLength',1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Use 12 bits fo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1840" y="3500280"/>
            <a:ext cx="4234680" cy="257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1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573408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custom fixed-point implementations of digital filters, such as VLSI or FPGA implementations,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duction of accurac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ves in chip area and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reases processing spe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reduction requires analysis and optimization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nite wordlengt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ropert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efficient quantiz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ounding or truncation of intermediate resul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rithmetic overflow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5560" y="2349360"/>
            <a:ext cx="5410440" cy="4276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lot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85240" y="1766880"/>
            <a:ext cx="7313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fvt, 'Filters', [H, H1],'ShowReference','off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13680" y="2565360"/>
            <a:ext cx="2622240" cy="397080"/>
          </a:xfrm>
          <a:prstGeom prst="wedgeRoundRectCallout">
            <a:avLst>
              <a:gd name="adj1" fmla="val -107101"/>
              <a:gd name="adj2" fmla="val 269018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responses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te input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8480" y="1766880"/>
            <a:ext cx="5941440" cy="245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1 = 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0:n1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1 = 1/8; f2 = 340/10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 = 1/(2^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Am*sin(2*pi*f1*k) + Am*sin(2*pi*f2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in = fi(x,true,64,6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14320" y="5730840"/>
            <a:ext cx="6325560" cy="792360"/>
          </a:xfrm>
          <a:prstGeom prst="wedgeRoundRectCallout">
            <a:avLst>
              <a:gd name="adj1" fmla="val -58995"/>
              <a:gd name="adj2" fmla="val -239462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turns a fixed-point object with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ign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ord length 64, and fraction length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duc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8160" y="1341360"/>
            <a:ext cx="786168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2 = copy(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H2,'ProductMode','KeepMSB','ProductWordLength', 1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97920" y="2276640"/>
            <a:ext cx="4127760" cy="452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2 = FilterStructure: 'Direct-Form 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WordLength: 32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effAutoScale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igned: true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WordLength: 16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OutputFracLength: 15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Mode: 'KeepMSB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oductWordLength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6443640"/>
            <a:ext cx="2592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360" y="126828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nite wordlength effects analysis example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IR direct-form II filt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480" y="3071880"/>
            <a:ext cx="5301360" cy="101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H = dfilt.df2(b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et(H,'Arithmetic','fixed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4200" y="1484280"/>
            <a:ext cx="3032640" cy="397080"/>
          </a:xfrm>
          <a:prstGeom prst="wedgeRoundRectCallout">
            <a:avLst>
              <a:gd name="adj1" fmla="val 20013"/>
              <a:gd name="adj2" fmla="val 344564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irect-form II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320" y="5734080"/>
            <a:ext cx="3345480" cy="397080"/>
          </a:xfrm>
          <a:prstGeom prst="wedgeRoundRectCallout">
            <a:avLst>
              <a:gd name="adj1" fmla="val 73000"/>
              <a:gd name="adj2" fmla="val -463949"/>
              <a:gd name="adj3" fmla="val 16667"/>
            </a:avLst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fixed-point arithm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82360" y="1413000"/>
            <a:ext cx="3564000" cy="527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H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FilterStructure: 'Direct-Form II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rithmetic: 'fixed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Numer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Denominator: [1x10 dou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ersistentMemory: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oeffAutoScale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Signed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In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WordLength: 16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utputFracLength: 15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ProductMode: 'FullPrecisio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Mode: 'KeepMSB'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AccumWordLength: 40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CastBeforeSum: true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RoundMode: 'convergent'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OverflowMode: 'wrap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1989000"/>
            <a:ext cx="2519280" cy="21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1700280"/>
            <a:ext cx="352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cessing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9320" y="3873600"/>
            <a:ext cx="292392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1 = filter(H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2 = filter(H2,x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54280" y="1647720"/>
            <a:ext cx="54104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efficient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us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oefficient sensitivit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o denote the sensitivity of the transfer function (or frequency response, or magnitude response, or phase response) to its coefficients or parame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ntized filter coefficient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ke the transfer function different from the ideal on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with infinite-precision coeffici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fferences can be predicted by the coefficient sensitivity analysis of a fil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chematic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66960" y="157464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" y="1484280"/>
            <a:ext cx="2830320" cy="989640"/>
          </a:xfrm>
          <a:prstGeom prst="wedgeRoundRectCallout">
            <a:avLst>
              <a:gd name="adj1" fmla="val 109555"/>
              <a:gd name="adj2" fmla="val 274472"/>
              <a:gd name="adj3" fmla="val 16667"/>
            </a:avLst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verflow occurs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input signal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rg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mit cycl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66960" y="150336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069880" y="6165720"/>
            <a:ext cx="388404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limitcycle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ad ba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66960" y="1484280"/>
            <a:ext cx="5410080" cy="4734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0600" y="6165720"/>
            <a:ext cx="3609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cture17IIRdf2deadband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alizations v. s.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filter realizations can be found for a given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we assume that the coefficients are exact, all realizations exhibit the same performan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coefficients are quantized then performances of the realized filter can differ from the performances of the filter with exact coeffic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ous filter realizations have different amount of degradation after coefficient quant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scade v. s. allpass IIR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4000680" cy="266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3971880" cy="265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610080" y="5734080"/>
            <a:ext cx="1923840" cy="504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124080" y="177336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580536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cade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5280" y="5775480"/>
            <a:ext cx="1873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pass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ole location for quantized coefficients 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580536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 form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5775480"/>
            <a:ext cx="1873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sari-Liu 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3440" y="2133720"/>
            <a:ext cx="3076560" cy="290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2108160"/>
            <a:ext cx="3009960" cy="2905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22400" y="5157720"/>
            <a:ext cx="2685960" cy="36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75280" y="5157720"/>
            <a:ext cx="3457440" cy="3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flow arithmetic oper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fixed-point arithmetic the result of an arithmetic operation (for example, adding) can exceed the allowed range of numeric values which we call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overfl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n, a new value from allowed range of numbers must be used for representing the resul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 practice, two rules of replacements are used: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24160" y="2046240"/>
            <a:ext cx="6295680" cy="3038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0720" y="5348160"/>
            <a:ext cx="5531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result of an arithmetic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1680" y="6089760"/>
            <a:ext cx="71089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the number that belongs to the permitted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MIROSLAV</cp:lastModifiedBy>
  <dcterms:modified xsi:type="dcterms:W3CDTF">2005-04-12T23:35:05Z</dcterms:modified>
  <cp:revision>568</cp:revision>
  <dc:subject>Analog and Digital  Filter Design</dc:subject>
  <dc:title>Finite precision effects</dc:title>
</cp:coreProperties>
</file>