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7FBA-FB61-4197-A736-14DB40D52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08B0-E027-4A65-9266-D32EF1E2A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2BBD-16D4-4C4B-AAF2-86E064C9C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6124-3A75-4A3C-BC4F-9557A6619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94A7-DB1B-4271-ADEB-DB041E82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197D-7A2A-485B-AC09-DBE6203C7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DBE3-DC87-4DB4-9E2D-B768C4229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6411-6C77-4D28-BFD6-A2455DFD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0091-3973-4CD2-A458-56499328D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F463-3C00-41C6-A877-2B729B1B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44BD-F6EE-44AD-833C-8354870E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1A47-04C8-44BB-A1AA-F50097C0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E62D3-5837-4C15-BEFF-8F2655B5166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1780E-4A05-45FB-9CE1-B7813513C1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ter Approximation 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erworth, Chebyshev, and Elliptic Fil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byshev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|H(s)| for n=4, r=1 (Type 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5715000" cy="4137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400800" y="2743200"/>
            <a:ext cx="2362320" cy="2340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33520" y="5715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(s) = 0.2457/( 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0.9528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.4539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0.7426s + 0.275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20574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es lie on an ellip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ter Approximation Theo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D136-1B30-47E2-AF4D-93480A6A32E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ED632E-6472-4883-B2B7-4D61DE4624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liptic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– the Jacobian elliptic function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-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es approximately on an ellip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eros on the j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ax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parately controlled equiripple in the pass-band and stop-b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arper cutoff than Chebyshev (optimal transition ban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-linear phase (Group delay distortion)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914400" y="1523880"/>
            <a:ext cx="5213160" cy="2303640"/>
            <a:chOff x="914400" y="1523880"/>
            <a:chExt cx="5213160" cy="2303640"/>
          </a:xfrm>
        </p:grpSpPr>
        <p:pic>
          <p:nvPicPr>
            <p:cNvPr id="126" name="" descr=""/>
            <p:cNvPicPr/>
            <p:nvPr/>
          </p:nvPicPr>
          <p:blipFill>
            <a:blip r:embed="rId1"/>
            <a:srcRect l="0" t="16594" r="0" b="0"/>
            <a:stretch/>
          </p:blipFill>
          <p:spPr>
            <a:xfrm>
              <a:off x="1371600" y="1523880"/>
              <a:ext cx="4495680" cy="221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914400" y="1523880"/>
              <a:ext cx="96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|H(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|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666880" y="3428640"/>
              <a:ext cx="27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90960" y="3428640"/>
              <a:ext cx="33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079960" y="1600200"/>
                <a:ext cx="284328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H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ter Approximation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96A8-5967-482A-AC52-0E42D7F92A1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76BA23-217B-4DDA-9F43-E4D932D57B7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liptic Func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(s) for n=4,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3,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324480" y="1752480"/>
            <a:ext cx="2327400" cy="26892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5715000" cy="43783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28600" y="5715000"/>
            <a:ext cx="8686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H(s) = (0.0032s</a:t>
            </a:r>
            <a:r>
              <a:rPr b="0" lang="en-US" sz="1900" spc="-1" strike="noStrike" baseline="30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+ 0.0595s</a:t>
            </a:r>
            <a:r>
              <a:rPr b="0" lang="en-US" sz="19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+ 0.1554)/( s</a:t>
            </a:r>
            <a:r>
              <a:rPr b="0" lang="en-US" sz="1900" spc="-1" strike="noStrike" baseline="30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+ 0.5769s</a:t>
            </a:r>
            <a:r>
              <a:rPr b="0" lang="en-US" sz="19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+ 1.2227s</a:t>
            </a:r>
            <a:r>
              <a:rPr b="0" lang="en-US" sz="19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+ 0.4369s + 0.2195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ter Approximation Theo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331D-0AA7-4AE0-AE5B-DA7A264A4A5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46AC4F-38B4-42DE-A61A-4CFB2BB4E50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ssel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Filt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5181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utterworth and Chebyshev filters with sharp cutoffs (high order) carry a penalty that is evident from the positions of their poles in the s plane. Bringing the poles closer to the j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axis increases their Q, which degrades the filter's transient response. Overshoot or ringing at the response edges can resu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he Bessel filter represents a trade-off in the opposite direction from the Butterworth. The Bessel's poles lie on a locus further from the j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axis. Transient response is improved, but at the expense of a less steep cutoff in the stop-ba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715000" y="1981080"/>
            <a:ext cx="3200400" cy="3170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ter Approximation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39CD-20F9-46AF-811A-FCE37F86737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3186C0-32AB-4935-8D7D-97482EDDDF8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ctical Filter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 tool to establish a prototype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Lab is a great cho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doctord.webhop.net/courses/Topics/Matlab/index.ht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 Matlab tutorial by Dr. Bouzid Aliane; Chapter 5 is on filter desig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your design for ringing/oversho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etrimental, increase the filter order and redesign to exceed the frequency response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 poles near the j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axis to the left to reduce their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the resulting filter against your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ing poles to the left will reduce ringing/overshoot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degrade the transition reg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ter Approximation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6294-A071-4408-AE80-70EA146E999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3D9204-992C-4085-90A4-126422C6061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ximation Polynomi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physically realizable circuit has a transfer function that is a rational polynomial in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ant to determine classes of rational polynomials that approximate the “Ideal” low-pass filter respon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high-pass band-pass and band-stop filters can be derived from a low pass desig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well known approximations are discussed he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terworth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even Butterworth,"On the Theory of Filter Amplifiers", Wireless Engineer (also called Experimental Wireless and the Radio Engineer), vol. 7, 1930, pp. 536-5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byshev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fnuty Lvovich Chebyshev (1821-1894) - Russia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yrillic alphabet 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elled many w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liptic Function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lhelm Cauer (1900-1945) - German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.S. patents 1,958,742 (1934), 1,989,545 (1935), 2,048,426 (193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ssel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iedrich Wilhelm Bessel, 1784 - 18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181480" y="4648320"/>
            <a:ext cx="1692360" cy="39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ter Approximation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FCAA-44BA-4879-8FA7-F48D9A64635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6CFBA8-9149-47EC-BCA3-5EAD4338E9C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|H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|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he approximation to the ideal low-pass filter response |I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|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ideal filter cutoff frequenc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it is normalized to one for convenien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600200" y="2438280"/>
            <a:ext cx="4495320" cy="1947600"/>
            <a:chOff x="1600200" y="2438280"/>
            <a:chExt cx="4495320" cy="1947600"/>
          </a:xfrm>
        </p:grpSpPr>
        <p:sp>
          <p:nvSpPr>
            <p:cNvPr id="49" name=""/>
            <p:cNvSpPr/>
            <p:nvPr/>
          </p:nvSpPr>
          <p:spPr>
            <a:xfrm flipV="1">
              <a:off x="2701080" y="2531880"/>
              <a:ext cx="0" cy="13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01080" y="3851280"/>
              <a:ext cx="275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00200" y="2438280"/>
              <a:ext cx="91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|I(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|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994640" y="3945240"/>
              <a:ext cx="1100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701080" y="3003480"/>
              <a:ext cx="1008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710160" y="3003480"/>
              <a:ext cx="0" cy="847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618360" y="3945240"/>
              <a:ext cx="2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333880" y="2814480"/>
              <a:ext cx="2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ter Approximation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22E1-4E30-44CE-ABDD-F77EC7F4E81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5F7CC1-E106-49D5-8D44-D5C6789A240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finitions -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H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written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F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s the “Characteristic Function” which attempts to approximate: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cannot be done with a finite order polynom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flexibility for the degree of error in the passband or stopb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752480" y="1676520"/>
                <a:ext cx="28432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H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0" name=""/>
          <p:cNvGrpSpPr/>
          <p:nvPr/>
        </p:nvGrpSpPr>
        <p:grpSpPr>
          <a:xfrm>
            <a:off x="1828800" y="3429000"/>
            <a:ext cx="3047760" cy="1378080"/>
            <a:chOff x="1828800" y="3429000"/>
            <a:chExt cx="3047760" cy="1378080"/>
          </a:xfrm>
        </p:grpSpPr>
        <p:sp>
          <p:nvSpPr>
            <p:cNvPr id="61" name=""/>
            <p:cNvSpPr/>
            <p:nvPr/>
          </p:nvSpPr>
          <p:spPr>
            <a:xfrm flipV="1">
              <a:off x="2641320" y="3543840"/>
              <a:ext cx="0" cy="80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641320" y="4350600"/>
              <a:ext cx="203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828800" y="3486600"/>
              <a:ext cx="67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(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37800" y="4408200"/>
              <a:ext cx="33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318480" y="4408200"/>
              <a:ext cx="20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370240" y="3715560"/>
              <a:ext cx="20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641320" y="4350600"/>
              <a:ext cx="744840" cy="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3454200" y="3659040"/>
              <a:ext cx="0" cy="69084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318480" y="3429000"/>
              <a:ext cx="33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ter Approximation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003A-2E88-4B77-96CA-83923070DA0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10876C-F0F6-4532-94D6-EB25A4679BB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lter Specif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H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|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ust stay within the shaded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at this is an incomplete specification.  The phase response and transient response are also important and need to be appropriate for the filter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447920" y="1676520"/>
            <a:ext cx="4230720" cy="3245400"/>
            <a:chOff x="1447920" y="1676520"/>
            <a:chExt cx="4230720" cy="3245400"/>
          </a:xfrm>
        </p:grpSpPr>
        <p:sp>
          <p:nvSpPr>
            <p:cNvPr id="73" name=""/>
            <p:cNvSpPr/>
            <p:nvPr/>
          </p:nvSpPr>
          <p:spPr>
            <a:xfrm flipV="1">
              <a:off x="2482920" y="1738440"/>
              <a:ext cx="1440" cy="176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482920" y="3505320"/>
              <a:ext cx="3006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447920" y="1676520"/>
              <a:ext cx="90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|H(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|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69040" y="3635280"/>
              <a:ext cx="30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482920" y="2368440"/>
              <a:ext cx="1103400" cy="1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86320" y="2368440"/>
              <a:ext cx="1440" cy="1136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378240" y="3570120"/>
              <a:ext cx="299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141640" y="2198520"/>
              <a:ext cx="299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482920" y="2368440"/>
              <a:ext cx="11034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86320" y="2368440"/>
              <a:ext cx="199800" cy="1136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786120" y="3251160"/>
              <a:ext cx="1403280" cy="254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83080" y="3505320"/>
              <a:ext cx="1440" cy="1109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789360" y="3505320"/>
              <a:ext cx="1440" cy="1109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484360" y="3505320"/>
              <a:ext cx="1800" cy="1109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622600" y="3765600"/>
              <a:ext cx="89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ass b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64040" y="3765600"/>
              <a:ext cx="892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top b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57760" y="4614840"/>
              <a:ext cx="16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ansition Reg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3651120" y="4484520"/>
              <a:ext cx="206640" cy="26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ter Approximation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1BBC-69A6-4A33-9FA6-C1CCAF31024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3B604C-CFD5-4262-9CF7-47D3E277840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utterwor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ooth transfer function (no ripp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ally flat and Linear phase (in the pass-ba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 cutoff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143000" y="1828800"/>
            <a:ext cx="5899320" cy="2044440"/>
            <a:chOff x="1143000" y="1828800"/>
            <a:chExt cx="5899320" cy="2044440"/>
          </a:xfrm>
        </p:grpSpPr>
        <p:pic>
          <p:nvPicPr>
            <p:cNvPr id="94" name="" descr=""/>
            <p:cNvPicPr/>
            <p:nvPr/>
          </p:nvPicPr>
          <p:blipFill>
            <a:blip r:embed="rId1"/>
            <a:stretch/>
          </p:blipFill>
          <p:spPr>
            <a:xfrm>
              <a:off x="1565280" y="1915920"/>
              <a:ext cx="5386680" cy="165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1143000" y="1828800"/>
              <a:ext cx="96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|H(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|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743200" y="3504960"/>
              <a:ext cx="27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705720" y="3429000"/>
              <a:ext cx="33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5334120" y="1676520"/>
                <a:ext cx="28429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H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5410080" y="2514600"/>
                <a:ext cx="213372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H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ter Approximation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3CBE-FEC2-4E16-B466-70C6C72C9AF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B16DB5-970A-4C0C-B51D-9A019C20CFB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terworth Continu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e locations in the s-plane at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-1 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-1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(1/2n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es are equally spaced on the unit circle a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k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2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(s) only uses the n poles in the left half plane for stabil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are no z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5105520" y="1066680"/>
                <a:ext cx="237492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H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3" name=""/>
          <p:cNvGrpSpPr/>
          <p:nvPr/>
        </p:nvGrpSpPr>
        <p:grpSpPr>
          <a:xfrm>
            <a:off x="1447920" y="2057400"/>
            <a:ext cx="5257800" cy="2971800"/>
            <a:chOff x="1447920" y="2057400"/>
            <a:chExt cx="5257800" cy="2971800"/>
          </a:xfrm>
        </p:grpSpPr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1447920" y="2057400"/>
              <a:ext cx="3217680" cy="29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214960" y="3512880"/>
              <a:ext cx="149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 =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ter Approximation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44AC-BDD8-4412-B6E6-26AA23F5333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5F7A89-3BBE-4713-A2FB-0653D53E530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terworth Filter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H(s)| for n=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5715000" cy="4229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400800" y="2133720"/>
            <a:ext cx="2286000" cy="22636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371600" y="57913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(s) = 1/( 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2.613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3.414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2.6131s +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ter Approximation Theo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B56A-5D60-4701-A896-FBF04D341C1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31A202-34EF-49EB-AC48-273FE983535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2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–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led equiripple in the pass-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rper cutoff than Butterwo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linear phase (Group delay distortion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3352680" cy="2384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219320" y="1981080"/>
            <a:ext cx="3047760" cy="219888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byshev – Typ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5029200" y="1066680"/>
                <a:ext cx="279072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H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2514600" y="3886200"/>
            <a:ext cx="2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33920" y="3809880"/>
            <a:ext cx="33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2133720"/>
            <a:ext cx="9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|H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|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ter Approximation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0FD3-2C59-4625-94BF-1C0F5400C4C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35FE4D-BB36-446F-A2DA-D83CD02925B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2T18:08:16Z</dcterms:created>
  <dc:creator>Jeffrey N Denenberg</dc:creator>
  <dc:description/>
  <dc:language>en-US</dc:language>
  <cp:lastModifiedBy>Jeffrey Denenberg</cp:lastModifiedBy>
  <dcterms:modified xsi:type="dcterms:W3CDTF">2005-06-13T12:56:45Z</dcterms:modified>
  <cp:revision>21</cp:revision>
  <dc:subject/>
  <dc:title>Filter Approximation Theory</dc:title>
</cp:coreProperties>
</file>