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B36-705D-4EBE-94E7-8B999D7A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E00-005B-4C5C-89B9-01172657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AA4-43EA-4B1A-8B82-53E5C33E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8BC-04E4-4182-AC1B-6F8E73A9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AE1-5FB1-4E2C-81AD-BC62C99A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010-94B7-4BD0-8AFF-1B1FCEC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50C-A486-4711-A090-CCFDDC0F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4B8-1956-491F-AE74-9611C6BB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DA4-4299-40BA-A614-BF0F4796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9CB-2738-4ACE-9297-CEA6063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5A3-16A9-47AD-B763-A49F1EE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957-4F81-481C-8BAB-6C1F9C4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929-E80B-49B4-936D-9E536A565A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1F5C-5058-4410-9508-9479F934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from a presentation in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mission Systems for Commun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Telephone Laboratories, 1970, 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658-0619-49F9-80C4-5875EA4AE4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BC350-2786-4830-B464-130DDE45D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130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under a portion of this curve is the probability that the voltage lies in that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DF is zero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38200" y="3645000"/>
          <a:ext cx="6870600" cy="245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3645000"/>
                    <a:ext cx="68706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9800" y="1557360"/>
                <a:ext cx="2675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94320" y="2536920"/>
                <a:ext cx="2884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D2C-60E0-46BB-BA54-6566D6D289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BF369-4A30-4E81-843F-3D6E2E2CCF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612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verage of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”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a large number of examples of the noise signa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set of all examples is the “ensembl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ny particular time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verage the set of values of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he “Expected Value”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ime and ensemble averages give the same val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y usually do), the noise process is said to be “Ergod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5440" y="1833480"/>
                <a:ext cx="1633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63760" y="4081320"/>
                <a:ext cx="2109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882960" y="4113360"/>
                <a:ext cx="417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for the infinite s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68F-96E1-4F07-B914-2E3006B322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44C04-5B3C-4A37-8110-A1AB3F5224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046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alculate the ensemble average of our sinusoidal “noi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obviously zer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d symmetry, balance point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should since this noise the has no DC compon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65120" y="2563920"/>
                <a:ext cx="3533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65120" y="3416400"/>
                <a:ext cx="4416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199-3A22-432A-953B-7275A7347E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70D3E-0BB0-4216-A498-F1AEA8ACB4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also known as the “First Moment”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alculate other important moments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 “Second Central Moment” or “Variance”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 our sinusoidal nois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77880" y="1911240"/>
                <a:ext cx="3203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39920" y="3579840"/>
                <a:ext cx="575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09840" y="4843440"/>
                <a:ext cx="3618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E5C-C4F8-4DCD-91A4-898114DD9F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A2C7C-8D25-492C-8E95-E39568FD73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his requires “Integration by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19360" y="2637000"/>
                <a:ext cx="32194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19360" y="2049480"/>
                <a:ext cx="2827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9440" y="3643200"/>
                <a:ext cx="51768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3880" y="5305320"/>
                <a:ext cx="5672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2867040" y="5460840"/>
            <a:ext cx="839880" cy="8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19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810-1CC4-4F08-84A5-CE9D88F3C0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58242-7400-4A16-AE71-A0FA850394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rresponds to the power of our sine wav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“squared”) is called the “Standard Deviation”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and corresponds to the RMS value of th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70240" y="1482840"/>
                <a:ext cx="27892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019-3046-4162-8954-9A59AB6577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2E19F-5127-4E60-9978-04C9668253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ussian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density function for a random variable that is the result of adding the effects of many small contributors tends to be Gaussian as the number of contributors gets l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46440" y="1436760"/>
                <a:ext cx="32446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1800360" y="2303640"/>
          <a:ext cx="5543280" cy="21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303640"/>
                    <a:ext cx="5543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1B6-A485-4FE1-A2F5-2F2A6FFECB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F0A6E-B5D3-4EBB-97D7-44560266B2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naturally in discrete “Poison Process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between occur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5160" y="1741320"/>
                <a:ext cx="4468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for v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0 , 0 for v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1800360" y="2443320"/>
          <a:ext cx="5543280" cy="197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443320"/>
                    <a:ext cx="55432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7A0-07B2-4AD7-AD40-5F2A000C3C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3B4EA-9F1C-4D15-81A7-B2524CBEB0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oise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2F8-AB20-47D4-841D-B6912510D9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B8617-E593-447A-8781-2CA38C80B0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Brownian motion of electrons in a resistiv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k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.3805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ltzmann’s constan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s the absolute temperature (°Kelv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“white” noise (“flat” spectr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colo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light has all colors at equ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distribution is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2FE-47F2-47E1-8B53-41E8002B8B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F94D2-9FCC-4A59-BC20-3CF5A51AAB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no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forms with incomple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an we determ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ine waves of unknow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istribution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ensity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ability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in the real-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and Power Spectral d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8B3-094B-4021-965E-6AF125491D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22DC-5C80-454E-8243-8791E5440F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accurate model (Quantum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rrects for the high frequency roll of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ove 4000 GHz at room temp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in the noise is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*T*BW Watts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74 +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W) in dB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ibels relative to a milliwa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B =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73400" y="1887480"/>
                <a:ext cx="2474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477-9ACE-4806-96AD-4C65683137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6F784-122E-4C75-8FCA-6AD76DDF75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49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irregular flow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*q*I*f  whe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1.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rge on an 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noise is proportional to the signal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white (flat spectrum) and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837-7417-476F-945B-9FF1EED8DE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CC840-4FE0-4631-9056-FEBBEB6BC1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e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gularities in semiconductor d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many naturally occurring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red silhouettes (Mountains, clouds, rocky walls, fores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) =A / f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0.8 &l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E10-AC99-4B7F-B28A-866EBE0C19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03ED1-84C9-4038-A2A7-212A2A2FA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energy spikes, clicks and p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 igni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white noise, but NOT 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multiple sources - more 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ception to the “Central Limit Theor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1F5-2A2F-46EE-8F50-61C9F5945D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89098-3426-4978-A182-1B0C7AD658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BEA-DF38-4557-BCB6-EACEF1DC73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68EC9-959D-4768-A559-36EE1974F9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ing Performanc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 average, good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1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response is a function of sound 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 here is the threshold of he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intensities yield flat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udness" descr=""/>
          <p:cNvPicPr/>
          <p:nvPr/>
        </p:nvPicPr>
        <p:blipFill>
          <a:blip r:embed="rId1"/>
          <a:stretch/>
        </p:blipFill>
        <p:spPr>
          <a:xfrm>
            <a:off x="2846520" y="1981080"/>
            <a:ext cx="561168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618-3462-4931-95FF-39183CF09B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8069D-8E8A-4554-8D9A-2148C5704E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873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luid-filled spiral vib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fil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frequencies travel the ful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frequencies only affect the near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llia: hairs put out signals when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ing damage occurs when these are inj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at the near end are easily damaged (high frequency hearing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chlea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000320" cy="31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C53-835A-40A8-9746-59BCFDF2E2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9EC51-EE29-454D-BEC5-582F799FB7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the threshold of hearing; used to specify OSHA safety levels (dB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66A-E596-4751-B5E9-B117FFC499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312CD-090D-48CD-BB5B-A4D1341391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-Weighting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n active filter that will accurately perform A-Weighting for sound measurement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s to: Rod Elliot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http://sound.westhost.com/project17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A-weight_schematic" descr=""/>
          <p:cNvPicPr/>
          <p:nvPr/>
        </p:nvPicPr>
        <p:blipFill>
          <a:blip r:embed="rId1"/>
          <a:stretch/>
        </p:blipFill>
        <p:spPr>
          <a:xfrm>
            <a:off x="947880" y="3627360"/>
            <a:ext cx="724680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7DC-0A08-473A-8B70-781D3ECB4B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7E95B-93E3-4573-A4EC-C011B2E2A1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normal listening levels; used to specify noise in telephone systems (dB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275-7336-4647-B91F-6931FABBB2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46C94-214D-487E-8A59-EBA9F54021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F48-CBC3-4D84-86E7-38803E286F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D1C4A-653B-440E-B26A-81D72C37F8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120" y="1384200"/>
                <a:ext cx="8359920" cy="46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Energy in a time waveform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Inverse Fourier Transform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t xml:space="preserve">dω</m:t>
                                    </m:r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Substituting for one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nterchanging the order of integ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inner integral is almost the Fourier Transfor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cept for the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e complex conjugate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Energy</m:t>
                        </m:r>
                        <m:r>
                          <m:t xml:space="preserve">Spectral</m:t>
                        </m:r>
                        <m:r>
                          <m:t xml:space="preserve">Density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3F2-675F-4C67-992B-F8E64AB49FD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2A8CA-0D30-48D2-94CA-A8AC94D259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442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75740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ESD of the output of a linear system is obtained by multiplying the ESD of the input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208296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4680" y="1752480"/>
            <a:ext cx="109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9556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5160" y="175896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175896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2960" y="1927080"/>
            <a:ext cx="9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360" y="2438280"/>
                <a:ext cx="835668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changing to f eliminates the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∗</m:t>
                                    </m:r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o if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re uncorrelated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0CB-136D-4852-B3AB-955840BFBE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8653A-C151-4CC0-9AA1-1FE3353AE5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exist for all time have an infinite energy so we define power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82800" y="2590920"/>
                <a:ext cx="670068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is is energy/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≡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zero elsewhere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ich does exist and the Power is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i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∞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|"/>
                                                <m:endChr m:val="|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F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T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ECB-B9E1-4785-AE8C-5C36253246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61AA1-2B01-4242-B575-0295ECF1D9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efore, the function in the integral is a density.  This time it’s the 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e ESD and PSD functions are real and eve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06400" y="2286000"/>
                <a:ext cx="3221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SD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442-91DF-43B9-8486-79C9DEA125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CF9FB-4F5E-4159-8485-D085DAD024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ndesired signal that interferes with the reproduction of a desir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: predictable, often periodic, 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generated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unpredictable noise, gener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ochastic” process in nature or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261-88C1-44B5-A226-00FBA97CFF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D6CB8-4381-4227-AA5A-F985E10D73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” of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pectrum: distribution of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 a function of frequ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know the details of the waveform only its “average”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81B-6581-4BEA-92CB-22B5681E0E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DF01C-E1A8-4FAD-B8A8-C9EE4F09BC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analysis Introdu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ne wave of unknown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frequency inter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t) = A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known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know its value at time “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3276720"/>
            <a:ext cx="4676760" cy="2990880"/>
            <a:chOff x="1828800" y="3276720"/>
            <a:chExt cx="4676760" cy="2990880"/>
          </a:xfrm>
        </p:grpSpPr>
        <p:graphicFrame>
          <p:nvGraphicFramePr>
            <p:cNvPr id="54" name=""/>
            <p:cNvGraphicFramePr/>
            <p:nvPr/>
          </p:nvGraphicFramePr>
          <p:xfrm>
            <a:off x="1828800" y="3276720"/>
            <a:ext cx="4676760" cy="2990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276720"/>
                      <a:ext cx="4676760" cy="29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581280" y="365760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F4D-4360-4E08-8B27-76234996EB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D4D91-552C-46D1-9F89-1F345EB653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“Energy Spectral Density” is just the magnitude squared of the Fourier transform of 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ll of the energy is concentrated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ach half of the energy is at 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 Fourier transform is based on the complex exponential not sine and cos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2438280"/>
                <a:ext cx="571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752480" y="4343400"/>
            <a:ext cx="5543640" cy="1971720"/>
            <a:chOff x="1752480" y="4343400"/>
            <a:chExt cx="5543640" cy="1971720"/>
          </a:xfrm>
        </p:grpSpPr>
        <p:graphicFrame>
          <p:nvGraphicFramePr>
            <p:cNvPr id="61" name=""/>
            <p:cNvGraphicFramePr/>
            <p:nvPr/>
          </p:nvGraphicFramePr>
          <p:xfrm>
            <a:off x="1752480" y="4343400"/>
            <a:ext cx="5543640" cy="1971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343400"/>
                      <a:ext cx="55436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2846520" y="5029200"/>
              <a:ext cx="144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8560" y="5029200"/>
              <a:ext cx="180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C96-CCCC-4A05-B8DF-ED3306147A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CC193-0D48-4A60-9214-14DBB7FA15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77724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distribution” of the ‘noise”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obability that at any time t the voltage is less than or equal to a particular value “v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ies at some values ar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-A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0) =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arcsin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013360" y="2320920"/>
                <a:ext cx="1960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1800360" y="4414680"/>
          <a:ext cx="554328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4414680"/>
                    <a:ext cx="5543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207200" y="505296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3B5-5675-43CA-8780-B475C45CC3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8D406-069F-4E6F-A3AE-95E326160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6860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arcsin(v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noise spends more time near the extremes and less time near zero.  Think of a pendul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tops at the extremes and is moving slowly nea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ove fastest at the bottom and therefore spends less tim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useful function is the derivative of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robability Density Function”,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(note the lower cas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92120" y="2128680"/>
          <a:ext cx="554364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128680"/>
                    <a:ext cx="55436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4920" y="279252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0B9-6B82-4D0B-8FB7-831C5BA8C0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5BBF2-A165-4CED-B1B4-8C0C9723F0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4:07:05Z</dcterms:created>
  <dc:creator>Jeffrey N. Denenberg</dc:creator>
  <dc:description/>
  <dc:language>en-US</dc:language>
  <cp:lastModifiedBy>Jeffrey N Denenberg</cp:lastModifiedBy>
  <cp:lastPrinted>2002-11-24T18:12:09Z</cp:lastPrinted>
  <dcterms:modified xsi:type="dcterms:W3CDTF">2002-11-24T18:18:55Z</dcterms:modified>
  <cp:revision>234</cp:revision>
  <dc:subject/>
  <dc:title>Noise: An Introduction</dc:title>
</cp:coreProperties>
</file>