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796-DF2C-4B19-9A48-5BCFC538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682-72ED-46CD-A2BF-7EF86EA4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B7E-8744-4235-AE0B-875B08FF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9E3-7119-4B62-A197-F85B7A60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20D-40EA-4A5A-9352-777DD1E0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026-FEDC-469E-827B-8D7025BE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640-2BBE-42EB-95CC-52EFA4D0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57C-8C0F-4CDE-A533-3A2D794B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B21-1897-4306-BBC6-DC1702F3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F43-4041-4DE2-A112-F4F0BBAA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C6C-B617-47DC-A16E-7652A5B6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D0E-6005-435A-9D7F-0ECB59D0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65C2-ECF3-4D0C-B891-CCED95AAF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ignal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4000" y="1625760"/>
            <a:ext cx="4896000" cy="3670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 for sin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2060280"/>
            <a:ext cx="8146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step = 0.0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t1:tstep:t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Xs*sin(2*pi*fs*t+fi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lot(t, x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label('x_s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130644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dvanced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569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inline('Xs*sin(2*pi*fs*t+fi)','t','Xs','fs','fi'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lot(x,t,2e-3,1,'-',Xs,fs,fi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; ylabel('x_s'); 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08480" y="1574640"/>
                <a:ext cx="2268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79280" y="266076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Xe*exp(b*t)','t','Xe','b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-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2e-3,1,'-',Xe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e(t) = X_e e^{b t}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744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67000" y="1380960"/>
                <a:ext cx="26082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50920" y="2997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t&gt;0', 't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ignal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24560" y="3000240"/>
            <a:ext cx="4411440" cy="3308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uls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1413000"/>
                <a:ext cx="2440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≤</m:t>
                            </m:r>
                            <m:r>
                              <m:t xml:space="preserve">ε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50920" y="2646360"/>
            <a:ext cx="70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(1/e)*((t&gt;0)&amp;(t&lt;=e))','t','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 = 1/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1e-5,1000,'-'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gca,'FontSize',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_\epsilon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/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Pulse function, \epsilon = 1/100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ignal (Dirac delta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03640" y="2133720"/>
                <a:ext cx="2641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78160" y="3454560"/>
                <a:ext cx="24908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8680" y="4430880"/>
                <a:ext cx="196380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it is zero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&l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usal signals are readily created by multiplying any continuous signal by the unit step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stant when the signal begins is called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tarting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sually take the starting time to b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64040" y="220500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6704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0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 =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f = 0.5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hi = 3*pi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-5:0.05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B^a*exp(-a*t).*sin(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2*pi*f*t+ph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u = x.*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,t,u,t,x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 (s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0,1.2,'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-4,-1.1,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5,-.6,'x(t)*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t(1) t(end) -1.5 1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ignal – Sequenc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(discrete-time signal, discrete signal, data sequence, or sample set) is a collection of ordered s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practical applications we process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te-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eque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existing sequence is often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ed version of a continuous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349360" y="1346040"/>
                <a:ext cx="43862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k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70865"/>
              <a:gd name="adj4" fmla="val 272606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29578"/>
              <a:gd name="adj4" fmla="val -47842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645000"/>
            <a:ext cx="1728720" cy="431640"/>
          </a:xfrm>
          <a:prstGeom prst="borderCallout1">
            <a:avLst>
              <a:gd name="adj1" fmla="val 18750"/>
              <a:gd name="adj2" fmla="val -8333"/>
              <a:gd name="adj3" fmla="val -362500"/>
              <a:gd name="adj4" fmla="val -8787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pl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740720" y="4508640"/>
            <a:ext cx="1143000" cy="431640"/>
          </a:xfrm>
          <a:prstGeom prst="borderCallout1">
            <a:avLst>
              <a:gd name="adj1" fmla="val 18750"/>
              <a:gd name="adj2" fmla="val -8333"/>
              <a:gd name="adj3" fmla="val -494851"/>
              <a:gd name="adj4" fmla="val -216111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inuous or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crete-tim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discret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ized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git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us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ndom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entation of signals in 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LA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02080" y="1555920"/>
                <a:ext cx="2079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79280" y="2660760"/>
            <a:ext cx="381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0.7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e*a.^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{e,k} = X_e a^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97440" y="2530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0920" y="299736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7440" y="2746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67280" y="281952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50920" y="299736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\delta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impulse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that is nonzero only over a finite interval of indices is called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whose samples are zero-valued for negative indices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Anti-causal 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can hav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nzero samples only for negative indi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557360"/>
            <a:ext cx="42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94; a = 0.1; f = 0.3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-10:1: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(B.^k).*cos(2*pi*f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x = x.*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x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 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5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ntized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urpose of sampling a continuous signal is to transmit, store, or process a limited number of samples that are represented by a limited number of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y using fewer digits we attain faster transmission and smaller storage requirements for the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tilize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quantiz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amples rather than the true samples of infinite accurac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hoice of digits for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ice of digits for quantization should be done properly: in transmitting, storing, and processing we pref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ss dig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 too small a number of digits we ca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formation from the original sig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posing requirements must be satisfi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cilitat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signal transmission or storing, a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x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ep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quantization error as low as necessary in order to preserve the infor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00196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0: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0.2+2*sin(0.245*t+0.1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d = 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q = d*round(x/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t,xq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, x_q(k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analog signal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digital (quantized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22720" y="1538280"/>
            <a:ext cx="4950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terministic and random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 be described by an explicit mathematical for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rministic signal can be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eriod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iodic signal consists of a basic shape of finite duration that is replicated infinit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not be described in an explicit mathematical for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also known a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ondeterminist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tocha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03600" y="2251080"/>
            <a:ext cx="5502240" cy="3870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[0 s m 1]; 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Uniform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ignal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: voice of my friend is a signal which causes me to perform certain actions or react in a particular wa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friend's voice is called an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exci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action or reaction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5600" y="1822320"/>
            <a:ext cx="561348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n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sort([-2 s m 2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Normal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ignal process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conversion from excitation to response is called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typical reason for signal processing is to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iminate or redu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 undesirabl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ver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e original signal into a form that is suitable for further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fundamental representation of a signal is as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t least one independent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wavefor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variation of the signal value as a function of the independent variable is called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wavefor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dependent variable often represent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define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function of one independent variable that contains information about the behavior or nature of a phenomen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 or analog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ignal that exists at every instant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jargon of the trade, a continuous signal is often referred to as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tim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dependent variable is 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 signal can assu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y valu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ver a continuous range of numb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defined only for discrete values of time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screte-time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simply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iscret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 signal can be obtained by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ampl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n analog signal at discrete instan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gital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discrete-time signal whose values are represented by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ampl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pturing a signal at an instant in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ing means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mplitude valu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signal at certain time insta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Uniform 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ampling ever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uni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06760" y="4484520"/>
                <a:ext cx="529452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19640" y="5373720"/>
                <a:ext cx="1285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95360" y="5229360"/>
            <a:ext cx="1871640" cy="1152360"/>
          </a:xfrm>
          <a:prstGeom prst="wedgeRoundRectCallout">
            <a:avLst>
              <a:gd name="adj1" fmla="val 100722"/>
              <a:gd name="adj2" fmla="val 1239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frequency o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816520"/>
            <a:ext cx="2089080" cy="792360"/>
          </a:xfrm>
          <a:prstGeom prst="wedgeRoundRectCallout">
            <a:avLst>
              <a:gd name="adj1" fmla="val -86930"/>
              <a:gd name="adj2" fmla="val 491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tep or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e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38360" y="1631880"/>
                <a:ext cx="4008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245360" y="4797360"/>
            <a:ext cx="1584360" cy="647640"/>
          </a:xfrm>
          <a:prstGeom prst="borderCallout1">
            <a:avLst>
              <a:gd name="adj1" fmla="val 18750"/>
              <a:gd name="adj2" fmla="val -8333"/>
              <a:gd name="adj3" fmla="val -393138"/>
              <a:gd name="adj4" fmla="val -11953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quency in Hertz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15920" y="2938320"/>
            <a:ext cx="5038920" cy="3778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28918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18324"/>
              <a:gd name="adj4" fmla="val -63453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3645000"/>
            <a:ext cx="1728720" cy="718920"/>
          </a:xfrm>
          <a:prstGeom prst="borderCallout1">
            <a:avLst>
              <a:gd name="adj1" fmla="val 18750"/>
              <a:gd name="adj2" fmla="val -8333"/>
              <a:gd name="adj3" fmla="val -200662"/>
              <a:gd name="adj4" fmla="val -95685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in second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4-11-29T14:55:22Z</dcterms:modified>
  <cp:revision>73</cp:revision>
  <dc:subject>Analog and Digital  Filter Design</dc:subject>
  <dc:title>Rewiev signals</dc:title>
</cp:coreProperties>
</file>