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0746E-E5F8-4DC2-945D-670C0724C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CF719-DCA2-4F79-BE54-7AAE49C57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D27BD-CA69-4422-991E-14CF9C3CC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A8B87-338B-4216-8F14-7F862A3E0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10177-7099-4159-9388-483A3E038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F9605-805F-4EF7-9BDE-129B9E9F0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FBF0C-9865-4BD9-B253-2E0AD6EB5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CF5A6-CA91-43AD-9C6E-E467AB499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A5285-BA99-4A3A-8EB5-5090BC701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C673C-411C-44D4-B7ED-9622454F4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7B8C4-2679-4358-B82E-B988D85F6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A4FF9-6897-4ACC-AD0E-9077BD116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21FAB-9D89-4167-9922-E8BBCBBDAE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00"/>
                </a:solidFill>
                <a:latin typeface="Arial"/>
              </a:rPr>
              <a:t>Analog and Digital Filter Design </a:t>
            </a:r>
            <a:br>
              <a:rPr sz="4000"/>
            </a:br>
            <a:r>
              <a:rPr b="1" lang="en-US" sz="4000" spc="-1" strike="noStrike">
                <a:solidFill>
                  <a:srgbClr val="800000"/>
                </a:solidFill>
                <a:latin typeface="Arial"/>
              </a:rPr>
              <a:t>Review Systems</a:t>
            </a:r>
            <a:endParaRPr b="0" lang="en-US" sz="4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03280" y="4221000"/>
            <a:ext cx="6440400" cy="6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Miroslav Lutovac and Dejan Tosic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Analysis and design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00000"/>
                </a:solidFill>
                <a:latin typeface="Arial"/>
              </a:rPr>
              <a:t>Analysis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of a system is investigation of the properties and the behavior (response) of an existing system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00000"/>
                </a:solidFill>
                <a:latin typeface="Arial"/>
              </a:rPr>
              <a:t>Design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of a system is the choice and arrangement of systems components to perform a specific task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66"/>
                </a:solidFill>
                <a:latin typeface="Arial"/>
              </a:rPr>
              <a:t>Design by analysis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is accomplished by modifying the characteristics of an existing system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66"/>
                </a:solidFill>
                <a:latin typeface="Arial"/>
              </a:rPr>
              <a:t>Design by synthesis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: we define the form of the system directly from its specification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Block diagram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00000"/>
                </a:solidFill>
                <a:latin typeface="Arial"/>
              </a:rPr>
              <a:t>Block diagram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is a pictorial representation of a system that provides a method for characterizing the relationships among the component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ingle block with one input and one output is the simplest form of the block diagram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Interior of the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rectangle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representing the block contains (a) component name, </a:t>
            </a:r>
            <a:br>
              <a:rPr sz="2800"/>
            </a:b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(b) component description, or </a:t>
            </a:r>
            <a:br>
              <a:rPr sz="2800"/>
            </a:b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(c) the symbol for the mathematical operation to be performed on input to yield outpu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rrows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represent the </a:t>
            </a:r>
            <a:br>
              <a:rPr sz="2800"/>
            </a:b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direction of signal flow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5541840" y="5516640"/>
          <a:ext cx="2990880" cy="107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41840" y="5516640"/>
                    <a:ext cx="2990880" cy="107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Elements of block diagram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1690560" y="1432080"/>
          <a:ext cx="5762880" cy="1133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0560" y="1432080"/>
                    <a:ext cx="5762880" cy="113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539640" y="2860560"/>
            <a:ext cx="3876840" cy="280044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4"/>
          <a:stretch/>
        </p:blipFill>
        <p:spPr>
          <a:xfrm>
            <a:off x="5037120" y="3533760"/>
            <a:ext cx="3638520" cy="119052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108000" y="5950080"/>
            <a:ext cx="2089080" cy="431640"/>
          </a:xfrm>
          <a:prstGeom prst="wedgeRoundRectCallout">
            <a:avLst>
              <a:gd name="adj1" fmla="val 41032"/>
              <a:gd name="adj2" fmla="val -316546"/>
              <a:gd name="adj3" fmla="val 16667"/>
            </a:avLst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Summing po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586560" y="5950080"/>
            <a:ext cx="2089080" cy="431640"/>
          </a:xfrm>
          <a:prstGeom prst="wedgeRoundRectCallout">
            <a:avLst>
              <a:gd name="adj1" fmla="val -39439"/>
              <a:gd name="adj2" fmla="val -319851"/>
              <a:gd name="adj3" fmla="val 16667"/>
            </a:avLst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Takeoff po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08000" y="1628640"/>
            <a:ext cx="5048280" cy="8575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Interconnections of blocks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443640" y="1413000"/>
            <a:ext cx="2449440" cy="649080"/>
          </a:xfrm>
          <a:prstGeom prst="wedgeRoundRectCallout">
            <a:avLst>
              <a:gd name="adj1" fmla="val -120449"/>
              <a:gd name="adj2" fmla="val 23106"/>
              <a:gd name="adj3" fmla="val 16667"/>
            </a:avLst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Blocks connected in casc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108000" y="4622760"/>
            <a:ext cx="5371920" cy="219096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3419640" y="2565360"/>
            <a:ext cx="5638680" cy="21528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106200" y="3141720"/>
            <a:ext cx="2449800" cy="649080"/>
          </a:xfrm>
          <a:prstGeom prst="wedgeRoundRectCallout">
            <a:avLst>
              <a:gd name="adj1" fmla="val 102430"/>
              <a:gd name="adj2" fmla="val 18949"/>
              <a:gd name="adj3" fmla="val 16667"/>
            </a:avLst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Blocks connected in feedb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443640" y="5587920"/>
            <a:ext cx="2449440" cy="649440"/>
          </a:xfrm>
          <a:prstGeom prst="wedgeRoundRectCallout">
            <a:avLst>
              <a:gd name="adj1" fmla="val -120449"/>
              <a:gd name="adj2" fmla="val 23106"/>
              <a:gd name="adj3" fmla="val 16667"/>
            </a:avLst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Blocks connected in parall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State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r some systems, the output at time </a:t>
            </a:r>
            <a:r>
              <a:rPr b="0" i="1" lang="en-US" sz="3200" spc="-1" strike="noStrike">
                <a:solidFill>
                  <a:srgbClr val="000066"/>
                </a:solidFill>
                <a:latin typeface="Arial"/>
              </a:rPr>
              <a:t>t</a:t>
            </a:r>
            <a:r>
              <a:rPr b="0" lang="en-US" sz="3200" spc="-1" strike="noStrike" baseline="-25000">
                <a:solidFill>
                  <a:srgbClr val="000066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depends not only on the input applied at </a:t>
            </a:r>
            <a:r>
              <a:rPr b="0" i="1" lang="en-US" sz="3200" spc="-1" strike="noStrike">
                <a:solidFill>
                  <a:srgbClr val="000066"/>
                </a:solidFill>
                <a:latin typeface="Arial"/>
              </a:rPr>
              <a:t>t</a:t>
            </a:r>
            <a:r>
              <a:rPr b="0" lang="en-US" sz="3200" spc="-1" strike="noStrike" baseline="-25000">
                <a:solidFill>
                  <a:srgbClr val="000066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, but also on the input applied before </a:t>
            </a:r>
            <a:r>
              <a:rPr b="0" i="1" lang="en-US" sz="3200" spc="-1" strike="noStrike">
                <a:solidFill>
                  <a:srgbClr val="000066"/>
                </a:solidFill>
                <a:latin typeface="Arial"/>
              </a:rPr>
              <a:t>t</a:t>
            </a:r>
            <a:r>
              <a:rPr b="0" lang="en-US" sz="3200" spc="-1" strike="noStrike" baseline="-25000">
                <a:solidFill>
                  <a:srgbClr val="000066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e</a:t>
            </a:r>
            <a:r>
              <a:rPr b="1" i="1" lang="en-US" sz="3200" spc="-1" strike="noStrike">
                <a:solidFill>
                  <a:srgbClr val="800000"/>
                </a:solidFill>
                <a:latin typeface="Arial"/>
              </a:rPr>
              <a:t> state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is the information at </a:t>
            </a:r>
            <a:r>
              <a:rPr b="0" i="1" lang="en-US" sz="3200" spc="-1" strike="noStrike">
                <a:solidFill>
                  <a:srgbClr val="000066"/>
                </a:solidFill>
                <a:latin typeface="Arial"/>
              </a:rPr>
              <a:t>t</a:t>
            </a:r>
            <a:r>
              <a:rPr b="0" lang="en-US" sz="3200" spc="-1" strike="noStrike" baseline="-25000">
                <a:solidFill>
                  <a:srgbClr val="000066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that, together with input for </a:t>
            </a:r>
            <a:r>
              <a:rPr b="0" i="1" lang="en-US" sz="3200" spc="-1" strike="noStrike">
                <a:solidFill>
                  <a:srgbClr val="000066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  <a:ea typeface="Arial"/>
              </a:rPr>
              <a:t>≥ </a:t>
            </a:r>
            <a:r>
              <a:rPr b="0" i="1" lang="en-US" sz="3200" spc="-1" strike="noStrike">
                <a:solidFill>
                  <a:srgbClr val="000066"/>
                </a:solidFill>
                <a:latin typeface="Arial"/>
              </a:rPr>
              <a:t>t</a:t>
            </a:r>
            <a:r>
              <a:rPr b="0" lang="en-US" sz="3200" spc="-1" strike="noStrike" baseline="-25000">
                <a:solidFill>
                  <a:srgbClr val="000066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, determines uniquely output for </a:t>
            </a:r>
            <a:r>
              <a:rPr b="0" i="1" lang="en-US" sz="3200" spc="-1" strike="noStrike">
                <a:solidFill>
                  <a:srgbClr val="000066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  <a:ea typeface="Arial"/>
              </a:rPr>
              <a:t>≥ </a:t>
            </a:r>
            <a:r>
              <a:rPr b="0" i="1" lang="en-US" sz="3200" spc="-1" strike="noStrike">
                <a:solidFill>
                  <a:srgbClr val="000066"/>
                </a:solidFill>
                <a:latin typeface="Arial"/>
              </a:rPr>
              <a:t>t</a:t>
            </a:r>
            <a:r>
              <a:rPr b="0" lang="en-US" sz="3200" spc="-1" strike="noStrike" baseline="-25000">
                <a:solidFill>
                  <a:srgbClr val="000066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Arial"/>
              </a:rPr>
              <a:t>Dynamical equation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is the set of equations that describes unique relations between the input, output, and state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Relaxed system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A system is said to be </a:t>
            </a:r>
            <a:r>
              <a:rPr b="1" i="1" lang="en-US" sz="3200" spc="-1" strike="noStrike">
                <a:solidFill>
                  <a:srgbClr val="800000"/>
                </a:solidFill>
                <a:latin typeface="Arial"/>
              </a:rPr>
              <a:t>relaxed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at time </a:t>
            </a:r>
            <a:r>
              <a:rPr b="0" i="1" lang="en-US" sz="3200" spc="-1" strike="noStrike">
                <a:solidFill>
                  <a:srgbClr val="000066"/>
                </a:solidFill>
                <a:latin typeface="Arial"/>
              </a:rPr>
              <a:t>t</a:t>
            </a:r>
            <a:r>
              <a:rPr b="0" lang="en-US" sz="3200" spc="-1" strike="noStrike" baseline="-25000">
                <a:solidFill>
                  <a:srgbClr val="000066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if the output for </a:t>
            </a:r>
            <a:r>
              <a:rPr b="0" i="1" lang="en-US" sz="3200" spc="-1" strike="noStrike">
                <a:solidFill>
                  <a:srgbClr val="000066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  <a:ea typeface="Arial"/>
              </a:rPr>
              <a:t>≥ </a:t>
            </a:r>
            <a:r>
              <a:rPr b="0" i="1" lang="en-US" sz="3200" spc="-1" strike="noStrike">
                <a:solidFill>
                  <a:srgbClr val="000066"/>
                </a:solidFill>
                <a:latin typeface="Arial"/>
              </a:rPr>
              <a:t>t</a:t>
            </a:r>
            <a:r>
              <a:rPr b="0" lang="en-US" sz="3200" spc="-1" strike="noStrike" baseline="-25000">
                <a:solidFill>
                  <a:srgbClr val="000066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is solely and uniquely determined by the 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input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for </a:t>
            </a:r>
            <a:r>
              <a:rPr b="0" i="1" lang="en-US" sz="3200" spc="-1" strike="noStrike">
                <a:solidFill>
                  <a:srgbClr val="000066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  <a:ea typeface="Arial"/>
              </a:rPr>
              <a:t>≥ </a:t>
            </a:r>
            <a:r>
              <a:rPr b="0" i="1" lang="en-US" sz="3200" spc="-1" strike="noStrike">
                <a:solidFill>
                  <a:srgbClr val="000066"/>
                </a:solidFill>
                <a:latin typeface="Arial"/>
              </a:rPr>
              <a:t>t</a:t>
            </a:r>
            <a:r>
              <a:rPr b="0" lang="en-US" sz="3200" spc="-1" strike="noStrike" baseline="-25000">
                <a:solidFill>
                  <a:srgbClr val="000066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If the concept of 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energy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is applicable, the system is said to be relaxed at </a:t>
            </a:r>
            <a:r>
              <a:rPr b="0" i="1" lang="en-US" sz="3200" spc="-1" strike="noStrike">
                <a:solidFill>
                  <a:srgbClr val="000066"/>
                </a:solidFill>
                <a:latin typeface="Arial"/>
              </a:rPr>
              <a:t>t</a:t>
            </a:r>
            <a:r>
              <a:rPr b="0" lang="en-US" sz="3200" spc="-1" strike="noStrike" baseline="-25000">
                <a:solidFill>
                  <a:srgbClr val="000066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if no energy is stored in the system at </a:t>
            </a:r>
            <a:r>
              <a:rPr b="0" i="1" lang="en-US" sz="3200" spc="-1" strike="noStrike">
                <a:solidFill>
                  <a:srgbClr val="000066"/>
                </a:solidFill>
                <a:latin typeface="Arial"/>
              </a:rPr>
              <a:t>t</a:t>
            </a:r>
            <a:r>
              <a:rPr b="0" lang="en-US" sz="3200" spc="-1" strike="noStrike" baseline="-25000">
                <a:solidFill>
                  <a:srgbClr val="000066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A system is said to be </a:t>
            </a:r>
            <a:r>
              <a:rPr b="1" i="1" lang="en-US" sz="3200" spc="-1" strike="noStrike">
                <a:solidFill>
                  <a:srgbClr val="800000"/>
                </a:solidFill>
                <a:latin typeface="Arial"/>
              </a:rPr>
              <a:t>zero-input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if the output for </a:t>
            </a:r>
            <a:r>
              <a:rPr b="0" i="1" lang="en-US" sz="3200" spc="-1" strike="noStrike">
                <a:solidFill>
                  <a:srgbClr val="000066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  <a:ea typeface="Arial"/>
              </a:rPr>
              <a:t>≥ </a:t>
            </a:r>
            <a:r>
              <a:rPr b="0" i="1" lang="en-US" sz="3200" spc="-1" strike="noStrike">
                <a:solidFill>
                  <a:srgbClr val="000066"/>
                </a:solidFill>
                <a:latin typeface="Arial"/>
              </a:rPr>
              <a:t>t</a:t>
            </a:r>
            <a:r>
              <a:rPr b="0" lang="en-US" sz="3200" spc="-1" strike="noStrike" baseline="-25000">
                <a:solidFill>
                  <a:srgbClr val="000066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is solely and uniquely determined by the 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state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Causality and stability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A system is called </a:t>
            </a:r>
            <a:r>
              <a:rPr b="1" i="1" lang="en-US" sz="2800" spc="-1" strike="noStrike">
                <a:solidFill>
                  <a:srgbClr val="800000"/>
                </a:solidFill>
                <a:latin typeface="Arial"/>
              </a:rPr>
              <a:t>causal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if the output depends only on the present and past values of the inpu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Intuitively, a </a:t>
            </a:r>
            <a:r>
              <a:rPr b="1" i="1" lang="en-US" sz="2800" spc="-1" strike="noStrike">
                <a:solidFill>
                  <a:srgbClr val="800000"/>
                </a:solidFill>
                <a:latin typeface="Arial"/>
              </a:rPr>
              <a:t>stable system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is one that will remain at rest unless excited by an external source and will return to rest if all excitations are removed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A relaxed system is </a:t>
            </a:r>
            <a:r>
              <a:rPr b="1" i="1" lang="en-US" sz="2800" spc="-1" strike="noStrike">
                <a:solidFill>
                  <a:srgbClr val="000066"/>
                </a:solidFill>
                <a:latin typeface="Arial"/>
              </a:rPr>
              <a:t>BIBO stable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(bounded-input bounded-output) if every bounded input produces a bounded outpu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Time-invariant system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A relaxed system is </a:t>
            </a:r>
            <a:r>
              <a:rPr b="1" i="1" lang="en-US" sz="3200" spc="-1" strike="noStrike">
                <a:solidFill>
                  <a:srgbClr val="800000"/>
                </a:solidFill>
                <a:latin typeface="Arial"/>
              </a:rPr>
              <a:t>time-invariant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if a time shift in the input signal causes a </a:t>
            </a:r>
            <a:br>
              <a:rPr sz="3200"/>
            </a:b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ime shift in the output signa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In the case of discrete-time digital systems, we often use the term </a:t>
            </a:r>
            <a:br>
              <a:rPr sz="3200"/>
            </a:br>
            <a:r>
              <a:rPr b="1" i="1" lang="en-US" sz="3200" spc="-1" strike="noStrike">
                <a:solidFill>
                  <a:srgbClr val="000066"/>
                </a:solidFill>
                <a:latin typeface="Arial"/>
              </a:rPr>
              <a:t>shift-invariant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instead of time-invarian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haracteristics and parameters of a time-invariant system 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do not change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with time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Linear system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onsider a relaxed system in which there is one independent variable 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A </a:t>
            </a:r>
            <a:r>
              <a:rPr b="1" i="1" lang="en-US" sz="3200" spc="-1" strike="noStrike">
                <a:solidFill>
                  <a:srgbClr val="800000"/>
                </a:solidFill>
                <a:latin typeface="Arial"/>
              </a:rPr>
              <a:t>linear system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is a system which has the property that if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input 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0066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produces an output 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y</a:t>
            </a:r>
            <a:r>
              <a:rPr b="0" lang="en-US" sz="3200" spc="-1" strike="noStrike" baseline="-25000">
                <a:solidFill>
                  <a:srgbClr val="000066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(t)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and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input 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0066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produces an output 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y</a:t>
            </a:r>
            <a:r>
              <a:rPr b="0" lang="en-US" sz="3200" spc="-1" strike="noStrike" baseline="-25000">
                <a:solidFill>
                  <a:srgbClr val="000066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, then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input 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c</a:t>
            </a:r>
            <a:r>
              <a:rPr b="0" lang="en-US" sz="3200" spc="-1" strike="noStrike" baseline="-25000">
                <a:solidFill>
                  <a:srgbClr val="000066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0066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) + 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c</a:t>
            </a:r>
            <a:r>
              <a:rPr b="0" lang="en-US" sz="3200" spc="-1" strike="noStrike" baseline="-25000">
                <a:solidFill>
                  <a:srgbClr val="000066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0066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produces an </a:t>
            </a:r>
            <a:br>
              <a:rPr sz="3200"/>
            </a:b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output 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c</a:t>
            </a:r>
            <a:r>
              <a:rPr b="0" lang="en-US" sz="3200" spc="-1" strike="noStrike" baseline="-25000">
                <a:solidFill>
                  <a:srgbClr val="000066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y</a:t>
            </a:r>
            <a:r>
              <a:rPr b="0" lang="en-US" sz="3200" spc="-1" strike="noStrike" baseline="-25000">
                <a:solidFill>
                  <a:srgbClr val="000066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) + 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c</a:t>
            </a:r>
            <a:r>
              <a:rPr b="0" lang="en-US" sz="3200" spc="-1" strike="noStrike" baseline="-25000">
                <a:solidFill>
                  <a:srgbClr val="000066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y</a:t>
            </a:r>
            <a:r>
              <a:rPr b="0" lang="en-US" sz="3200" spc="-1" strike="noStrike" baseline="-25000">
                <a:solidFill>
                  <a:srgbClr val="000066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for any 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0066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), 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0066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and arbitrary constants 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c</a:t>
            </a:r>
            <a:r>
              <a:rPr b="0" lang="en-US" sz="3200" spc="-1" strike="noStrike" baseline="-25000">
                <a:solidFill>
                  <a:srgbClr val="000066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c</a:t>
            </a:r>
            <a:r>
              <a:rPr b="0" lang="en-US" sz="3200" spc="-1" strike="noStrike" baseline="-25000">
                <a:solidFill>
                  <a:srgbClr val="000066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Principle of superposition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3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e response 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of a linear system due to several inputs 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0066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), 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0066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), … 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x</a:t>
            </a:r>
            <a:r>
              <a:rPr b="0" i="1" lang="en-US" sz="3200" spc="-1" strike="noStrike" baseline="-25000">
                <a:solidFill>
                  <a:srgbClr val="000066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acting simultaneously is equal to the sum of the responses of each input acting alone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If 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y</a:t>
            </a:r>
            <a:r>
              <a:rPr b="0" i="1" lang="en-US" sz="3200" spc="-1" strike="noStrike" baseline="-25000">
                <a:solidFill>
                  <a:srgbClr val="000066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is the response due to the input 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x</a:t>
            </a:r>
            <a:r>
              <a:rPr b="0" i="1" lang="en-US" sz="3200" spc="-1" strike="noStrike" baseline="-25000">
                <a:solidFill>
                  <a:srgbClr val="000066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, then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2987640" y="4724280"/>
                <a:ext cx="3113280" cy="167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Definition of a system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Block diagram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ystem properties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Linear time-invariant (LTI) system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Response of LTI systems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onvolution 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MATLAB exercises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00"/>
                </a:solidFill>
                <a:latin typeface="Arial"/>
              </a:rPr>
              <a:t>Linear time-invariant (LTI) system</a:t>
            </a:r>
            <a:endParaRPr b="0" lang="en-US" sz="40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2505240" y="2616120"/>
            <a:ext cx="4133520" cy="15336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590840" y="5157720"/>
            <a:ext cx="5962320" cy="141912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250920" y="1790640"/>
            <a:ext cx="856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Continuous-time system is </a:t>
            </a:r>
            <a:r>
              <a:rPr b="1" i="1" lang="en-US" sz="2000" spc="-1" strike="noStrike">
                <a:solidFill>
                  <a:srgbClr val="800000"/>
                </a:solidFill>
                <a:latin typeface="Arial"/>
              </a:rPr>
              <a:t>LTI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if its input-output relationship can be described by the ordinary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linear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nstant coefficient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differential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eq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95280" y="4292640"/>
            <a:ext cx="828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Discrete-time system is </a:t>
            </a:r>
            <a:r>
              <a:rPr b="1" i="1" lang="en-US" sz="2000" spc="-1" strike="noStrike">
                <a:solidFill>
                  <a:srgbClr val="800000"/>
                </a:solidFill>
                <a:latin typeface="Arial"/>
              </a:rPr>
              <a:t>LTI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if its input-output relationship can be described by the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linear constant coefficients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difference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eq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Response of an LTI system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800000"/>
                </a:solidFill>
                <a:latin typeface="Arial"/>
              </a:rPr>
              <a:t>Free response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(</a:t>
            </a: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zero-input response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) is the solution of the differential equation when the input is zero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800000"/>
                </a:solidFill>
                <a:latin typeface="Arial"/>
              </a:rPr>
              <a:t>Forced response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(</a:t>
            </a: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zero-state response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) is the solution of the differential equation when the state is zero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800000"/>
                </a:solidFill>
                <a:latin typeface="Arial"/>
              </a:rPr>
              <a:t>Total response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is the sum of the free response and the forced respons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otal response can be viewed, also, as the sum of the steady-state response and transient respons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800000"/>
                </a:solidFill>
                <a:latin typeface="Arial"/>
              </a:rPr>
              <a:t>Steady-state response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is that part of the total response which does not approach zero as time approaches infinity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800000"/>
                </a:solidFill>
                <a:latin typeface="Arial"/>
              </a:rPr>
              <a:t>Transient response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is that part of the total response which approaches zero as time goes to infinity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00"/>
                </a:solidFill>
                <a:latin typeface="Arial"/>
              </a:rPr>
              <a:t>Procedure for analyzing a system</a:t>
            </a:r>
            <a:endParaRPr b="0" lang="en-US" sz="4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Determine the equations </a:t>
            </a:r>
            <a:br>
              <a:rPr sz="3200"/>
            </a:b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r each system componen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hoose a model for representing the system (e.g., block diagram)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rmulate the system model by appropriately connected the components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Determine the system characteristics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Convolution integral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24000" y="1599840"/>
            <a:ext cx="8424720" cy="34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Unit </a:t>
            </a:r>
            <a:r>
              <a:rPr b="1" i="1" lang="en-US" sz="3200" spc="-1" strike="noStrike">
                <a:solidFill>
                  <a:srgbClr val="800000"/>
                </a:solidFill>
                <a:latin typeface="Arial"/>
              </a:rPr>
              <a:t>impulse response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is the output of a continuous-time LTI system to a unit impulse input when the state is zero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If we know the input and impulse response of a causal LTI system, the forced response can be found by the </a:t>
            </a:r>
            <a:r>
              <a:rPr b="1" i="1" lang="en-US" sz="3200" spc="-1" strike="noStrike">
                <a:solidFill>
                  <a:srgbClr val="800000"/>
                </a:solidFill>
                <a:latin typeface="Arial"/>
              </a:rPr>
              <a:t>convolution integra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1808280" y="4773600"/>
                <a:ext cx="5472000" cy="18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t</m:t>
                        </m:r>
                      </m:sup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δ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τ</m:t>
                        </m:r>
                        <m:r>
                          <m:t xml:space="preserve">)</m:t>
                        </m:r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τ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dτ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Transient system specifications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17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Unit </a:t>
            </a:r>
            <a:r>
              <a:rPr b="1" i="1" lang="en-US" sz="2800" spc="-1" strike="noStrike">
                <a:solidFill>
                  <a:srgbClr val="800000"/>
                </a:solidFill>
                <a:latin typeface="Arial"/>
              </a:rPr>
              <a:t>step response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is the output of an LTI system to a unit step input when the state is zero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66"/>
                </a:solidFill>
                <a:latin typeface="Arial"/>
              </a:rPr>
              <a:t>Overshoot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, </a:t>
            </a:r>
            <a:r>
              <a:rPr b="1" i="1" lang="en-US" sz="2800" spc="-1" strike="noStrike">
                <a:solidFill>
                  <a:srgbClr val="000066"/>
                </a:solidFill>
                <a:latin typeface="Arial"/>
              </a:rPr>
              <a:t>Delay time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, </a:t>
            </a:r>
            <a:r>
              <a:rPr b="1" i="1" lang="en-US" sz="2800" spc="-1" strike="noStrike">
                <a:solidFill>
                  <a:srgbClr val="000066"/>
                </a:solidFill>
                <a:latin typeface="Arial"/>
              </a:rPr>
              <a:t>Rise time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, </a:t>
            </a:r>
            <a:r>
              <a:rPr b="1" i="1" lang="en-US" sz="2800" spc="-1" strike="noStrike">
                <a:solidFill>
                  <a:srgbClr val="000066"/>
                </a:solidFill>
                <a:latin typeface="Arial"/>
              </a:rPr>
              <a:t>Settling time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468360" y="3746520"/>
            <a:ext cx="3762360" cy="24192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788000" y="3765600"/>
            <a:ext cx="3781440" cy="24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Convolution sum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24000" y="1599840"/>
            <a:ext cx="8424720" cy="34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Unit </a:t>
            </a:r>
            <a:r>
              <a:rPr b="1" i="1" lang="en-US" sz="3200" spc="-1" strike="noStrike">
                <a:solidFill>
                  <a:srgbClr val="800000"/>
                </a:solidFill>
                <a:latin typeface="Arial"/>
              </a:rPr>
              <a:t>impulse response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is the output of a discrete-time LTI system to a unit impulse input when the state is zero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If we know the input and impulse response of a causal LTI system, the forced response can be found by the </a:t>
            </a:r>
            <a:r>
              <a:rPr b="1" i="1" lang="en-US" sz="3200" spc="-1" strike="noStrike">
                <a:solidFill>
                  <a:srgbClr val="800000"/>
                </a:solidFill>
                <a:latin typeface="Arial"/>
              </a:rPr>
              <a:t>convolution sum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1909800" y="4848120"/>
                <a:ext cx="5270400" cy="167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ν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ν</m:t>
                        </m:r>
                      </m:sup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δ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ν</m:t>
                        </m:r>
                        <m:r>
                          <m:t xml:space="preserve">−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MATLAB exercise 2.1, page 62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79280" y="1628640"/>
            <a:ext cx="43927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h = inline('exp(-t).*(t&gt;0)', 't');</a:t>
            </a:r>
            <a:br>
              <a:rPr sz="1600"/>
            </a:b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x = inline('sin(t).*(t&gt;0)', 't');</a:t>
            </a:r>
            <a:br>
              <a:rPr sz="1600"/>
            </a:b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u = inline('exp(-(t-tau)).*(…</a:t>
            </a:r>
            <a:br>
              <a:rPr sz="1600"/>
            </a:b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(t-tau)&gt;0).*sin(tau).*(tau&gt;0)', 'tau', 't');</a:t>
            </a:r>
            <a:br>
              <a:rPr sz="1600"/>
            </a:b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r=inline('0.5*(exp(-t)-cos(t)+sin(t)).*(t&gt;0)','t');</a:t>
            </a:r>
            <a:br>
              <a:rPr sz="1600"/>
            </a:b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t1 = 0; t2 = 6; TR = [t1, t2];</a:t>
            </a:r>
            <a:br>
              <a:rPr sz="1600"/>
            </a:b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ubplot(2,1,1)</a:t>
            </a:r>
            <a:br>
              <a:rPr sz="1600"/>
            </a:b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fplot(h, TR, 2e-3, 1, ':b')</a:t>
            </a:r>
            <a:br>
              <a:rPr sz="1600"/>
            </a:b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hold on; fplot(x, TR, 2e-3, 1, '-r')</a:t>
            </a:r>
            <a:br>
              <a:rPr sz="1600"/>
            </a:b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hold off</a:t>
            </a:r>
            <a:br>
              <a:rPr sz="1600"/>
            </a:b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legend('impulse response', 'input')</a:t>
            </a:r>
            <a:br>
              <a:rPr sz="1600"/>
            </a:b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ti = t1:0.2:t2; y = [];</a:t>
            </a:r>
            <a:br>
              <a:rPr sz="1600"/>
            </a:b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for i = 1:length(ti)</a:t>
            </a:r>
            <a:br>
              <a:rPr sz="1600"/>
            </a:b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y = [y, quad(u,0,ti(i),1e-8,0,ti(i))];</a:t>
            </a:r>
            <a:br>
              <a:rPr sz="1600"/>
            </a:b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end;</a:t>
            </a:r>
            <a:br>
              <a:rPr sz="1600"/>
            </a:b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ubplot(2,1,2); plot(ti, y);</a:t>
            </a:r>
            <a:br>
              <a:rPr sz="1600"/>
            </a:b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xlabel('t'); ylabel('forced response')</a:t>
            </a:r>
            <a:br>
              <a:rPr sz="1600"/>
            </a:b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hold on; fplot(r, TR, 2e-2, 1, 'or')</a:t>
            </a:r>
            <a:br>
              <a:rPr sz="1600"/>
            </a:b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legend('numerical', 'exact'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4745160" y="1700280"/>
          <a:ext cx="4219560" cy="45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45160" y="1700280"/>
                    <a:ext cx="421956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MATLAB exercise 2.5, page 62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971640" y="1744560"/>
            <a:ext cx="302400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k = 0:15;</a:t>
            </a:r>
            <a:br>
              <a:rPr sz="1600"/>
            </a:b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h = ((0.7).^k).*(k&gt;=0);</a:t>
            </a:r>
            <a:br>
              <a:rPr sz="1600"/>
            </a:b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x = (k&gt;=0) - (k&gt;=4);</a:t>
            </a:r>
            <a:br>
              <a:rPr sz="1600"/>
            </a:b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 = conv(h,x); </a:t>
            </a:r>
            <a:br>
              <a:rPr sz="1600"/>
            </a:b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y = c(1:length(x)); </a:t>
            </a:r>
            <a:br>
              <a:rPr sz="1600"/>
            </a:b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ubplot(3,1,1); </a:t>
            </a:r>
            <a:br>
              <a:rPr sz="1600"/>
            </a:b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tem(k,h,'g'); </a:t>
            </a:r>
            <a:br>
              <a:rPr sz="1600"/>
            </a:b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ylabel('h_k','FontSize',14); </a:t>
            </a:r>
            <a:br>
              <a:rPr sz="1600"/>
            </a:b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axis([k(1) k(end) -1 2]); </a:t>
            </a:r>
            <a:br>
              <a:rPr sz="1600"/>
            </a:b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ubplot(3,1,2); </a:t>
            </a:r>
            <a:br>
              <a:rPr sz="1600"/>
            </a:b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tem(k,x,'b'); </a:t>
            </a:r>
            <a:br>
              <a:rPr sz="1600"/>
            </a:b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ylabel('x_k','FontSize',14); </a:t>
            </a:r>
            <a:br>
              <a:rPr sz="1600"/>
            </a:b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axis([k(1) k(end) -1 2]); </a:t>
            </a:r>
            <a:br>
              <a:rPr sz="1600"/>
            </a:b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ubplot(3,1,3); </a:t>
            </a:r>
            <a:br>
              <a:rPr sz="1600"/>
            </a:b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tem(k,y,'r'); </a:t>
            </a:r>
            <a:br>
              <a:rPr sz="1600"/>
            </a:b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xlabel('k','FontSize',14); </a:t>
            </a:r>
            <a:br>
              <a:rPr sz="1600"/>
            </a:b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ylabel('y_k','FontSize',14); </a:t>
            </a:r>
            <a:br>
              <a:rPr sz="1600"/>
            </a:b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axis([k(1) k(end) -1 3]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578480" y="1341360"/>
            <a:ext cx="4457520" cy="54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24000" y="191880"/>
            <a:ext cx="84960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Drawing systems in MATLAB with DrawFilt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822240" y="936720"/>
            <a:ext cx="7524720" cy="587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Further reading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828720" y="2565360"/>
            <a:ext cx="5688000" cy="26694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M. D. Lutovac, D. V. Tošić, B. L. Ev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Filter Design for Signal Processing </a:t>
            </a:r>
            <a:br>
              <a:rPr sz="2400"/>
            </a:b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Using MATLAB and Mathemat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Prentice Hall</a:t>
            </a:r>
            <a:br>
              <a:rPr sz="2400"/>
            </a:b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Upper Saddle  River, New Jersey </a:t>
            </a:r>
            <a:br>
              <a:rPr sz="2400"/>
            </a:b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ISBN 0-201-36130-2, (c) 20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6877080" y="2924280"/>
            <a:ext cx="1542960" cy="188568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1042920" y="5734080"/>
            <a:ext cx="532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http://kondor.etf.bg.ac.yu/~lutovac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What is a system?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A </a:t>
            </a:r>
            <a:r>
              <a:rPr b="1" i="1" lang="en-US" sz="3200" spc="-1" strike="noStrike">
                <a:solidFill>
                  <a:srgbClr val="800000"/>
                </a:solidFill>
                <a:latin typeface="Arial"/>
              </a:rPr>
              <a:t>signal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is a physical quantity, or quality, which conveys information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ystems take one or more signals as input, perform operations on the signals, and produce one or more signals as outpu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A </a:t>
            </a:r>
            <a:r>
              <a:rPr b="1" i="1" lang="en-US" sz="3200" spc="-1" strike="noStrike">
                <a:solidFill>
                  <a:srgbClr val="800000"/>
                </a:solidFill>
                <a:latin typeface="Arial"/>
              </a:rPr>
              <a:t>system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is a group of related parts working together, or an ordered set of ideas, methods, or ways of working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Definition of a system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Implementation point-of-view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: a </a:t>
            </a:r>
            <a:r>
              <a:rPr b="1" i="1" lang="en-US" sz="2800" spc="-1" strike="noStrike">
                <a:solidFill>
                  <a:srgbClr val="800000"/>
                </a:solidFill>
                <a:latin typeface="Arial"/>
              </a:rPr>
              <a:t>system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is an arrangement of physical components connected or related in such a manner as to form and/or act as an entire uni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ignal processing perspective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: a </a:t>
            </a:r>
            <a:r>
              <a:rPr b="1" i="1" lang="en-US" sz="2800" spc="-1" strike="noStrike">
                <a:solidFill>
                  <a:srgbClr val="800000"/>
                </a:solidFill>
                <a:latin typeface="Arial"/>
              </a:rPr>
              <a:t>system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can be viewed as any process that results in the transformation of signals, in which systems act on signals in prescribed way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Mathematical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: a </a:t>
            </a:r>
            <a:r>
              <a:rPr b="1" i="1" lang="en-US" sz="2800" spc="-1" strike="noStrike">
                <a:solidFill>
                  <a:srgbClr val="800000"/>
                </a:solidFill>
                <a:latin typeface="Arial"/>
              </a:rPr>
              <a:t>system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as a mapping of </a:t>
            </a:r>
            <a:r>
              <a:rPr b="0" i="1" lang="en-US" sz="2800" spc="-1" strike="noStrike">
                <a:solidFill>
                  <a:srgbClr val="000066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input signals onto </a:t>
            </a:r>
            <a:r>
              <a:rPr b="0" i="1" lang="en-US" sz="2800" spc="-1" strike="noStrike">
                <a:solidFill>
                  <a:srgbClr val="000066"/>
                </a:solidFill>
                <a:latin typeface="Arial"/>
              </a:rPr>
              <a:t>M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output signals; the mapping carries out a transformation on the input signals according to a set of rule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Basic definitions 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00000"/>
                </a:solidFill>
                <a:latin typeface="Arial"/>
              </a:rPr>
              <a:t>Single-variable system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(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ISO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system) has </a:t>
            </a:r>
            <a:br>
              <a:rPr sz="2800"/>
            </a:b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only one input and only one outpu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00000"/>
                </a:solidFill>
                <a:latin typeface="Arial"/>
              </a:rPr>
              <a:t>Multivariable system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(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MIMO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system) has </a:t>
            </a:r>
            <a:br>
              <a:rPr sz="2800"/>
            </a:b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more than one input or more than one outpu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00000"/>
                </a:solidFill>
                <a:latin typeface="Arial"/>
              </a:rPr>
              <a:t>Input-output relationship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(external description) is an equation that describes the relation between the input and the output of a system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00000"/>
                </a:solidFill>
                <a:latin typeface="Arial"/>
              </a:rPr>
              <a:t>Black box concept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: the knowledge of the internal structure of a system is unavailable; the only access to the system is by means of the input ports and the output port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Time response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00000"/>
                </a:solidFill>
                <a:latin typeface="Arial"/>
              </a:rPr>
              <a:t>One-dimensional system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: required for processing a signal that is a function of the single independent variable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We assume that the independent variable is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time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even in cases where the independent variable is a physical quantity other than time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00000"/>
                </a:solidFill>
                <a:latin typeface="Arial"/>
              </a:rPr>
              <a:t>Time response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is the output signal as a function of time, following the application of a set of prescribed input signals, under specified operating condition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28760" y="1685880"/>
            <a:ext cx="8286480" cy="34862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Continuous-time system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55640" y="548640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800000"/>
                </a:solidFill>
                <a:latin typeface="Arial"/>
              </a:rPr>
              <a:t>Continuous-time system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: the input and output signals are continuous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Discrete-time system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763640" y="5486400"/>
            <a:ext cx="576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800000"/>
                </a:solidFill>
                <a:latin typeface="Arial"/>
              </a:rPr>
              <a:t>Discrete-time system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has discrete-time input and output sign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38120" y="1766880"/>
            <a:ext cx="8267760" cy="33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Digital system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A discrete-time system is </a:t>
            </a:r>
            <a:r>
              <a:rPr b="1" i="1" lang="en-US" sz="2800" spc="-1" strike="noStrike">
                <a:solidFill>
                  <a:srgbClr val="800000"/>
                </a:solidFill>
                <a:latin typeface="Arial"/>
              </a:rPr>
              <a:t>digital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if it </a:t>
            </a:r>
            <a:br>
              <a:rPr sz="2800"/>
            </a:b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operates on discrete-time signals whose amplitudes are quantized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zation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maps each continuous </a:t>
            </a:r>
            <a:br>
              <a:rPr sz="2800"/>
            </a:b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amplitude level into a number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he digital system employs digital hardware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33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explicitly in the form of 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logic circuit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33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implicitly when the operations on the signals are executed by writing a 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omputer program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27T22:06:30Z</dcterms:created>
  <dc:creator>Miroslav Lutovac and Dejan Tosic</dc:creator>
  <dc:description/>
  <dc:language>en-US</dc:language>
  <cp:lastModifiedBy>nn</cp:lastModifiedBy>
  <dcterms:modified xsi:type="dcterms:W3CDTF">2005-01-16T23:56:01Z</dcterms:modified>
  <cp:revision>135</cp:revision>
  <dc:subject>Analog and Digital  Filter Design</dc:subject>
  <dc:title>Review Systems</dc:title>
</cp:coreProperties>
</file>