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CCD-CE3C-4532-A2FE-7C694EB4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419-57B5-4191-83EC-2C719FC0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0D3-2496-49B9-BE3D-3561A0C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FBE-E1AC-4ECE-AFF4-FAD3B99D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0CC-86F0-42FD-B4AF-8AEDCEF3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B81-5A6E-464F-BED5-AD6B2CE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2A85-3AC8-4B46-BB4C-4F8EA7C1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C79-DFA3-47E4-B9AC-00EF9BC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4FC-AAE8-42AB-92F0-93B76872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584-4176-4B21-AED2-6523BE1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DAE-41EA-456C-B198-4939126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2DB-0EA3-47A0-B27F-449C37E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1CB8-71DC-4B9E-B50C-12C9D62C1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ier series, transform, and FF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 sudden change of amplitude occurs in a signal and the attempt is made to represent it by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umber of terms in a Fourier series, the overshoot at the corners (at the points of abrupt change) is always found. As the number of terms is increased, the overshoot is still found; this is called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3573360"/>
          <a:ext cx="28958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28958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552840"/>
          <a:ext cx="2867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552840"/>
                    <a:ext cx="2867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51280" y="4437000"/>
            <a:ext cx="1368360" cy="503280"/>
          </a:xfrm>
          <a:prstGeom prst="right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157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5157720"/>
            <a:ext cx="28872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7856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492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mplitude, phase, power spectru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graphical representation of a periodic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duced by drawing a series of vertical lines at intervals on a horizontal axis, where the intervals represent an increase of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13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3040200"/>
          <a:ext cx="4124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40200"/>
                    <a:ext cx="412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4181400"/>
          <a:ext cx="3828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181400"/>
                    <a:ext cx="38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3120" y="5111640"/>
          <a:ext cx="6446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5111640"/>
                    <a:ext cx="6446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162920" y="54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wer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spectr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8200" y="1841400"/>
          <a:ext cx="39434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841400"/>
                    <a:ext cx="3943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22600" y="1393920"/>
          <a:ext cx="4686480" cy="54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2600" y="1393920"/>
                    <a:ext cx="46864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844640"/>
          <a:ext cx="51624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162400" cy="9525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6560" y="3341520"/>
          <a:ext cx="62503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341520"/>
                    <a:ext cx="6250320" cy="1095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44720" y="5734080"/>
          <a:ext cx="33051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5734080"/>
                    <a:ext cx="33051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56360" y="198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0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ers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605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existenc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9338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ariabl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called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inuous frequenc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of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134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ots of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|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g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mplitud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has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5720" y="2276640"/>
          <a:ext cx="79740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276640"/>
                    <a:ext cx="797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pert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7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948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3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8480" y="6064200"/>
                <a:ext cx="10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843280" y="1650960"/>
          <a:ext cx="47340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50960"/>
                    <a:ext cx="4734000" cy="514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59280" y="2587680"/>
          <a:ext cx="43336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87680"/>
                    <a:ext cx="4333680" cy="1057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47640" y="4017960"/>
          <a:ext cx="7418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017960"/>
                    <a:ext cx="74185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408400" y="5386320"/>
          <a:ext cx="56196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8400" y="5386320"/>
                    <a:ext cx="5619600" cy="1067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arseval's theorem and energy spectral densit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365720"/>
          <a:ext cx="24195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419560" cy="561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2506680"/>
          <a:ext cx="54673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506680"/>
                    <a:ext cx="54673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5589720"/>
            <a:ext cx="2016360" cy="503280"/>
          </a:xfrm>
          <a:prstGeom prst="wedgeRoundRectCallout">
            <a:avLst>
              <a:gd name="adj1" fmla="val 43305"/>
              <a:gd name="adj2" fmla="val -5153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6094440"/>
            <a:ext cx="3311280" cy="503280"/>
          </a:xfrm>
          <a:prstGeom prst="wedgeRoundRectCallout">
            <a:avLst>
              <a:gd name="adj1" fmla="val -106041"/>
              <a:gd name="adj2" fmla="val -296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ergy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47920" y="4581360"/>
                <a:ext cx="2619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ontinuous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479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03640" y="220500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616428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616428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520" y="5948280"/>
                <a:ext cx="78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03560" y="5948280"/>
                <a:ext cx="706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5805360"/>
            <a:ext cx="1008360" cy="64800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j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6093000"/>
            <a:ext cx="3780000" cy="574560"/>
          </a:xfrm>
          <a:prstGeom prst="wedgeRoundRectCallout">
            <a:avLst>
              <a:gd name="adj1" fmla="val -91453"/>
              <a:gd name="adj2" fmla="val -15082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890960" y="1773360"/>
          <a:ext cx="32101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1773360"/>
                    <a:ext cx="3210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55920" y="3357720"/>
          <a:ext cx="6040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3357720"/>
                    <a:ext cx="6040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 Fourier transform (DFT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16360" y="1700280"/>
          <a:ext cx="58672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00280"/>
                    <a:ext cx="5867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3280" y="5589720"/>
          <a:ext cx="633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633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32000" y="3284640"/>
          <a:ext cx="28195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84640"/>
                    <a:ext cx="281952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649600"/>
          <a:ext cx="148572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649600"/>
                    <a:ext cx="14857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2565360"/>
            <a:ext cx="1944720" cy="720720"/>
          </a:xfrm>
          <a:prstGeom prst="wedgeRoundRectCallout">
            <a:avLst>
              <a:gd name="adj1" fmla="val 104449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7440" y="4581360"/>
            <a:ext cx="1079640" cy="576360"/>
          </a:xfrm>
          <a:prstGeom prst="wedgeRoundRectCallout">
            <a:avLst>
              <a:gd name="adj1" fmla="val -243824"/>
              <a:gd name="adj2" fmla="val 12493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2160720" cy="431640"/>
          </a:xfrm>
          <a:prstGeom prst="wedgeRoundRectCallout">
            <a:avLst>
              <a:gd name="adj1" fmla="val 81152"/>
              <a:gd name="adj2" fmla="val -2000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971800" y="4289400"/>
          <a:ext cx="32004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289400"/>
                    <a:ext cx="32004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verse discrete Fourier transform (IDFT)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05280" y="2324160"/>
          <a:ext cx="31334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2324160"/>
                    <a:ext cx="313344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9280" y="5084640"/>
            <a:ext cx="2089080" cy="720720"/>
          </a:xfrm>
          <a:prstGeom prst="wedgeRoundRectCallout">
            <a:avLst>
              <a:gd name="adj1" fmla="val 93768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crete Fourier transform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F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9080" y="1463760"/>
          <a:ext cx="730728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463760"/>
                    <a:ext cx="7307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14760" y="3184560"/>
          <a:ext cx="3714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184560"/>
                    <a:ext cx="3714480" cy="1209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8280" y="2179800"/>
                <a:ext cx="681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103560" y="2179800"/>
                <a:ext cx="70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c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5445000"/>
            <a:ext cx="4859280" cy="1008360"/>
          </a:xfrm>
          <a:prstGeom prst="wedgeRoundRectCallout">
            <a:avLst>
              <a:gd name="adj1" fmla="val -65287"/>
              <a:gd name="adj2" fmla="val -5251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ystem transforms the inpu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multiplying each member of the input DFT with the factor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99160" y="1662120"/>
          <a:ext cx="3733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662120"/>
                    <a:ext cx="3733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792600" y="3429000"/>
          <a:ext cx="51721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2600" y="3429000"/>
                    <a:ext cx="5172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39640" y="3749760"/>
          <a:ext cx="2762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749760"/>
                    <a:ext cx="2762280" cy="2200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64000" y="4881600"/>
          <a:ext cx="22384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4881600"/>
                    <a:ext cx="2238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frequenc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628640"/>
                <a:ext cx="161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49320" y="2924280"/>
                <a:ext cx="14274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8280" y="5908680"/>
                <a:ext cx="3303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628640"/>
            <a:ext cx="3240360" cy="432000"/>
          </a:xfrm>
          <a:prstGeom prst="wedgeRoundRectCallout">
            <a:avLst>
              <a:gd name="adj1" fmla="val -91254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2852640"/>
            <a:ext cx="2233800" cy="432000"/>
          </a:xfrm>
          <a:prstGeom prst="wedgeRoundRectCallout">
            <a:avLst>
              <a:gd name="adj1" fmla="val -109842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668920"/>
            <a:ext cx="2664000" cy="432000"/>
          </a:xfrm>
          <a:prstGeom prst="wedgeRoundRectCallout">
            <a:avLst>
              <a:gd name="adj1" fmla="val -100180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90720" y="4308480"/>
                <a:ext cx="1463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932360" y="4221000"/>
            <a:ext cx="2894040" cy="720720"/>
          </a:xfrm>
          <a:prstGeom prst="wedgeRoundRectCallout">
            <a:avLst>
              <a:gd name="adj1" fmla="val -96680"/>
              <a:gd name="adj2" fmla="val 3237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  frequency (MAT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20680" y="1488960"/>
          <a:ext cx="69040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488960"/>
                    <a:ext cx="6904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sinusoidal 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ignals play an important part in signal process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ory of nonsinusoidal periodic signals is based up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olv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m in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usoidal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the principle of superposition, we can find the steady-state response of an LTI system to an arbitrary periodic input by applying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as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thod to harmonic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ectionally continuous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al signa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 satisfies the following conditio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; that is, the signal is periodic having a perio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defined in the interval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/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sectionally continuous in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40360" y="2792520"/>
          <a:ext cx="14860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92520"/>
                    <a:ext cx="14860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13372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148280"/>
            <a:ext cx="2016000" cy="718920"/>
          </a:xfrm>
          <a:prstGeom prst="wedgeRoundRectCallout">
            <a:avLst>
              <a:gd name="adj1" fmla="val -60078"/>
              <a:gd name="adj2" fmla="val -133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ndamen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14520" y="1557360"/>
          <a:ext cx="6153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1557360"/>
                    <a:ext cx="615312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120" y="3073320"/>
          <a:ext cx="4305240" cy="301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073320"/>
                    <a:ext cx="430524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4920" y="609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rocess of resolving a signal into its Fourier series is call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pectral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harmon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229360"/>
            <a:ext cx="2016000" cy="718920"/>
          </a:xfrm>
          <a:prstGeom prst="wedgeRoundRectCallout">
            <a:avLst>
              <a:gd name="adj1" fmla="val -60865"/>
              <a:gd name="adj2" fmla="val -16390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ouri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99736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Form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62160" y="1876320"/>
          <a:ext cx="30196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2160" y="1876320"/>
                    <a:ext cx="3019680" cy="1047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90920" y="3346560"/>
          <a:ext cx="396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46560"/>
                    <a:ext cx="396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95520" y="4724280"/>
          <a:ext cx="2352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4724280"/>
                    <a:ext cx="2352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8240" y="2271600"/>
          <a:ext cx="7608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271600"/>
                    <a:ext cx="7608960" cy="1228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500280" y="4149720"/>
          <a:ext cx="21434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149720"/>
                    <a:ext cx="21434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4200" y="59500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presents an electric current or voltage across a resistor, the expression is proportional to the resistor average power over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armonics of 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9400" y="1628640"/>
          <a:ext cx="7047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628640"/>
                    <a:ext cx="7047000" cy="1143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920" y="3357720"/>
          <a:ext cx="4124160" cy="24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3357720"/>
                    <a:ext cx="41241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04000" y="3141720"/>
            <a:ext cx="2016000" cy="503280"/>
          </a:xfrm>
          <a:prstGeom prst="wedgeRoundRectCallout">
            <a:avLst>
              <a:gd name="adj1" fmla="val -122361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5445000"/>
            <a:ext cx="2016360" cy="503280"/>
          </a:xfrm>
          <a:prstGeom prst="wedgeRoundRectCallout">
            <a:avLst>
              <a:gd name="adj1" fmla="val -66694"/>
              <a:gd name="adj2" fmla="val -249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950080"/>
            <a:ext cx="2016360" cy="503280"/>
          </a:xfrm>
          <a:prstGeom prst="wedgeRoundRectCallout">
            <a:avLst>
              <a:gd name="adj1" fmla="val 79527"/>
              <a:gd name="adj2" fmla="val -36262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3T04:09:31Z</dcterms:modified>
  <cp:revision>261</cp:revision>
  <dc:subject>Analog and Digital  Filter Design</dc:subject>
  <dc:title>Fourier series, transform, and FFT</dc:title>
</cp:coreProperties>
</file>