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5ECC-8DE6-46D7-AACF-D77D108A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B461-3822-406C-9267-273C83FF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AE07-F2FC-4FF9-863D-0B75EBB3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BA2F-D479-49E5-9AC1-15C69CB1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9B87-869D-4287-B66B-D8D88997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9514-F833-4547-8A97-2401BF0D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034D-D6E3-46C0-BD62-4BE47286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6400-9823-484E-A91F-B19C1845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D957-8288-4E0D-AAFD-5ED93C46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4558-CE47-4E92-8EA7-D4F4C9F9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3955-675D-4122-AE09-D7B778D5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060B-1C11-4B42-B6FE-7EFC36C2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45DD-D1D7-478E-B721-7BC0838F4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lassical digital filter desig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Redo step 3: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udy of imperfection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0" r="0" b="16190"/>
          <a:stretch/>
        </p:blipFill>
        <p:spPr>
          <a:xfrm>
            <a:off x="866880" y="1628640"/>
            <a:ext cx="7410240" cy="4997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55640" y="5877000"/>
            <a:ext cx="647640" cy="288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4941720"/>
            <a:ext cx="180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87640" y="5372280"/>
            <a:ext cx="504720" cy="288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0000" y="1413000"/>
            <a:ext cx="1655640" cy="718920"/>
          </a:xfrm>
          <a:prstGeom prst="wedgeRoundRectCallout">
            <a:avLst>
              <a:gd name="adj1" fmla="val -89884"/>
              <a:gd name="adj2" fmla="val 207837"/>
              <a:gd name="adj3" fmla="val 16667"/>
            </a:avLst>
          </a:prstGeom>
          <a:solidFill>
            <a:srgbClr val="3399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spec i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tep 4: Implement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968720" cy="1576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564000" y="2790720"/>
            <a:ext cx="4610160" cy="3733920"/>
          </a:xfrm>
          <a:prstGeom prst="rect">
            <a:avLst/>
          </a:prstGeom>
          <a:ln w="381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pecific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ep 1: Approximation - Select Chebyshev Type I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ep 2: Realization - Cascade of biqua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ep 3: Study of imperfections - Quantiz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do design step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tep 1: Approxim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tep 2: Realiz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tep 3: Study of imperfection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ep 4: Implement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TLAB FDAtool docum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363080" cy="5419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tart with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60360" y="4653000"/>
            <a:ext cx="165600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4292640"/>
            <a:ext cx="3743280" cy="1873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1848"/>
          <a:stretch/>
        </p:blipFill>
        <p:spPr>
          <a:xfrm>
            <a:off x="866880" y="1413000"/>
            <a:ext cx="7410240" cy="5256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ep 1: Approximation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elect Chebyshev Type I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60360" y="6164280"/>
            <a:ext cx="165600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port coefficients: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File, Expor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0" b="19330"/>
          <a:stretch/>
        </p:blipFill>
        <p:spPr>
          <a:xfrm>
            <a:off x="900000" y="1714680"/>
            <a:ext cx="7410600" cy="480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659640" y="3429000"/>
            <a:ext cx="2009520" cy="2638440"/>
          </a:xfrm>
          <a:prstGeom prst="rect">
            <a:avLst/>
          </a:prstGeom>
          <a:ln w="7632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ep 2: Realization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Direct-form II biquad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0" b="48872"/>
          <a:stretch/>
        </p:blipFill>
        <p:spPr>
          <a:xfrm>
            <a:off x="1042920" y="2421000"/>
            <a:ext cx="72295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6190"/>
          <a:stretch/>
        </p:blipFill>
        <p:spPr>
          <a:xfrm>
            <a:off x="866880" y="1628640"/>
            <a:ext cx="7410240" cy="49975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ep 3: Study of imperfections: Quantizatio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5877000"/>
            <a:ext cx="647640" cy="288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4941720"/>
            <a:ext cx="180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87640" y="5372280"/>
            <a:ext cx="504720" cy="288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77080" y="1341360"/>
            <a:ext cx="2087640" cy="719280"/>
          </a:xfrm>
          <a:prstGeom prst="wedgeRoundRectCallout">
            <a:avLst>
              <a:gd name="adj1" fmla="val -167564"/>
              <a:gd name="adj2" fmla="val 222847"/>
              <a:gd name="adj3" fmla="val 16667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spec is viola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Redo step 1: Approximation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Increase order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66880" y="1600200"/>
            <a:ext cx="7410240" cy="5068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300720" y="5445000"/>
            <a:ext cx="180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3355920"/>
            <a:ext cx="180036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do step 2: Real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0" b="53431"/>
          <a:stretch/>
        </p:blipFill>
        <p:spPr>
          <a:xfrm>
            <a:off x="471600" y="2492280"/>
            <a:ext cx="82008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MIROSLAV</cp:lastModifiedBy>
  <dcterms:modified xsi:type="dcterms:W3CDTF">2005-03-21T02:00:47Z</dcterms:modified>
  <cp:revision>407</cp:revision>
  <dc:subject>Analog and Digital  Filter Design</dc:subject>
  <dc:title>Classical digital filter design</dc:title>
</cp:coreProperties>
</file>