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574E-A186-4C4A-8775-192C1904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79F1-39CD-464D-99CA-F6500CAD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18B6-3E33-4E04-9916-905A37E30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7CC7-6034-4212-93F2-EB972DAE4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C7BB-0BFC-431F-901C-C458AA18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CED0-B074-42A6-82E1-12E2ECE3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0DFE-B694-4D16-BDB0-4F279678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6F53-1835-4C0E-B372-7B7E2636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77A5-AA1D-42CB-AEED-2C994152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0D0A-7640-4161-809C-5EBA3FD5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7420-0C9B-4320-8AF7-59F86F3D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8594-2F24-41F4-82AC-264B35D0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7099-D5BF-4AE4-99EB-600256CA9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Digital filters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FIR filter design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15940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Hann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92360" y="414360"/>
            <a:ext cx="7410240" cy="6039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498920" y="4941720"/>
            <a:ext cx="108108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50920" y="5445000"/>
            <a:ext cx="165600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15940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Hamming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92360" y="414360"/>
            <a:ext cx="7410240" cy="6039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498920" y="4941720"/>
            <a:ext cx="108108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50920" y="5445000"/>
            <a:ext cx="165600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15940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Blackman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92360" y="414360"/>
            <a:ext cx="7410240" cy="6039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498920" y="4941720"/>
            <a:ext cx="108108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0920" y="5445000"/>
            <a:ext cx="165600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quiripple FIR filter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ign of FIR filters can be accomplished through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erativ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etho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 iterative method is known as the weighted-Chebyshev method; an error function is formulated in terms of linear combination of cosine functions and is then minimized by using a very efficient multivariable optimization algorithm known as the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Remez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exchange algorith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n convergence is achieved, the error function becomes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quiripp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mplitude of the error in different frequency bands is controlled by applying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ighting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the error fun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80000" y="0"/>
            <a:ext cx="15937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Equiripple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1400" y="54000"/>
            <a:ext cx="7410240" cy="603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4565520" y="4413240"/>
          <a:ext cx="4543560" cy="240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65520" y="4413240"/>
                    <a:ext cx="4543560" cy="24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16000" y="6132600"/>
            <a:ext cx="43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mez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designs a linear-phase FIR filter using the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Parks-McClella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lgorith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5084640"/>
            <a:ext cx="165564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24360" y="404280"/>
            <a:ext cx="159372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onstrained Equiripple</a:t>
            </a:r>
            <a:br>
              <a:rPr sz="2000"/>
            </a:b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firceqrip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1400" y="54000"/>
            <a:ext cx="7410240" cy="603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4552920" y="4467240"/>
          <a:ext cx="4591080" cy="239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52920" y="4467240"/>
                    <a:ext cx="459108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395280" y="5084640"/>
            <a:ext cx="165564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Least squares and related technique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ased on approach of minimizing, in some specified manner, the mean squared error between the transfer function of the filter and the frequency characteristics of a desired filter respon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 approaches exist: unweighted list squares, frequency sampling, weighted list squares, and eigen filter method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80360" y="-360"/>
            <a:ext cx="151272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Least square linear-phase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1400" y="54000"/>
            <a:ext cx="7410240" cy="603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4562640" y="4457880"/>
          <a:ext cx="4581360" cy="240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62640" y="4457880"/>
                    <a:ext cx="4581360" cy="24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0" y="6132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st square linear-phase FIR filter design (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fir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5084640"/>
            <a:ext cx="165564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41920" y="131760"/>
            <a:ext cx="15937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Least </a:t>
            </a:r>
            <a:br>
              <a:rPr sz="2400"/>
            </a:b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Pth-norm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1400" y="54000"/>
            <a:ext cx="7410240" cy="603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4495680" y="4476600"/>
          <a:ext cx="464832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4476600"/>
                    <a:ext cx="464832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395280" y="5084640"/>
            <a:ext cx="165564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33920" y="5876640"/>
            <a:ext cx="2601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Maximally flat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4920" y="54000"/>
            <a:ext cx="7410600" cy="6039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95280" y="5084640"/>
            <a:ext cx="165564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360" y="6302520"/>
            <a:ext cx="47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ic FIR Butterworth filter (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maxfl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R filt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sign techniqu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R filter design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using Filter Design Toolbox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IR filte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R filter is characterized by a unit sample response that has a finite dur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n advantage of FIR filters compared to IIR counterparts is that FIR filters can be designed with exactly linear pha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Linear phase is important for applications where phase distortion due to nonlinear phase can degrade performance (e.g., data transmission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sign of FIR filter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indowing techniqu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quiripple FIR filt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Least squares and related techniqu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Linear programming (LP) and mixed integer linear programming (MILP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mputationally efficient FIR filters using periodic subfilters as building block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indowing techniqu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ne of the earliest design techniqu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efficients can be obtained in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osed for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re is no need for solving complex optimization problem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ost frequently used window functions are Bartlett, Hann, Hamming, Blackman, and Kaise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17269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050920" y="0"/>
          <a:ext cx="7093080" cy="677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0"/>
                    <a:ext cx="7093080" cy="677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4572000" y="4365720"/>
            <a:ext cx="1368360" cy="2421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4869000"/>
            <a:ext cx="16560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Filter Design Toolbox window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889520" y="1052640"/>
          <a:ext cx="4219560" cy="57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9520" y="1052640"/>
                    <a:ext cx="421956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79280" y="1773360"/>
            <a:ext cx="439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ain role of the window is to damp out the effects of the Gibbs phenomenon that results from truncation of an infinite se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15940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Kaiser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92360" y="414360"/>
            <a:ext cx="7410240" cy="6039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498920" y="4941720"/>
            <a:ext cx="108108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0920" y="5445000"/>
            <a:ext cx="165600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15940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Bartlett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92360" y="414360"/>
            <a:ext cx="7410240" cy="6039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498920" y="4941720"/>
            <a:ext cx="108108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50920" y="5445000"/>
            <a:ext cx="165600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MIROSLAV</cp:lastModifiedBy>
  <dcterms:modified xsi:type="dcterms:W3CDTF">2005-04-29T01:15:25Z</dcterms:modified>
  <cp:revision>217</cp:revision>
  <dc:subject>Analog and Digital  Filter Design</dc:subject>
  <dc:title>Digital filters, FIR filter design</dc:title>
</cp:coreProperties>
</file>